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CE2F-EDBA-4503-B7CE-465668CA2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68421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050920" y="3425400"/>
            <a:ext cx="68421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59D3-ED5A-427A-A7D6-8C5F6E81C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3338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556960" y="981000"/>
            <a:ext cx="3338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B74172-1737-4B2A-96FE-BFC60B268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5A9F66-89B5-4EB9-9BFF-42ACD1B30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2050920" y="333000"/>
            <a:ext cx="504216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D46E8A-4B18-431F-A408-B1B5C0FBE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556960" y="981000"/>
            <a:ext cx="3338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2050920" y="34254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CE6C0A-DDA6-43F8-B71B-8F07EC44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3338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55696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556960" y="34254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714572-E6DF-4196-BE7D-F2D9C41C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55696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2050920" y="3425400"/>
            <a:ext cx="68421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30CB7F-2D21-4968-BE28-4ABBC75A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68421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2050920" y="3425400"/>
            <a:ext cx="68421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9F11DD-E569-4207-9061-9E7DDD007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55696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2050920" y="34254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556960" y="34254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7B7648-F111-4A4A-82F5-F72176D9F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364280" y="9810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677640" y="9810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2050920" y="34254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4364280" y="34254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677640" y="34254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51C67A-0484-48BE-94C0-8EA82C883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B8FE2F-41FF-43CA-BFED-F097A34A1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5696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050920" y="34254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56960" y="34254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9A4C-007B-4471-A53D-2CF5D1A48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2050920" y="981000"/>
            <a:ext cx="68421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208ED2-7F88-42E1-B7FB-019D0822B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68421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188C06-1F65-4629-A75E-4E7F22F17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3338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556960" y="981000"/>
            <a:ext cx="3338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C497E9-AD41-45C3-BED1-06A9FA742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E6671B-F50B-4151-A70A-010251060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2050920" y="333000"/>
            <a:ext cx="504216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1377D6-8AE7-4FF6-AC57-21A798B2C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556960" y="981000"/>
            <a:ext cx="3338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2050920" y="34254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6CE771-461D-470C-AC5A-7454F29C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3338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55696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556960" y="34254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C78C43-691D-4025-A40B-79F2B4B5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55696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2050920" y="3425400"/>
            <a:ext cx="68421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DF2583-2356-466C-9BEE-D8F912B7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68421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2050920" y="3425400"/>
            <a:ext cx="68421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1659A8-F530-4040-83D2-EECA42A29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55696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2050920" y="34254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556960" y="34254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CAB15F-7E85-4FE5-8E48-0EC344F86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64280" y="9810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77640" y="9810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050920" y="34254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64280" y="34254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77640" y="34254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9320-097B-4850-AFA8-A290F4BA3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364280" y="9810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677640" y="9810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2050920" y="34254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364280" y="34254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677640" y="34254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5B670E-C998-4728-A8F5-D12498651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C6CDEF-D5B0-40F7-8E1A-1BF2DAF56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2050920" y="981000"/>
            <a:ext cx="68421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ECFD0C-D444-4B8B-A693-B414D03F2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68421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600222-7B11-474E-9EC8-7EBC48AD7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3338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556960" y="981000"/>
            <a:ext cx="3338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20D76F-8E4C-4414-B590-A70C68068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04877F-E5BE-48A2-83FA-8059081FC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2050920" y="333000"/>
            <a:ext cx="504216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13F10E-8AA1-4DF1-8C2A-702C2B461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556960" y="981000"/>
            <a:ext cx="3338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2050920" y="34254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465E16-9DAD-40B7-B8BC-68E4ED5C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3338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55696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5556960" y="34254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0E63BA-B940-4A07-B622-F8FC9F19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55696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2050920" y="3425400"/>
            <a:ext cx="68421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07B361-623E-4488-A8B5-9B0EEC65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8B1C4-5F16-4732-9F5A-4649717FE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68421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2050920" y="3425400"/>
            <a:ext cx="68421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B8DE65-175E-4D19-91CE-CB1A20A1A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55696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2050920" y="34254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5556960" y="34254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8DD9CB-E244-47C2-BC2A-98FC63C98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364280" y="9810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677640" y="9810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2050920" y="34254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4364280" y="34254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677640" y="34254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BFFE47-685B-4841-B9B3-AA8C658EB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CC3A28-C529-4517-AC24-1B9B5E1FA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2050920" y="981000"/>
            <a:ext cx="68421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FBB671-392E-41BE-BD85-850AD2209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68421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4474EF-684A-4851-807A-EED07BA0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3338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556960" y="981000"/>
            <a:ext cx="3338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076422-2AF4-4140-AB2F-96BFD625B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344E33-D6B7-4A39-9102-7C8E5191B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2050920" y="333000"/>
            <a:ext cx="504216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9B2DC9-1F2F-486E-8384-09F417002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556960" y="981000"/>
            <a:ext cx="3338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2050920" y="34254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565A6E-9F60-46F2-B12B-804B1FB7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050920" y="981000"/>
            <a:ext cx="68421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2A061-885B-4977-B0E7-2B10A451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3338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55696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5556960" y="34254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C8B2EB-B209-44D3-9D0E-B4A9379A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55696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2050920" y="3425400"/>
            <a:ext cx="68421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F6B5F8-83D3-4E08-8A05-4C510952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68421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2050920" y="3425400"/>
            <a:ext cx="68421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04AE26-7D26-4944-8CBD-27984E2CF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55696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2050920" y="34254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5556960" y="34254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B872A8-F09C-4834-9A9B-7D4E562EA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364280" y="9810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677640" y="9810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2050920" y="34254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4364280" y="34254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677640" y="34254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190C76-E7BB-4403-ACDE-3F1E4B833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68421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AD760-F766-4DE2-93BF-864532315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3338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556960" y="981000"/>
            <a:ext cx="3338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6ADAA-33E9-4D9B-A455-A20342FA9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EA56B-56C9-4448-873C-8C8FEDDDE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050920" y="333000"/>
            <a:ext cx="504216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61CCE-1F20-4D40-9855-7EC1BC004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556960" y="981000"/>
            <a:ext cx="3338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050920" y="34254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7E3A0-BF66-4B5A-B3D1-4B5DA3D7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050920" y="981000"/>
            <a:ext cx="68421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DEE0-A703-4968-A6A8-93F0D8C73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3338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55696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556960" y="34254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8768F-2078-4C0B-B742-6A9B17E4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55696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050920" y="3425400"/>
            <a:ext cx="68421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2ECE2-8D6C-40D0-8493-708E8124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68421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050920" y="3425400"/>
            <a:ext cx="68421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01C68-9E4D-4CBF-A5A7-49F61A48E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55696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050920" y="34254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556960" y="34254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64457-23E1-4079-B56C-9DAA910EE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64280" y="9810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77640" y="9810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050920" y="34254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64280" y="34254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77640" y="34254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F1AD3-4206-48B0-B6E1-1B706F670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D56A7-DE86-462E-890A-96F1EFBE2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050920" y="981000"/>
            <a:ext cx="68421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1E848-D8A8-4DC0-B96D-E9F39F4FF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68421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C8823-CBDC-403C-B83E-696A16835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3338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556960" y="981000"/>
            <a:ext cx="3338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C5382-6FCB-417F-91C8-33985748B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03F1A-FCD3-4D68-882E-4C6CB60DB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68421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97CB-8A56-4ED6-B030-8B2A49A12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050920" y="333000"/>
            <a:ext cx="504216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E74D7-90A0-45E7-8605-CBE65EDE9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556960" y="981000"/>
            <a:ext cx="3338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050920" y="34254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E288E-75DD-4887-B36F-F52DD759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3338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55696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556960" y="34254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A3BE7-29B4-4A94-B0D8-9641C124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55696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050920" y="3425400"/>
            <a:ext cx="68421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4D50E-B5DF-40AF-8172-C01B6A5A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68421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050920" y="3425400"/>
            <a:ext cx="68421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DA05E-C513-4E40-8F46-C82B0A76E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55696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050920" y="34254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556960" y="34254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7031B-C649-48B8-AF69-5651B617F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4280" y="9810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677640" y="9810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050920" y="34254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364280" y="34254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677640" y="34254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F6076-02AC-42C1-909D-7D0F08A4D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1672F-1CEC-4637-A8BB-84DE179CB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050920" y="981000"/>
            <a:ext cx="68421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95671-C5D0-44EE-8D1A-8A6996C67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68421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25860-64E1-4151-ACC5-D84D39B2F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3338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56960" y="981000"/>
            <a:ext cx="3338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8F71-5F75-488E-AE0F-00A06D98F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3338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556960" y="981000"/>
            <a:ext cx="3338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87F38-37FF-43DA-9CAB-7541EECF6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E0103-B195-4492-ABB9-6DC8CF82F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050920" y="333000"/>
            <a:ext cx="504216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14772-9613-47E6-9B98-96D6E1BF0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556960" y="981000"/>
            <a:ext cx="3338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050920" y="34254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AC8AB-382B-4DEF-9A0A-84D5BEA0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3338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55696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556960" y="34254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74F6F-77C7-45BA-A55B-713C5919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55696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050920" y="3425400"/>
            <a:ext cx="68421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1EAD4-185A-433C-9415-DF15B50F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68421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050920" y="3425400"/>
            <a:ext cx="68421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81B4D-69BF-40C5-8472-048BC56F9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55696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050920" y="34254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556960" y="34254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001E0-9C30-48E8-8776-D68EB3B79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364280" y="9810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677640" y="9810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2050920" y="34254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364280" y="34254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677640" y="34254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A294E-E34A-457F-9941-5C4C79A1B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D9756-466C-4B02-8C97-4CB365A22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630B-145D-414A-9161-AC53FCBD5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2050920" y="981000"/>
            <a:ext cx="68421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D1214-1705-4449-BB0F-22E98A642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68421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66517-A9A3-498A-9F21-73FA43DA4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3338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556960" y="981000"/>
            <a:ext cx="3338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14A72-F749-490D-BBE2-4C5726C2F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49E92-F76F-46EE-851F-3EC93092E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2050920" y="333000"/>
            <a:ext cx="504216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BD328-DE9C-4024-B0B5-7E9DB3CAB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556960" y="981000"/>
            <a:ext cx="3338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050920" y="34254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83324-A1EF-455E-8416-855B7123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3338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55696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556960" y="34254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1B564-A75D-47CF-A281-E0684486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55696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2050920" y="3425400"/>
            <a:ext cx="68421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38A42-5EF2-4C59-ABAC-827E9087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68421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2050920" y="3425400"/>
            <a:ext cx="68421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74A1B-67FA-4DFB-920A-8DA79DDCA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55696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2050920" y="34254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556960" y="34254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04E95-F943-4623-88C9-AD83F134B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50920" y="333000"/>
            <a:ext cx="504216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D701-071A-4993-AF9A-CAE38A6AF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364280" y="9810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677640" y="9810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2050920" y="34254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364280" y="34254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677640" y="34254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D74B1-744A-4A0A-B52E-FE0A3514E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945D3A-BF7C-41A3-A50A-F8EBC8A63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2050920" y="981000"/>
            <a:ext cx="68421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E2FD3-C893-4105-A3CE-AC9FBF9CB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68421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77415-D5B1-45ED-B80E-916F1B4B1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3338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556960" y="981000"/>
            <a:ext cx="3338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4FFBA-1DEF-45D9-9D2C-599BFEA59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0D7F2-96EE-4837-8F13-CA0CB3B1C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2050920" y="333000"/>
            <a:ext cx="504216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C7028-2CA5-4D84-88B4-C2356CC40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556960" y="981000"/>
            <a:ext cx="3338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2050920" y="34254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6E0A8C-F315-4610-AB95-7457A7B2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3338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55696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556960" y="34254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61BA7-C1E9-459D-A26B-73F4CCCB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55696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2050920" y="3425400"/>
            <a:ext cx="68421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5DC56-F861-4C4B-B3EA-DA1A648A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56960" y="981000"/>
            <a:ext cx="3338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050920" y="34254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E3F0-D195-46B4-893F-593A6DC5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68421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2050920" y="3425400"/>
            <a:ext cx="68421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DF8C8-1667-4E61-A74B-12558EB8F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55696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2050920" y="34254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5556960" y="34254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83F80-7362-4F2A-9DE1-7113C169F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364280" y="9810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677640" y="9810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2050920" y="34254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4364280" y="34254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677640" y="34254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5108A-8504-42F1-BD68-4ECBB6C0F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413A75-9637-4C29-8865-C04AA07AB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2050920" y="981000"/>
            <a:ext cx="68421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79262-89B9-4FFA-8D9B-08E6E4B91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68421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84057-D4CB-4457-B242-2DAD42F99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3338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556960" y="981000"/>
            <a:ext cx="3338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722F9-0CE9-46D3-9B5C-DE4A080AD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2EB76-F509-4417-A849-CBE33D334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2050920" y="333000"/>
            <a:ext cx="504216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35D681-3260-49E5-8718-2017FD03D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556960" y="981000"/>
            <a:ext cx="3338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2050920" y="34254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6A693-218B-4E36-861D-35B65A2E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3338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5696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56960" y="34254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8ACC-69FE-4D41-9CD7-2B5558B6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3338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55696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556960" y="34254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CE729-B409-45DD-9C2C-F71976B7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55696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2050920" y="3425400"/>
            <a:ext cx="68421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A6C3B9-F52B-45FD-A839-9520EAEF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68421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2050920" y="3425400"/>
            <a:ext cx="68421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02A8E-5723-4B98-8E4F-063FA093F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55696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2050920" y="34254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5556960" y="34254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0D80A-CB54-46ED-82DA-75B655BB3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364280" y="9810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677640" y="9810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2050920" y="34254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4364280" y="34254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677640" y="34254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61AD08-0ED3-4F1B-B2CA-5EFC766DE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916AC7-986D-4CED-8CF0-215D65AAE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2050920" y="981000"/>
            <a:ext cx="68421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BE8961-51C3-4B6F-A39C-2CDAF0858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68421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2CC241-1B3B-48A2-9B92-6D5598729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3338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556960" y="981000"/>
            <a:ext cx="3338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8AB462-8126-4C90-B9C7-20BE7B7BD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08935F-B127-44F8-B87B-740C43CB6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5696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50920" y="3425400"/>
            <a:ext cx="68421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190F-2D1F-4E5C-BE94-B87F3AB2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2050920" y="333000"/>
            <a:ext cx="504216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A93FCC-7890-48AC-997D-20C82F74B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556960" y="981000"/>
            <a:ext cx="3338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2050920" y="34254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39BF48-157E-4C2C-82A5-BB209193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3338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55696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556960" y="34254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2082F-9B43-4905-9DF9-986F71E5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55696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2050920" y="3425400"/>
            <a:ext cx="68421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3AD937-C98C-40A7-8756-24040EF5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68421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050920" y="3425400"/>
            <a:ext cx="68421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78BFD9-04B6-46AA-AFC7-294306C04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55696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050920" y="34254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5556960" y="34254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96AF23-E0AD-4F35-8DC0-83E69492B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364280" y="9810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677640" y="9810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2050920" y="34254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4364280" y="34254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677640" y="34254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80AC8C-5951-45C5-8276-2AF648971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E8ECA8-1649-4B52-AF47-BB06F3FB4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2050920" y="981000"/>
            <a:ext cx="68421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B2C7EC-FC11-4EFE-93B9-B028058E3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68421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9E8D33-6A84-4558-B853-83593FE03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050920" y="981000"/>
            <a:ext cx="68421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050920" y="5877000"/>
            <a:ext cx="22320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27640" y="5876640"/>
            <a:ext cx="4465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5640" y="333000"/>
            <a:ext cx="1657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8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0557D-C109-4423-9B22-54B2AE5C60D5}" type="slidenum">
              <a:rPr b="1" lang="zh-CN" sz="1400" spc="-1" strike="noStrike">
                <a:solidFill>
                  <a:srgbClr val="8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2050920" y="981000"/>
            <a:ext cx="68421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2050920" y="5877000"/>
            <a:ext cx="22320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4427640" y="5876640"/>
            <a:ext cx="4465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7235640" y="333000"/>
            <a:ext cx="1657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8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751BD-8BC4-4E82-AA29-B54DFEA99766}" type="slidenum">
              <a:rPr b="1" lang="zh-CN" sz="1400" spc="-1" strike="noStrike">
                <a:solidFill>
                  <a:srgbClr val="8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2050920" y="981000"/>
            <a:ext cx="68421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2050920" y="5877000"/>
            <a:ext cx="22320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4427640" y="5876640"/>
            <a:ext cx="4465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7235640" y="333000"/>
            <a:ext cx="1657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8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684C0-0963-4F70-9722-A4D03AB9178D}" type="slidenum">
              <a:rPr b="1" lang="zh-CN" sz="1400" spc="-1" strike="noStrike">
                <a:solidFill>
                  <a:srgbClr val="8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2050920" y="981000"/>
            <a:ext cx="68421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2050920" y="5877000"/>
            <a:ext cx="22320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4427640" y="5876640"/>
            <a:ext cx="4465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7235640" y="333000"/>
            <a:ext cx="1657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8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0D39E-98F6-47F5-A0B7-7BAAF6A69C32}" type="slidenum">
              <a:rPr b="1" lang="zh-CN" sz="1400" spc="-1" strike="noStrike">
                <a:solidFill>
                  <a:srgbClr val="8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7"/>
          <p:cNvSpPr txBox="1"/>
          <p:nvPr/>
        </p:nvSpPr>
        <p:spPr>
          <a:xfrm>
            <a:off x="1763640" y="1125360"/>
            <a:ext cx="5688000" cy="1582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St. Valentine's Da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050920" y="981000"/>
            <a:ext cx="68421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7892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484000" y="6237000"/>
            <a:ext cx="4824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478640" y="6237000"/>
            <a:ext cx="1486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8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ADE06-59FD-4555-8279-B23A85FDA7AB}" type="slidenum">
              <a:rPr b="1" lang="zh-CN" sz="1400" spc="-1" strike="noStrike">
                <a:solidFill>
                  <a:srgbClr val="8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050920" y="981000"/>
            <a:ext cx="68421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2050920" y="5877000"/>
            <a:ext cx="22320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4427640" y="5876640"/>
            <a:ext cx="4465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7235640" y="333000"/>
            <a:ext cx="1657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8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17FF8-36CC-4B74-A1D6-A22251E6FD24}" type="slidenum">
              <a:rPr b="1" lang="zh-CN" sz="1400" spc="-1" strike="noStrike">
                <a:solidFill>
                  <a:srgbClr val="8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2050920" y="981000"/>
            <a:ext cx="68421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2050920" y="5877000"/>
            <a:ext cx="22320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4427640" y="5876640"/>
            <a:ext cx="4465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7235640" y="333000"/>
            <a:ext cx="1657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8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2AA6E-F0EA-4861-A76E-91C2FB92B845}" type="slidenum">
              <a:rPr b="1" lang="zh-CN" sz="1400" spc="-1" strike="noStrike">
                <a:solidFill>
                  <a:srgbClr val="8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050920" y="981000"/>
            <a:ext cx="68421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2050920" y="5877000"/>
            <a:ext cx="22320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4427640" y="5876640"/>
            <a:ext cx="4465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7235640" y="333000"/>
            <a:ext cx="1657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8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D30D-5D1E-4E0D-8716-482BA768B6EA}" type="slidenum">
              <a:rPr b="1" lang="zh-CN" sz="1400" spc="-1" strike="noStrike">
                <a:solidFill>
                  <a:srgbClr val="8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050920" y="981000"/>
            <a:ext cx="68421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2050920" y="5877000"/>
            <a:ext cx="22320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4427640" y="5876640"/>
            <a:ext cx="4465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7235640" y="333000"/>
            <a:ext cx="1657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8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C1844-3A77-4E32-AC9D-A060144CBF1A}" type="slidenum">
              <a:rPr b="1" lang="zh-CN" sz="1400" spc="-1" strike="noStrike">
                <a:solidFill>
                  <a:srgbClr val="8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2050920" y="981000"/>
            <a:ext cx="68421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2050920" y="5877000"/>
            <a:ext cx="22320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4427640" y="5876640"/>
            <a:ext cx="4465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7235640" y="333000"/>
            <a:ext cx="1657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8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6A832-EC39-4CF0-AD59-E0DD44017CF6}" type="slidenum">
              <a:rPr b="1" lang="zh-CN" sz="1400" spc="-1" strike="noStrike">
                <a:solidFill>
                  <a:srgbClr val="8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2050920" y="981000"/>
            <a:ext cx="68421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2050920" y="5877000"/>
            <a:ext cx="22320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4427640" y="5876640"/>
            <a:ext cx="4465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7235640" y="333000"/>
            <a:ext cx="1657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8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1C6AA-E26F-499D-BB11-8FD419B3F660}" type="slidenum">
              <a:rPr b="1" lang="zh-CN" sz="1400" spc="-1" strike="noStrike">
                <a:solidFill>
                  <a:srgbClr val="8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2050920" y="981000"/>
            <a:ext cx="68421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2050920" y="5877000"/>
            <a:ext cx="22320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4427640" y="5876640"/>
            <a:ext cx="4465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7235640" y="333000"/>
            <a:ext cx="1657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8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DCCC9-D4EA-48B9-9C2D-20D9AFF4B8B1}" type="slidenum">
              <a:rPr b="1" lang="zh-CN" sz="1400" spc="-1" strike="noStrike">
                <a:solidFill>
                  <a:srgbClr val="8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3635280" y="5229000"/>
            <a:ext cx="5113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800000"/>
              </a:solidFill>
              <a:latin typeface="华康海报体W12(P)"/>
              <a:ea typeface="华康海报体W12(P)"/>
            </a:endParaRPr>
          </a:p>
        </p:txBody>
      </p:sp>
      <p:sp>
        <p:nvSpPr>
          <p:cNvPr id="494" name="矩形 1"/>
          <p:cNvSpPr/>
          <p:nvPr/>
        </p:nvSpPr>
        <p:spPr>
          <a:xfrm>
            <a:off x="1740240" y="189000"/>
            <a:ext cx="567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天使与魔鬼的相恋通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000" spc="-1" strike="noStrike">
              <a:solidFill>
                <a:srgbClr val="800000"/>
              </a:solidFill>
              <a:latin typeface="Arial"/>
              <a:ea typeface="宋体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68421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8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7T14:18:59Z</dcterms:created>
  <dc:creator>Alexey</dc:creator>
  <dc:description/>
  <dc:language>en-US</dc:language>
  <cp:lastModifiedBy>王玉清</cp:lastModifiedBy>
  <dcterms:modified xsi:type="dcterms:W3CDTF">2016-02-20T04:35:23Z</dcterms:modified>
  <cp:revision>10</cp:revision>
  <dc:subject/>
  <dc:title>Слайд 1</dc:title>
</cp:coreProperties>
</file>