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C074-824D-4CA7-AE39-2B842AB1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3D29-E237-4098-BC02-D20F7A54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33EC-C644-4B60-84F7-91BF2574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8ABF-7B9B-4E17-8969-160F9C27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04FE-7360-4B3D-81A0-9DB29E24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6A2C-6D8A-4036-9EDB-712477BF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F28E-CAE8-4DE9-8EF9-2CC0E3F7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69A1-D9A5-4607-9C7D-FD16537D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AA77-FFF1-42C8-8A5F-FA7B5204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A8C5-FBAD-489F-B950-6DF968D7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6BDE-1321-40F0-AE62-42437E98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C426-0454-4DA1-97A2-E0B7418D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EF10-E036-420A-B24D-2CACEFD4F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7"/>
          <p:cNvSpPr/>
          <p:nvPr/>
        </p:nvSpPr>
        <p:spPr>
          <a:xfrm>
            <a:off x="4052880" y="6311880"/>
            <a:ext cx="608040" cy="165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8"/>
          <p:cNvSpPr/>
          <p:nvPr/>
        </p:nvSpPr>
        <p:spPr>
          <a:xfrm flipH="1">
            <a:off x="4255200" y="6311880"/>
            <a:ext cx="606600" cy="165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9"/>
          <p:cNvGrpSpPr/>
          <p:nvPr/>
        </p:nvGrpSpPr>
        <p:grpSpPr>
          <a:xfrm>
            <a:off x="2232000" y="4495680"/>
            <a:ext cx="4059000" cy="3644640"/>
            <a:chOff x="2232000" y="4495680"/>
            <a:chExt cx="4059000" cy="3644640"/>
          </a:xfrm>
        </p:grpSpPr>
        <p:sp>
          <p:nvSpPr>
            <p:cNvPr id="44" name="Freeform 50"/>
            <p:cNvSpPr/>
            <p:nvPr/>
          </p:nvSpPr>
          <p:spPr>
            <a:xfrm>
              <a:off x="2232000" y="4495680"/>
              <a:ext cx="2023920" cy="1816200"/>
            </a:xfrm>
            <a:custGeom>
              <a:avLst/>
              <a:gdLst/>
              <a:ahLst/>
              <a:rect l="l" t="t" r="r" b="b"/>
              <a:pathLst>
                <a:path w="480" h="528">
                  <a:moveTo>
                    <a:pt x="480" y="528"/>
                  </a:moveTo>
                  <a:cubicBezTo>
                    <a:pt x="424" y="380"/>
                    <a:pt x="368" y="232"/>
                    <a:pt x="288" y="144"/>
                  </a:cubicBezTo>
                  <a:cubicBezTo>
                    <a:pt x="208" y="56"/>
                    <a:pt x="104" y="28"/>
                    <a:pt x="0" y="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1"/>
            <p:cNvSpPr/>
            <p:nvPr/>
          </p:nvSpPr>
          <p:spPr>
            <a:xfrm rot="10800000">
              <a:off x="4266720" y="6324120"/>
              <a:ext cx="2024280" cy="1816200"/>
            </a:xfrm>
            <a:custGeom>
              <a:avLst/>
              <a:gdLst/>
              <a:ahLst/>
              <a:rect l="l" t="t" r="r" b="b"/>
              <a:pathLst>
                <a:path w="480" h="528">
                  <a:moveTo>
                    <a:pt x="480" y="528"/>
                  </a:moveTo>
                  <a:cubicBezTo>
                    <a:pt x="424" y="380"/>
                    <a:pt x="368" y="232"/>
                    <a:pt x="288" y="144"/>
                  </a:cubicBezTo>
                  <a:cubicBezTo>
                    <a:pt x="208" y="56"/>
                    <a:pt x="104" y="28"/>
                    <a:pt x="0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52"/>
          <p:cNvGrpSpPr/>
          <p:nvPr/>
        </p:nvGrpSpPr>
        <p:grpSpPr>
          <a:xfrm>
            <a:off x="1422360" y="5156280"/>
            <a:ext cx="5246280" cy="2279520"/>
            <a:chOff x="1422360" y="5156280"/>
            <a:chExt cx="5246280" cy="2279520"/>
          </a:xfrm>
        </p:grpSpPr>
        <p:sp>
          <p:nvSpPr>
            <p:cNvPr id="47" name="Freeform 53"/>
            <p:cNvSpPr/>
            <p:nvPr/>
          </p:nvSpPr>
          <p:spPr>
            <a:xfrm>
              <a:off x="1422360" y="5156280"/>
              <a:ext cx="2630520" cy="1155600"/>
            </a:xfrm>
            <a:custGeom>
              <a:avLst/>
              <a:gdLst/>
              <a:ahLst/>
              <a:rect l="l" t="t" r="r" b="b"/>
              <a:pathLst>
                <a:path w="624" h="336">
                  <a:moveTo>
                    <a:pt x="624" y="336"/>
                  </a:moveTo>
                  <a:cubicBezTo>
                    <a:pt x="532" y="216"/>
                    <a:pt x="440" y="96"/>
                    <a:pt x="336" y="48"/>
                  </a:cubicBezTo>
                  <a:cubicBezTo>
                    <a:pt x="232" y="0"/>
                    <a:pt x="116" y="24"/>
                    <a:pt x="0" y="48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4"/>
            <p:cNvSpPr/>
            <p:nvPr/>
          </p:nvSpPr>
          <p:spPr>
            <a:xfrm rot="10800000">
              <a:off x="4038120" y="6280200"/>
              <a:ext cx="2630520" cy="1155600"/>
            </a:xfrm>
            <a:custGeom>
              <a:avLst/>
              <a:gdLst/>
              <a:ahLst/>
              <a:rect l="l" t="t" r="r" b="b"/>
              <a:pathLst>
                <a:path w="624" h="336">
                  <a:moveTo>
                    <a:pt x="624" y="336"/>
                  </a:moveTo>
                  <a:cubicBezTo>
                    <a:pt x="532" y="216"/>
                    <a:pt x="440" y="96"/>
                    <a:pt x="336" y="48"/>
                  </a:cubicBezTo>
                  <a:cubicBezTo>
                    <a:pt x="232" y="0"/>
                    <a:pt x="116" y="24"/>
                    <a:pt x="0" y="48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55"/>
          <p:cNvGrpSpPr/>
          <p:nvPr/>
        </p:nvGrpSpPr>
        <p:grpSpPr>
          <a:xfrm>
            <a:off x="1219320" y="5761080"/>
            <a:ext cx="5653080" cy="1096920"/>
            <a:chOff x="1219320" y="5761080"/>
            <a:chExt cx="5653080" cy="1096920"/>
          </a:xfrm>
        </p:grpSpPr>
        <p:sp>
          <p:nvSpPr>
            <p:cNvPr id="50" name="Freeform 56"/>
            <p:cNvSpPr/>
            <p:nvPr/>
          </p:nvSpPr>
          <p:spPr>
            <a:xfrm>
              <a:off x="1219320" y="5761080"/>
              <a:ext cx="2833560" cy="550800"/>
            </a:xfrm>
            <a:custGeom>
              <a:avLst/>
              <a:gdLst/>
              <a:ahLst/>
              <a:rect l="l" t="t" r="r" b="b"/>
              <a:pathLst>
                <a:path w="672" h="160">
                  <a:moveTo>
                    <a:pt x="672" y="160"/>
                  </a:moveTo>
                  <a:cubicBezTo>
                    <a:pt x="512" y="96"/>
                    <a:pt x="352" y="32"/>
                    <a:pt x="240" y="16"/>
                  </a:cubicBezTo>
                  <a:cubicBezTo>
                    <a:pt x="128" y="0"/>
                    <a:pt x="64" y="32"/>
                    <a:pt x="0" y="64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7"/>
            <p:cNvSpPr/>
            <p:nvPr/>
          </p:nvSpPr>
          <p:spPr>
            <a:xfrm rot="10800000">
              <a:off x="4038480" y="6307200"/>
              <a:ext cx="2833920" cy="550800"/>
            </a:xfrm>
            <a:custGeom>
              <a:avLst/>
              <a:gdLst/>
              <a:ahLst/>
              <a:rect l="l" t="t" r="r" b="b"/>
              <a:pathLst>
                <a:path w="672" h="160">
                  <a:moveTo>
                    <a:pt x="672" y="160"/>
                  </a:moveTo>
                  <a:cubicBezTo>
                    <a:pt x="512" y="96"/>
                    <a:pt x="352" y="32"/>
                    <a:pt x="240" y="16"/>
                  </a:cubicBezTo>
                  <a:cubicBezTo>
                    <a:pt x="128" y="0"/>
                    <a:pt x="64" y="32"/>
                    <a:pt x="0" y="64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58"/>
          <p:cNvGrpSpPr/>
          <p:nvPr/>
        </p:nvGrpSpPr>
        <p:grpSpPr>
          <a:xfrm>
            <a:off x="2666160" y="4495680"/>
            <a:ext cx="4018680" cy="3568680"/>
            <a:chOff x="2666160" y="4495680"/>
            <a:chExt cx="4018680" cy="3568680"/>
          </a:xfrm>
        </p:grpSpPr>
        <p:sp>
          <p:nvSpPr>
            <p:cNvPr id="53" name="Freeform 59"/>
            <p:cNvSpPr/>
            <p:nvPr/>
          </p:nvSpPr>
          <p:spPr>
            <a:xfrm flipH="1">
              <a:off x="4660920" y="4495680"/>
              <a:ext cx="2023920" cy="1816200"/>
            </a:xfrm>
            <a:custGeom>
              <a:avLst/>
              <a:gdLst/>
              <a:ahLst/>
              <a:rect l="l" t="t" r="r" b="b"/>
              <a:pathLst>
                <a:path w="480" h="528">
                  <a:moveTo>
                    <a:pt x="480" y="528"/>
                  </a:moveTo>
                  <a:cubicBezTo>
                    <a:pt x="424" y="380"/>
                    <a:pt x="368" y="232"/>
                    <a:pt x="288" y="144"/>
                  </a:cubicBezTo>
                  <a:cubicBezTo>
                    <a:pt x="208" y="56"/>
                    <a:pt x="104" y="28"/>
                    <a:pt x="0" y="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0"/>
            <p:cNvSpPr/>
            <p:nvPr/>
          </p:nvSpPr>
          <p:spPr>
            <a:xfrm flipH="1" rot="10800000">
              <a:off x="2665800" y="6248520"/>
              <a:ext cx="2024280" cy="1815840"/>
            </a:xfrm>
            <a:custGeom>
              <a:avLst/>
              <a:gdLst/>
              <a:ahLst/>
              <a:rect l="l" t="t" r="r" b="b"/>
              <a:pathLst>
                <a:path w="480" h="528">
                  <a:moveTo>
                    <a:pt x="480" y="528"/>
                  </a:moveTo>
                  <a:cubicBezTo>
                    <a:pt x="424" y="380"/>
                    <a:pt x="368" y="232"/>
                    <a:pt x="288" y="144"/>
                  </a:cubicBezTo>
                  <a:cubicBezTo>
                    <a:pt x="208" y="56"/>
                    <a:pt x="104" y="28"/>
                    <a:pt x="0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61"/>
          <p:cNvGrpSpPr/>
          <p:nvPr/>
        </p:nvGrpSpPr>
        <p:grpSpPr>
          <a:xfrm>
            <a:off x="2285280" y="5156280"/>
            <a:ext cx="5208840" cy="2279520"/>
            <a:chOff x="2285280" y="5156280"/>
            <a:chExt cx="5208840" cy="2279520"/>
          </a:xfrm>
        </p:grpSpPr>
        <p:sp>
          <p:nvSpPr>
            <p:cNvPr id="56" name="Freeform 62"/>
            <p:cNvSpPr/>
            <p:nvPr/>
          </p:nvSpPr>
          <p:spPr>
            <a:xfrm flipH="1">
              <a:off x="4861800" y="5156280"/>
              <a:ext cx="2631960" cy="1155600"/>
            </a:xfrm>
            <a:custGeom>
              <a:avLst/>
              <a:gdLst/>
              <a:ahLst/>
              <a:rect l="l" t="t" r="r" b="b"/>
              <a:pathLst>
                <a:path w="624" h="336">
                  <a:moveTo>
                    <a:pt x="624" y="336"/>
                  </a:moveTo>
                  <a:cubicBezTo>
                    <a:pt x="532" y="216"/>
                    <a:pt x="440" y="96"/>
                    <a:pt x="336" y="48"/>
                  </a:cubicBezTo>
                  <a:cubicBezTo>
                    <a:pt x="232" y="0"/>
                    <a:pt x="116" y="24"/>
                    <a:pt x="0" y="48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3"/>
            <p:cNvSpPr/>
            <p:nvPr/>
          </p:nvSpPr>
          <p:spPr>
            <a:xfrm flipH="1" rot="10800000">
              <a:off x="2284920" y="6280200"/>
              <a:ext cx="2631960" cy="1155600"/>
            </a:xfrm>
            <a:custGeom>
              <a:avLst/>
              <a:gdLst/>
              <a:ahLst/>
              <a:rect l="l" t="t" r="r" b="b"/>
              <a:pathLst>
                <a:path w="624" h="336">
                  <a:moveTo>
                    <a:pt x="624" y="336"/>
                  </a:moveTo>
                  <a:cubicBezTo>
                    <a:pt x="532" y="216"/>
                    <a:pt x="440" y="96"/>
                    <a:pt x="336" y="48"/>
                  </a:cubicBezTo>
                  <a:cubicBezTo>
                    <a:pt x="232" y="0"/>
                    <a:pt x="116" y="24"/>
                    <a:pt x="0" y="48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4"/>
          <p:cNvGrpSpPr/>
          <p:nvPr/>
        </p:nvGrpSpPr>
        <p:grpSpPr>
          <a:xfrm>
            <a:off x="1981080" y="5761080"/>
            <a:ext cx="5714640" cy="1096920"/>
            <a:chOff x="1981080" y="5761080"/>
            <a:chExt cx="5714640" cy="1096920"/>
          </a:xfrm>
        </p:grpSpPr>
        <p:sp>
          <p:nvSpPr>
            <p:cNvPr id="59" name="Freeform 65"/>
            <p:cNvSpPr/>
            <p:nvPr/>
          </p:nvSpPr>
          <p:spPr>
            <a:xfrm flipH="1">
              <a:off x="4861800" y="5761080"/>
              <a:ext cx="2833560" cy="550800"/>
            </a:xfrm>
            <a:custGeom>
              <a:avLst/>
              <a:gdLst/>
              <a:ahLst/>
              <a:rect l="l" t="t" r="r" b="b"/>
              <a:pathLst>
                <a:path w="672" h="160">
                  <a:moveTo>
                    <a:pt x="672" y="160"/>
                  </a:moveTo>
                  <a:cubicBezTo>
                    <a:pt x="512" y="96"/>
                    <a:pt x="352" y="32"/>
                    <a:pt x="240" y="16"/>
                  </a:cubicBezTo>
                  <a:cubicBezTo>
                    <a:pt x="128" y="0"/>
                    <a:pt x="64" y="32"/>
                    <a:pt x="0" y="64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6"/>
            <p:cNvSpPr/>
            <p:nvPr/>
          </p:nvSpPr>
          <p:spPr>
            <a:xfrm flipH="1" rot="10800000">
              <a:off x="1981080" y="6307200"/>
              <a:ext cx="2833920" cy="550800"/>
            </a:xfrm>
            <a:custGeom>
              <a:avLst/>
              <a:gdLst/>
              <a:ahLst/>
              <a:rect l="l" t="t" r="r" b="b"/>
              <a:pathLst>
                <a:path w="672" h="160">
                  <a:moveTo>
                    <a:pt x="672" y="160"/>
                  </a:moveTo>
                  <a:cubicBezTo>
                    <a:pt x="512" y="96"/>
                    <a:pt x="352" y="32"/>
                    <a:pt x="240" y="16"/>
                  </a:cubicBezTo>
                  <a:cubicBezTo>
                    <a:pt x="128" y="0"/>
                    <a:pt x="64" y="32"/>
                    <a:pt x="0" y="64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67"/>
          <p:cNvGrpSpPr/>
          <p:nvPr/>
        </p:nvGrpSpPr>
        <p:grpSpPr>
          <a:xfrm>
            <a:off x="-2031840" y="-3199680"/>
            <a:ext cx="7340040" cy="10362240"/>
            <a:chOff x="-2031840" y="-3199680"/>
            <a:chExt cx="7340040" cy="10362240"/>
          </a:xfrm>
        </p:grpSpPr>
        <p:sp>
          <p:nvSpPr>
            <p:cNvPr id="62" name="Oval 68"/>
            <p:cNvSpPr/>
            <p:nvPr/>
          </p:nvSpPr>
          <p:spPr>
            <a:xfrm rot="19867200">
              <a:off x="304920" y="-3200040"/>
              <a:ext cx="2666520" cy="103633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9"/>
            <p:cNvSpPr/>
            <p:nvPr/>
          </p:nvSpPr>
          <p:spPr>
            <a:xfrm rot="19867200">
              <a:off x="938880" y="-2759400"/>
              <a:ext cx="1454400" cy="975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70"/>
          <p:cNvGrpSpPr/>
          <p:nvPr/>
        </p:nvGrpSpPr>
        <p:grpSpPr>
          <a:xfrm>
            <a:off x="3483720" y="-3002040"/>
            <a:ext cx="7586640" cy="10271160"/>
            <a:chOff x="3483720" y="-3002040"/>
            <a:chExt cx="7586640" cy="10271160"/>
          </a:xfrm>
        </p:grpSpPr>
        <p:sp>
          <p:nvSpPr>
            <p:cNvPr id="65" name="Oval 71"/>
            <p:cNvSpPr/>
            <p:nvPr/>
          </p:nvSpPr>
          <p:spPr>
            <a:xfrm flipH="1" rot="1843200">
              <a:off x="5943600" y="-3047760"/>
              <a:ext cx="2666520" cy="103633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72"/>
            <p:cNvSpPr/>
            <p:nvPr/>
          </p:nvSpPr>
          <p:spPr>
            <a:xfrm flipH="1" rot="1843200">
              <a:off x="6517800" y="-2608200"/>
              <a:ext cx="1454400" cy="975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图片 44" descr="23.png"/>
          <p:cNvPicPr/>
          <p:nvPr/>
        </p:nvPicPr>
        <p:blipFill>
          <a:blip r:embed="rId1"/>
          <a:stretch/>
        </p:blipFill>
        <p:spPr>
          <a:xfrm>
            <a:off x="1752480" y="5486400"/>
            <a:ext cx="289080" cy="285840"/>
          </a:xfrm>
          <a:prstGeom prst="rect">
            <a:avLst/>
          </a:prstGeom>
          <a:ln w="0">
            <a:noFill/>
          </a:ln>
        </p:spPr>
      </p:pic>
      <p:pic>
        <p:nvPicPr>
          <p:cNvPr id="68" name="图片 43" descr="23.png"/>
          <p:cNvPicPr/>
          <p:nvPr/>
        </p:nvPicPr>
        <p:blipFill>
          <a:blip r:embed="rId2"/>
          <a:stretch/>
        </p:blipFill>
        <p:spPr>
          <a:xfrm>
            <a:off x="1143000" y="4648320"/>
            <a:ext cx="571680" cy="5652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43" descr="23.png"/>
          <p:cNvPicPr/>
          <p:nvPr/>
        </p:nvPicPr>
        <p:blipFill>
          <a:blip r:embed="rId3"/>
          <a:stretch/>
        </p:blipFill>
        <p:spPr>
          <a:xfrm>
            <a:off x="2209680" y="5334120"/>
            <a:ext cx="571680" cy="565200"/>
          </a:xfrm>
          <a:prstGeom prst="rect">
            <a:avLst/>
          </a:prstGeom>
          <a:ln w="0">
            <a:noFill/>
          </a:ln>
        </p:spPr>
      </p:pic>
      <p:pic>
        <p:nvPicPr>
          <p:cNvPr id="70" name="图片 43" descr="23.png"/>
          <p:cNvPicPr/>
          <p:nvPr/>
        </p:nvPicPr>
        <p:blipFill>
          <a:blip r:embed="rId4"/>
          <a:stretch/>
        </p:blipFill>
        <p:spPr>
          <a:xfrm>
            <a:off x="5257800" y="5486400"/>
            <a:ext cx="571680" cy="565200"/>
          </a:xfrm>
          <a:prstGeom prst="rect">
            <a:avLst/>
          </a:prstGeom>
          <a:ln w="0">
            <a:noFill/>
          </a:ln>
        </p:spPr>
      </p:pic>
      <p:pic>
        <p:nvPicPr>
          <p:cNvPr id="71" name="图片 43" descr="23.png"/>
          <p:cNvPicPr/>
          <p:nvPr/>
        </p:nvPicPr>
        <p:blipFill>
          <a:blip r:embed="rId5"/>
          <a:stretch/>
        </p:blipFill>
        <p:spPr>
          <a:xfrm>
            <a:off x="6324480" y="5410080"/>
            <a:ext cx="571680" cy="565200"/>
          </a:xfrm>
          <a:prstGeom prst="rect">
            <a:avLst/>
          </a:prstGeom>
          <a:ln w="0">
            <a:noFill/>
          </a:ln>
        </p:spPr>
      </p:pic>
      <p:pic>
        <p:nvPicPr>
          <p:cNvPr id="72" name="图片 43" descr="23.png"/>
          <p:cNvPicPr/>
          <p:nvPr/>
        </p:nvPicPr>
        <p:blipFill>
          <a:blip r:embed="rId6"/>
          <a:stretch/>
        </p:blipFill>
        <p:spPr>
          <a:xfrm>
            <a:off x="6019920" y="4724280"/>
            <a:ext cx="571320" cy="565200"/>
          </a:xfrm>
          <a:prstGeom prst="rect">
            <a:avLst/>
          </a:prstGeom>
          <a:ln w="0">
            <a:noFill/>
          </a:ln>
        </p:spPr>
      </p:pic>
      <p:pic>
        <p:nvPicPr>
          <p:cNvPr id="73" name="图片 44" descr="23.png"/>
          <p:cNvPicPr/>
          <p:nvPr/>
        </p:nvPicPr>
        <p:blipFill>
          <a:blip r:embed="rId7"/>
          <a:stretch/>
        </p:blipFill>
        <p:spPr>
          <a:xfrm>
            <a:off x="3200400" y="5257800"/>
            <a:ext cx="289080" cy="285840"/>
          </a:xfrm>
          <a:prstGeom prst="rect">
            <a:avLst/>
          </a:prstGeom>
          <a:ln w="0">
            <a:noFill/>
          </a:ln>
        </p:spPr>
      </p:pic>
      <p:pic>
        <p:nvPicPr>
          <p:cNvPr id="74" name="图片 44" descr="23.png"/>
          <p:cNvPicPr/>
          <p:nvPr/>
        </p:nvPicPr>
        <p:blipFill>
          <a:blip r:embed="rId8"/>
          <a:stretch/>
        </p:blipFill>
        <p:spPr>
          <a:xfrm>
            <a:off x="7086600" y="5410080"/>
            <a:ext cx="289080" cy="285840"/>
          </a:xfrm>
          <a:prstGeom prst="rect">
            <a:avLst/>
          </a:prstGeom>
          <a:ln w="0">
            <a:noFill/>
          </a:ln>
        </p:spPr>
      </p:pic>
      <p:pic>
        <p:nvPicPr>
          <p:cNvPr id="75" name="图片 44" descr="23.png"/>
          <p:cNvPicPr/>
          <p:nvPr/>
        </p:nvPicPr>
        <p:blipFill>
          <a:blip r:embed="rId9"/>
          <a:stretch/>
        </p:blipFill>
        <p:spPr>
          <a:xfrm>
            <a:off x="4267080" y="5867280"/>
            <a:ext cx="289080" cy="28584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82"/>
          <p:cNvGrpSpPr/>
          <p:nvPr/>
        </p:nvGrpSpPr>
        <p:grpSpPr>
          <a:xfrm>
            <a:off x="3124080" y="-3200400"/>
            <a:ext cx="2666880" cy="10363320"/>
            <a:chOff x="3124080" y="-3200400"/>
            <a:chExt cx="2666880" cy="10363320"/>
          </a:xfrm>
        </p:grpSpPr>
        <p:sp>
          <p:nvSpPr>
            <p:cNvPr id="77" name="Oval 83"/>
            <p:cNvSpPr/>
            <p:nvPr/>
          </p:nvSpPr>
          <p:spPr>
            <a:xfrm>
              <a:off x="3124080" y="-3200400"/>
              <a:ext cx="2666880" cy="103633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4"/>
            <p:cNvSpPr/>
            <p:nvPr/>
          </p:nvSpPr>
          <p:spPr>
            <a:xfrm>
              <a:off x="3689640" y="-2763000"/>
              <a:ext cx="1454760" cy="975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图片 43" descr="23.png"/>
          <p:cNvPicPr/>
          <p:nvPr/>
        </p:nvPicPr>
        <p:blipFill>
          <a:blip r:embed="rId10"/>
          <a:stretch/>
        </p:blipFill>
        <p:spPr>
          <a:xfrm>
            <a:off x="2743200" y="5562720"/>
            <a:ext cx="571680" cy="5652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43" descr="23.png"/>
          <p:cNvPicPr/>
          <p:nvPr/>
        </p:nvPicPr>
        <p:blipFill>
          <a:blip r:embed="rId11"/>
          <a:stretch/>
        </p:blipFill>
        <p:spPr>
          <a:xfrm>
            <a:off x="5410080" y="3962520"/>
            <a:ext cx="571680" cy="5652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43" descr="23.png"/>
          <p:cNvPicPr/>
          <p:nvPr/>
        </p:nvPicPr>
        <p:blipFill>
          <a:blip r:embed="rId12"/>
          <a:stretch/>
        </p:blipFill>
        <p:spPr>
          <a:xfrm>
            <a:off x="4343400" y="4572000"/>
            <a:ext cx="571680" cy="5652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44" descr="23.png"/>
          <p:cNvPicPr/>
          <p:nvPr/>
        </p:nvPicPr>
        <p:blipFill>
          <a:blip r:embed="rId13"/>
          <a:stretch/>
        </p:blipFill>
        <p:spPr>
          <a:xfrm>
            <a:off x="1523880" y="4038480"/>
            <a:ext cx="289080" cy="2858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44" descr="23.png"/>
          <p:cNvPicPr/>
          <p:nvPr/>
        </p:nvPicPr>
        <p:blipFill>
          <a:blip r:embed="rId14"/>
          <a:stretch/>
        </p:blipFill>
        <p:spPr>
          <a:xfrm>
            <a:off x="3581280" y="3962520"/>
            <a:ext cx="289080" cy="285480"/>
          </a:xfrm>
          <a:prstGeom prst="rect">
            <a:avLst/>
          </a:prstGeom>
          <a:ln w="0">
            <a:noFill/>
          </a:ln>
        </p:spPr>
      </p:pic>
      <p:sp>
        <p:nvSpPr>
          <p:cNvPr id="84" name="矩形 13"/>
          <p:cNvSpPr/>
          <p:nvPr/>
        </p:nvSpPr>
        <p:spPr>
          <a:xfrm>
            <a:off x="2320200" y="596880"/>
            <a:ext cx="44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投影动态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autoRev="1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600000">
                                      <p:cBhvr>
                                        <p:cTn id="3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600000">
                                      <p:cBhvr>
                                        <p:cTn id="4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600000">
                                      <p:cBhvr>
                                        <p:cTn id="4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4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4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4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autoRev="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88889E-006 2.59259E-006 C 0.00816 -0.00903 0.01562 -0.01921 0.02413 -0.02778 C 0.02812 -0.03194 0.03316 -0.03426 0.03698 -0.03866 C 0.05104 -0.0544 0.0618 -0.07199 0.07726 -0.08588 C 0.07986 -0.09167 0.0816 -0.09884 0.08542 -0.10324 C 0.08837 -0.10671 0.09236 -0.1081 0.09514 -0.11181 C 0.10625 -0.12662 0.11406 -0.14537 0.12413 -0.16111 C 0.12639 -0.17384 0.125 -0.17755 0.13542 -0.17407 C 0.14601 -0.15532 0.16024 -0.14329 0.17257 -0.12685 C 0.18385 -0.09607 0.20087 -0.07986 0.21771 -0.05579 C 0.24826 -0.01227 0.21198 -0.06134 0.24514 -0.01713 C 0.24774 -0.01366 0.24809 -0.00833 0.25 -0.00417 C 0.25503 0.00625 0.26545 0.01782 0.27413 0.02153 C 0.27726 0.03472 0.28576 0.04306 0.29514 0.04745 C 0.29549 0.04745 0.30833 0.04375 0.30955 0.04306 C 0.31753 0.03866 0.32309 0.03264 0.33212 0.03009 C 0.34462 0.01806 0.33889 0.0213 0.34826 0.01736 C 0.35642 -0.00093 0.37031 -0.00764 0.38524 -0.01505 C 0.39045 -0.02037 0.39462 -0.02708 0.4 -0.03218 C 0.4033 -0.03542 0.40764 -0.03611 0.41128 -0.03866 C 0.41944 -0.05023 0.41146 -0.04167 0.42396 -0.04722 C 0.4349 -0.05208 0.42656 -0.05023 0.43524 -0.0581 C 0.43819 -0.06065 0.44201 -0.06181 0.44496 -0.06435 C 0.44809 -0.06366 0.45156 -0.06389 0.45451 -0.06227 C 0.46684 -0.05532 0.47587 -0.04213 0.48837 -0.03657 C 0.49271 -0.02801 0.49549 -0.02616 0.50312 -0.02361 C 0.51458 -0.01319 0.49983 -0.02523 0.51597 -0.01713 C 0.51788 -0.0162 0.51892 -0.01389 0.52083 -0.01273 C 0.52604 -0.00926 0.53177 -0.00764 0.53698 -0.00417 C 0.5434 0.00023 0.54948 0.00556 0.55642 0.00856 C 0.5651 0.01643 0.55712 0.01042 0.56927 0.01505 C 0.57413 0.0169 0.58385 0.02153 0.58385 0.02153 C 0.58854 0.02593 0.59375 0.02731 0.59826 0.03241 C 0.6 0.03426 0.60104 0.03773 0.60312 0.03889 C 0.6066 0.04074 0.61059 0.04028 0.61441 0.04097 C 0.61719 0.04236 0.61962 0.04468 0.62257 0.04514 C 0.62413 0.04537 0.62639 0.04491 0.62726 0.04306 C 0.63108 0.03472 0.63437 0.01481 0.63698 0.0044 C 0.64045 -0.06273 0.63906 -0.02153 0.63698 -0.1419 C 0.63663 -0.16551 0.63646 -0.18912 0.63542 -0.21273 C 0.63472 -0.2287 0.63941 -0.24954 0.63055 -0.26019 C 0.61719 -0.27616 0.59653 -0.28843 0.57899 -0.29236 C 0.56528 -0.30486 0.57465 -0.30255 0.55312 -0.30532 C 0.54549 -0.31551 0.53455 -0.32662 0.52413 -0.33102 C 0.52031 -0.33843 0.51649 -0.34329 0.51128 -0.34838 C 0.50746 -0.36227 0.51024 -0.35278 0.50156 -0.37616 C 0.49687 -0.38843 0.49705 -0.39792 0.49167 -0.40857 C 0.48924 -0.42569 0.49115 -0.4162 0.48542 -0.43866 C 0.48437 -0.44306 0.48212 -0.45162 0.48212 -0.45162 C 0.48073 -0.52384 0.48976 -0.52847 0.46771 -0.56991 C 0.4625 -0.5794 0.46146 -0.58542 0.45295 -0.58912 C 0.45243 -0.5912 0.45208 -0.59352 0.45156 -0.5956 C 0.45052 -0.59792 0.44878 -0.59954 0.44809 -0.60208 C 0.44201 -0.62338 0.45104 -0.60394 0.4434 -0.61921 C 0.44097 -0.62824 0.43802 -0.6331 0.43194 -0.63866 C 0.42708 -0.65232 0.42708 -0.64676 0.42708 -0.6537 E">
                                      <p:cBhvr>
                                        <p:cTn id="63" dur="6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autoRev="1" nodeType="withEffect" fill="hold" presetClass="path" presetID="0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8.33333E-006 4.44444E-006 C 0.02899 -0.01667 0.04045 -0.04977 0.06458 -0.07315 C 0.08454 -0.09236 0.07795 -0.08241 0.08715 -0.09908 C 0.08992 -0.11065 0.08975 -0.10324 0.08072 -0.10324 C 0.07795 -0.10324 0.07534 -0.10486 0.07256 -0.10556 C 0.06336 -0.11343 0.06545 -0.11574 0.05329 -0.11829 C 0.04635 -0.12755 0.04218 -0.12917 0.03229 -0.13125 C 0.02586 -0.13704 0.01926 -0.13635 0.01284 -0.1419 C 0.00295 -0.16922 0.00572 -0.15811 0.00329 -0.2 C 0.00105 -0.23936 -0.00244 -0.27894 -0.00487 -0.31829 C -0.00157 -0.34422 -0.00278 -0.37176 0.00485 -0.39584 C 0.00694 -0.40255 0.01562 -0.39908 0.021 -0.4 C 0.03003 -0.40139 0.03923 -0.40162 0.04843 -0.40232 C 0.06284 -0.40695 0.07777 -0.40926 0.09201 -0.41505 C 0.1085 -0.42176 0.12551 -0.43148 0.14201 -0.43889 C 0.13506 -0.45695 0.14357 -0.43727 0.13072 -0.45811 C 0.11354 -0.48611 0.09513 -0.51204 0.07586 -0.53773 C 0.06336 -0.5544 0.05381 -0.57732 0.03871 -0.58936 C 0.03593 -0.59537 0.03159 -0.60023 0.02899 -0.60648 C 0.02795 -0.60903 0.02829 -0.61227 0.02742 -0.61505 C 0.02291 -0.62848 0.01649 -0.63403 0.00815 -0.64514 C 0.00225 -0.65301 0.00208 -0.66297 -0.00643 -0.66667 C -0.01233 -0.67199 -0.00955 -0.66991 -0.01442 -0.67315 E">
                                      <p:cBhvr>
                                        <p:cTn id="67" dur="1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autoRev="1" nodeType="withEffect" fill="hold" presetClass="path" presetID="0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66667E-006 0.00023 C -0.00486 -0.00162 -0.0099 -0.00324 -0.01441 -0.00625 C -0.01788 -0.0081 -0.02049 -0.01319 -0.02413 -0.01482 C -0.02986 -0.01736 -0.03594 -0.01782 -0.04184 -0.01898 C -0.05278 -0.02963 -0.08056 -0.03426 -0.08056 -0.03426 C -0.1066 -0.05093 -0.08559 -0.03958 -0.14358 -0.04491 C -0.18386 -0.04861 -0.22413 -0.05023 -0.26441 -0.05347 C -0.26927 -0.05486 -0.27413 -0.05602 -0.27899 -0.05764 C -0.28386 -0.05949 -0.29358 -0.06435 -0.29358 -0.06435 C -0.30191 -0.07523 -0.29653 -0.07431 -0.30799 -0.08333 C -0.31146 -0.09653 -0.31511 -0.1081 -0.32257 -0.11806 C -0.32309 -0.12454 -0.32292 -0.13125 -0.32413 -0.1375 C -0.325 -0.1419 -0.33681 -0.16667 -0.33698 -0.16759 C -0.34028 -0.17917 -0.34271 -0.19074 -0.3467 -0.20162 C -0.34827 -0.2287 -0.34861 -0.25833 -0.35643 -0.28333 C -0.34705 -0.29583 -0.35695 -0.28519 -0.34184 -0.29213 C -0.33837 -0.29375 -0.33455 -0.29977 -0.33229 -0.30301 C -0.33056 -0.31528 -0.33056 -0.31852 -0.32743 -0.33102 C -0.32604 -0.33681 -0.32257 -0.34815 -0.32257 -0.34815 C -0.31979 -0.37454 -0.32014 -0.42222 -0.31285 -0.44491 C -0.31163 -0.44861 -0.30643 -0.44607 -0.30313 -0.44699 C -0.24549 -0.4456 -0.21389 -0.44352 -0.16129 -0.43819 C -0.1441 -0.43912 -0.12691 -0.43819 -0.10972 -0.44028 C -0.09896 -0.4419 -0.09549 -0.45486 -0.09028 -0.46435 C -0.08611 -0.47176 -0.07743 -0.47616 -0.07101 -0.47917 C -0.06858 -0.48819 -0.06511 -0.49722 -0.06129 -0.50509 C -0.0599 -0.51968 -0.05799 -0.53727 -0.05 -0.54815 C -0.05122 -0.57199 -0.05261 -0.58982 -0.05643 -0.6125 C -0.05851 -0.69028 -0.05764 -0.64977 -0.06285 -0.6919 C -0.06233 -0.70903 -0.06215 -0.72639 -0.06129 -0.74352 C -0.06042 -0.75972 -0.05643 -0.77616 -0.05643 -0.79306 E">
                                      <p:cBhvr>
                                        <p:cTn id="71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85185E-006 C -0.00643 -0.00139 -0.01302 -0.00162 -0.01927 -0.0044 C -0.03421 -0.01111 -0.04514 -0.02824 -0.05955 -0.03657 C -0.06997 -0.04259 -0.08629 -0.04676 -0.09671 -0.05602 C -0.11684 -0.07407 -0.12014 -0.08333 -0.14671 -0.08819 C -0.15677 -0.09375 -0.1665 -0.10162 -0.17431 -0.1118 C -0.17361 -0.11389 -0.17396 -0.11666 -0.17275 -0.11828 C -0.16997 -0.12199 -0.15608 -0.12616 -0.1533 -0.12685 C -0.15052 -0.12893 -0.1474 -0.13032 -0.14514 -0.13333 C -0.14393 -0.13495 -0.14427 -0.13796 -0.14341 -0.13981 C -0.13646 -0.1537 -0.12813 -0.16666 -0.11927 -0.17847 C -0.1165 -0.1875 -0.11528 -0.19629 -0.11129 -0.2044 C -0.11337 -0.21273 -0.11789 -0.21597 -0.12084 -0.22361 C -0.12587 -0.23657 -0.12952 -0.25741 -0.14028 -0.2625 C -0.14549 -0.27384 -0.15209 -0.27963 -0.15955 -0.28819 C -0.1632 -0.29213 -0.16632 -0.29768 -0.17084 -0.29907 C -0.17674 -0.30069 -0.18282 -0.30046 -0.18872 -0.30116 C -0.19827 -0.30555 -0.20782 -0.31134 -0.21771 -0.31412 C -0.21997 -0.31551 -0.22188 -0.31736 -0.22431 -0.31828 C -0.22674 -0.31944 -0.23039 -0.31759 -0.2323 -0.32037 C -0.23542 -0.325 -0.23698 -0.33773 -0.23698 -0.33773 C -0.2382 -0.36389 -0.23785 -0.3875 -0.24671 -0.41088 C -0.24896 -0.42662 -0.25191 -0.43958 -0.25313 -0.45602 C -0.25209 -0.46389 -0.25382 -0.47361 -0.25018 -0.47963 C -0.2474 -0.48403 -0.24115 -0.48009 -0.23698 -0.48171 C -0.23351 -0.48287 -0.23073 -0.4868 -0.22726 -0.48819 C -0.22032 -0.49514 -0.21476 -0.5037 -0.20643 -0.50764 C -0.19809 -0.51852 -0.19375 -0.52338 -0.18386 -0.53125 C -0.18542 -0.57731 -0.1882 -0.62315 -0.19341 -0.66875 C -0.19549 -0.7537 -0.19514 -0.71504 -0.20018 -0.76342 C -0.24948 -0.7625 -0.3408 -0.77222 -0.39671 -0.75486 C -0.40261 -0.74305 -0.40834 -0.73403 -0.41598 -0.72477 C -0.41997 -0.71991 -0.42743 -0.70972 -0.42743 -0.70972 C -0.4283 -0.70625 -0.42848 -0.70185 -0.43056 -0.69907 C -0.43212 -0.69699 -0.43542 -0.69884 -0.43698 -0.69676 C -0.43907 -0.69398 -0.43872 -0.68935 -0.44028 -0.68611 C -0.4415 -0.68356 -0.44358 -0.68171 -0.44514 -0.67963 C -0.44827 -0.6669 -0.45712 -0.65069 -0.46441 -0.64097 C -0.46493 -0.63819 -0.46511 -0.63518 -0.46598 -0.63241 C -0.46667 -0.63009 -0.46858 -0.62847 -0.46927 -0.62592 C -0.47032 -0.62245 -0.46997 -0.61852 -0.47084 -0.61504 C -0.47257 -0.60787 -0.47587 -0.59977 -0.479 -0.59352 C -0.48143 -0.58379 -0.48386 -0.58102 -0.48542 -0.56991 C -0.47917 -0.54375 -0.48177 -0.51296 -0.46927 -0.49028 C -0.46528 -0.47407 -0.44948 -0.47268 -0.43872 -0.47106 C -0.43091 -0.46041 -0.42205 -0.45046 -0.41129 -0.44514 C -0.38473 -0.40972 -0.40799 -0.44375 -0.40799 -0.3162 C -0.40799 -0.30555 -0.40677 -0.29467 -0.40643 -0.28403 C -0.40539 -0.25602 -0.41146 -0.22477 -0.40157 -0.2 C -0.39948 -0.19467 -0.39514 -0.19143 -0.39184 -0.18703 C -0.39028 -0.18495 -0.38698 -0.18078 -0.38698 -0.18078 C -0.38368 -0.16736 -0.37813 -0.16944 -0.36789 -0.16782 C -0.36198 -0.1625 -0.35504 -0.15764 -0.34844 -0.15486 C -0.34254 -0.14722 -0.34202 -0.14282 -0.33386 -0.14629 C -0.32691 -0.14491 -0.31875 -0.14699 -0.31285 -0.1419 C -0.30573 -0.13588 -0.3099 -0.13819 -0.3 -0.13541 C -0.29046 -0.1294 -0.28073 -0.13009 -0.27084 -0.12477 C -0.26806 -0.11319 -0.26146 -0.09653 -0.25643 -0.08611 C -0.25382 -0.07338 -0.24705 -0.06852 -0.24184 -0.0581 C -0.24028 -0.04097 -0.24046 -0.03912 -0.2323 -0.02801 C -0.23021 -0.01782 -0.22674 -0.01134 -0.22275 -0.00208 C -0.22205 0.0044 -0.22205 0.01088 -0.22084 0.01713 C -0.22032 0.01968 -0.21841 0.02107 -0.21771 0.02361 C -0.21198 0.04884 -0.21997 0.03056 -0.21285 0.04514 C -0.21233 0.04954 -0.2132 0.0544 -0.21129 0.0581 C -0.20365 0.07338 -0.14896 0.07084 -0.14827 0.07084 C -0.13108 0.07338 -0.11372 0.07361 -0.09671 0.07732 C -0.09167 0.07847 -0.08716 0.08241 -0.08212 0.0838 C 0.00294999999999999 0.0794 -0.01146 0.10533 0.00972 0.04722 C 0.00798 0.03519 0.0092 0.0382 0.00486 0.02801 C 0.00329 0.02431 0.00069 0.0213 3.88889E-006 0.01713 C -0.00105 0.01158 3.88889E-006 0.00579 3.88889E-006 -1.85185E-006 Z">
                                      <p:cBhvr>
                                        <p:cTn id="75" dur="5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49 -1.16481 C -0.02361 -1.16203 -0.02796 -1.16041 -0.03004 -1.15625 C -0.03889 -1.13889 -0.04358 -1.11898 -0.05226 -1.10115 C -0.05643 -1.07916 -0.05382 -1.05625 -0.05712 -1.03379 C -0.05573 -1.0125 -0.05834 -0.99004 -0.05226 -0.97014 C -0.04844 -0.9581 -0.03889 -0.93912 -0.03334 -0.92778 C -0.02934 -0.90787 -0.03455 -0.88588 -0.02848 -0.86713 C -0.02327 -0.85023 -0.01546 -0.83403 -0.00938 -0.81782 C -0.00174 -0.79815 0.00121 -0.77569 0.00642 -0.75463 C 0.00538 -0.68865 0.0125 -0.66435 -0.01111 -0.61944 C -0.01407 -0.60717 -0.01667 -0.59467 -0.02379 -0.58565 C -0.02952 -0.56273 -0.04098 -0.54815 -0.0507 -0.52847 C -0.05226 -0.52199 -0.05469 -0.51504 -0.05712 -0.50949 C -0.05886 -0.50509 -0.06337 -0.49676 -0.06337 -0.49653 C -0.06719 -0.47615 -0.06164 -0.50115 -0.0698 -0.47986 C -0.07518 -0.46551 -0.07657 -0.44699 -0.07934 -0.43125 C -0.0816 -0.41898 -0.08403 -0.4081 -0.08559 -0.3956 C -0.08473 -0.36643 -0.08924 -0.30926 -0.07448 -0.28125 C -0.07309 -0.27338 -0.07101 -0.26296 -0.06823 -0.25578 C -0.06389 -0.24398 -0.06181 -0.24444 -0.05712 -0.23495 C -0.05504 -0.23009 -0.05452 -0.2243 -0.05226 -0.2199 C -0.0474 -0.20995 -0.04132 -0.20092 -0.0349 -0.19236 C -0.03316 -0.19004 -0.03282 -0.18657 -0.0316 -0.18379 C -0.02743 -0.17453 -0.025 -0.17083 -0.02049 -0.16273 C -0.01754 -0.14653 -0.01094 -0.12407 -0.00469 -0.10972 C 0.00364 -0.06528 3.88889E-006 -0.07731 3.88889E-006 -2.59259E-006 E">
                                      <p:cBhvr>
                                        <p:cTn id="79" dur="5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08559 -1.08241 C 0.06823 -1.04352 0.05104 -1.00463 0.04445 -0.95995 C 0.03785 -0.91528 0.04948 -0.87523 0.04601 -0.81389 C 0.04254 -0.75324 0.03299 -0.70185 0.02379 -0.59398 C 0.01459 -0.48657 -0.00555 -0.26806 -0.00955 -0.16921 C -0.01354 -0.07014 -0.00156 -0.02824 -1.66667E-006 3.7037E-007 E">
                                      <p:cBhvr>
                                        <p:cTn id="83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 repeatCount="indefinite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0.02049 -1.16481 C -0.02361 -1.16203 -0.02796 -1.16041 -0.03004 -1.15625 C -0.03889 -1.13889 -0.04358 -1.11898 -0.05226 -1.10115 C -0.05643 -1.07916 -0.05382 -1.05625 -0.05712 -1.03379 C -0.05573 -1.0125 -0.05834 -0.99004 -0.05226 -0.97014 C -0.04844 -0.9581 -0.03889 -0.93912 -0.03334 -0.92778 C -0.02934 -0.90787 -0.03455 -0.88588 -0.02848 -0.86713 C -0.02327 -0.85023 -0.01546 -0.83403 -0.00938 -0.81782 C -0.00174 -0.79815 0.00121 -0.77569 0.00642 -0.75463 C 0.00538 -0.68865 0.0125 -0.66435 -0.01111 -0.61944 C -0.01407 -0.60717 -0.01667 -0.59467 -0.02379 -0.58565 C -0.02952 -0.56273 -0.04098 -0.54815 -0.0507 -0.52847 C -0.05226 -0.52199 -0.05469 -0.51504 -0.05712 -0.50949 C -0.05886 -0.50509 -0.06337 -0.49676 -0.06337 -0.49653 C -0.06719 -0.47615 -0.06164 -0.50115 -0.0698 -0.47986 C -0.07518 -0.46551 -0.07657 -0.44699 -0.07934 -0.43125 C -0.0816 -0.41898 -0.08403 -0.4081 -0.08559 -0.3956 C -0.08473 -0.36643 -0.08924 -0.30926 -0.07448 -0.28125 C -0.07309 -0.27338 -0.07101 -0.26296 -0.06823 -0.25578 C -0.06389 -0.24398 -0.06181 -0.24444 -0.05712 -0.23495 C -0.05504 -0.23009 -0.05452 -0.2243 -0.05226 -0.2199 C -0.0474 -0.20995 -0.04132 -0.20092 -0.0349 -0.19236 C -0.03316 -0.19004 -0.03282 -0.18657 -0.0316 -0.18379 C -0.02743 -0.17453 -0.025 -0.17083 -0.02049 -0.16273 C -0.01754 -0.14653 -0.01094 -0.12407 -0.00469 -0.10972 C 0.00364 -0.06528 3.88889E-006 -0.07731 3.88889E-006 -2.59259E-006 E">
                                      <p:cBhvr>
                                        <p:cTn id="87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2049 -1.16481 C -0.02361 -1.16203 -0.02796 -1.16041 -0.03004 -1.15625 C -0.03889 -1.13889 -0.04358 -1.11898 -0.05226 -1.10115 C -0.05643 -1.07916 -0.05382 -1.05625 -0.05712 -1.03379 C -0.05573 -1.0125 -0.05834 -0.99004 -0.05226 -0.97014 C -0.04844 -0.9581 -0.03889 -0.93912 -0.03334 -0.92778 C -0.02934 -0.90787 -0.03455 -0.88588 -0.02848 -0.86713 C -0.02327 -0.85023 -0.01546 -0.83403 -0.00938 -0.81782 C -0.00174 -0.79815 0.00121 -0.77569 0.00642 -0.75463 C 0.00538 -0.68865 0.0125 -0.66435 -0.01111 -0.61944 C -0.01407 -0.60717 -0.01667 -0.59467 -0.02379 -0.58565 C -0.02952 -0.56273 -0.04098 -0.54815 -0.0507 -0.52847 C -0.05226 -0.52199 -0.05469 -0.51504 -0.05712 -0.50949 C -0.05886 -0.50509 -0.06337 -0.49676 -0.06337 -0.49653 C -0.06719 -0.47615 -0.06164 -0.50115 -0.0698 -0.47986 C -0.07518 -0.46551 -0.07657 -0.44699 -0.07934 -0.43125 C -0.0816 -0.41898 -0.08403 -0.4081 -0.08559 -0.3956 C -0.08473 -0.36643 -0.08924 -0.30926 -0.07448 -0.28125 C -0.07309 -0.27338 -0.07101 -0.26296 -0.06823 -0.25578 C -0.06389 -0.24398 -0.06181 -0.24444 -0.05712 -0.23495 C -0.05504 -0.23009 -0.05452 -0.2243 -0.05226 -0.2199 C -0.0474 -0.20995 -0.04132 -0.20092 -0.0349 -0.19236 C -0.03316 -0.19004 -0.03282 -0.18657 -0.0316 -0.18379 C -0.02743 -0.17453 -0.025 -0.17083 -0.02049 -0.16273 C -0.01754 -0.14653 -0.01094 -0.12407 -0.00469 -0.10972 C 0.00364 -0.06528 3.88889E-006 -0.07731 3.88889E-006 -2.59259E-006 E">
                                      <p:cBhvr>
                                        <p:cTn id="91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 repeatCount="indefinite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08559 -1.08241 C 0.06823 -1.04352 0.05104 -1.00463 0.04445 -0.95995 C 0.03785 -0.91528 0.04948 -0.87523 0.04601 -0.81389 C 0.04254 -0.75324 0.03299 -0.70185 0.02379 -0.59398 C 0.01459 -0.48657 -0.00555 -0.26806 -0.00955 -0.16921 C -0.01354 -0.07014 -0.00156 -0.02824 -1.66667E-006 3.7037E-007 E">
                                      <p:cBhvr>
                                        <p:cTn id="95" dur="5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 repeatCount="indefinite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08559 -1.08241 C 0.06823 -1.04352 0.05104 -1.00463 0.04445 -0.95995 C 0.03785 -0.91528 0.04948 -0.87523 0.04601 -0.81389 C 0.04254 -0.75324 0.03299 -0.70185 0.02379 -0.59398 C 0.01459 -0.48657 -0.00555 -0.26806 -0.00955 -0.16921 C -0.01354 -0.07014 -0.00156 -0.02824 -1.66667E-006 3.7037E-007 E">
                                      <p:cBhvr>
                                        <p:cTn id="99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autoRev="1" nodeType="withEffect" fill="hold" presetClass="path" presetID="0" repeatCount="indefinite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2.5E-006 1.48148E-006 C 0.03594 -0.00416 0.07188 -0.00671 0.10782 -0.01041 C 0.10851 -0.04375 0.10365 -0.07847 0.11094 -0.11041 C 0.11459 -0.12615 0.13282 -0.12291 0.14219 -0.125 C 0.16354 -0.13009 0.18316 -0.13727 0.20313 -0.14791 C 0.20556 -0.1574 0.21198 -0.15972 0.21719 -0.16666 C 0.2191 -0.17685 0.22309 -0.18449 0.22657 -0.19375 C 0.22795 -0.21389 0.22934 -0.22407 0.23594 -0.24166 C 0.22639 -0.27963 0.26181 -0.27523 0.27813 -0.28125 C 0.2882 -0.28495 0.29584 -0.29143 0.30625 -0.29375 C 0.31337 -0.30092 0.31632 -0.30393 0.325 -0.30625 C 0.33038 -0.30995 0.33559 -0.31227 0.34063 -0.31666 C 0.35677 -0.35972 0.34358 -0.32199 0.34844 -0.44166 C 0.34861 -0.44583 0.3474 -0.45185 0.35 -0.45416 C 0.35382 -0.45787 0.35938 -0.45555 0.36407 -0.45625 C 0.37622 -0.46157 0.38907 -0.46458 0.40157 -0.46875 C 0.40729 -0.47384 0.41389 -0.47847 0.42032 -0.48125 C 0.42257 -0.50416 0.42604 -0.52708 0.42813 -0.55 C 0.43143 -0.58472 0.42518 -0.57014 0.43282 -0.58541 C 0.43229 -0.6 0.43455 -0.61527 0.43125 -0.62916 C 0.43021 -0.6331 0.42396 -0.62801 0.42188 -0.63125 C 0.41736 -0.63796 0.41788 -0.64884 0.41407 -0.65625 C 0.41216 -0.66875 0.40886 -0.67731 0.40313 -0.6875 C 0.40174 -0.69606 0.39601 -0.70972 0.40469 -0.71666 C 0.40782 -0.71921 0.41198 -0.71805 0.41563 -0.71875 C 0.43525 -0.72916 0.44306 -0.72963 0.46563 -0.73125 C 0.50434 -0.74838 0.47969 -0.83125 0.47969 -0.88125 E">
                                      <p:cBhvr>
                                        <p:cTn id="103" dur="8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 repeatCount="indefinite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0.02049 -1.16481 C -0.02361 -1.16203 -0.02796 -1.16041 -0.03004 -1.15625 C -0.03889 -1.13889 -0.04358 -1.11898 -0.05226 -1.10115 C -0.05643 -1.07916 -0.05382 -1.05625 -0.05712 -1.03379 C -0.05573 -1.0125 -0.05834 -0.99004 -0.05226 -0.97014 C -0.04844 -0.9581 -0.03889 -0.93912 -0.03334 -0.92778 C -0.02934 -0.90787 -0.03455 -0.88588 -0.02848 -0.86713 C -0.02327 -0.85023 -0.01546 -0.83403 -0.00938 -0.81782 C -0.00174 -0.79815 0.00121 -0.77569 0.00642 -0.75463 C 0.00538 -0.68865 0.0125 -0.66435 -0.01111 -0.61944 C -0.01407 -0.60717 -0.01667 -0.59467 -0.02379 -0.58565 C -0.02952 -0.56273 -0.04098 -0.54815 -0.0507 -0.52847 C -0.05226 -0.52199 -0.05469 -0.51504 -0.05712 -0.50949 C -0.05886 -0.50509 -0.06337 -0.49676 -0.06337 -0.49653 C -0.06719 -0.47615 -0.06164 -0.50115 -0.0698 -0.47986 C -0.07518 -0.46551 -0.07657 -0.44699 -0.07934 -0.43125 C -0.0816 -0.41898 -0.08403 -0.4081 -0.08559 -0.3956 C -0.08473 -0.36643 -0.08924 -0.30926 -0.07448 -0.28125 C -0.07309 -0.27338 -0.07101 -0.26296 -0.06823 -0.25578 C -0.06389 -0.24398 -0.06181 -0.24444 -0.05712 -0.23495 C -0.05504 -0.23009 -0.05452 -0.2243 -0.05226 -0.2199 C -0.0474 -0.20995 -0.04132 -0.20092 -0.0349 -0.19236 C -0.03316 -0.19004 -0.03282 -0.18657 -0.0316 -0.18379 C -0.02743 -0.17453 -0.025 -0.17083 -0.02049 -0.16273 C -0.01754 -0.14653 -0.01094 -0.12407 -0.00469 -0.10972 C 0.00364 -0.06528 3.88889E-006 -0.07731 3.88889E-006 -2.59259E-006 E">
                                      <p:cBhvr>
                                        <p:cTn id="107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559 -1.08241 C 0.06823 -1.04352 0.05104 -1.00463 0.04445 -0.95995 C 0.03785 -0.91528 0.04948 -0.87523 0.04601 -0.81389 C 0.04254 -0.75324 0.03299 -0.70185 0.02379 -0.59398 C 0.01459 -0.48657 -0.00555 -0.26806 -0.00955 -0.16921 C -0.01354 -0.07014 -0.00156 -0.02824 -1.66667E-006 3.7037E-007 E">
                                      <p:cBhvr>
                                        <p:cTn id="111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49 -1.16481 C -0.02361 -1.16203 -0.02796 -1.16041 -0.03004 -1.15625 C -0.03889 -1.13889 -0.04358 -1.11898 -0.05226 -1.10115 C -0.05643 -1.07916 -0.05382 -1.05625 -0.05712 -1.03379 C -0.05573 -1.0125 -0.05834 -0.99004 -0.05226 -0.97014 C -0.04844 -0.9581 -0.03889 -0.93912 -0.03334 -0.92778 C -0.02934 -0.90787 -0.03455 -0.88588 -0.02848 -0.86713 C -0.02327 -0.85023 -0.01546 -0.83403 -0.00938 -0.81782 C -0.00174 -0.79815 0.00121 -0.77569 0.00642 -0.75463 C 0.00538 -0.68865 0.0125 -0.66435 -0.01111 -0.61944 C -0.01407 -0.60717 -0.01667 -0.59467 -0.02379 -0.58565 C -0.02952 -0.56273 -0.04098 -0.54815 -0.0507 -0.52847 C -0.05226 -0.52199 -0.05469 -0.51504 -0.05712 -0.50949 C -0.05886 -0.50509 -0.06337 -0.49676 -0.06337 -0.49653 C -0.06719 -0.47615 -0.06164 -0.50115 -0.0698 -0.47986 C -0.07518 -0.46551 -0.07657 -0.44699 -0.07934 -0.43125 C -0.0816 -0.41898 -0.08403 -0.4081 -0.08559 -0.3956 C -0.08473 -0.36643 -0.08924 -0.30926 -0.07448 -0.28125 C -0.07309 -0.27338 -0.07101 -0.26296 -0.06823 -0.25578 C -0.06389 -0.24398 -0.06181 -0.24444 -0.05712 -0.23495 C -0.05504 -0.23009 -0.05452 -0.2243 -0.05226 -0.2199 C -0.0474 -0.20995 -0.04132 -0.20092 -0.0349 -0.19236 C -0.03316 -0.19004 -0.03282 -0.18657 -0.0316 -0.18379 C -0.02743 -0.17453 -0.025 -0.17083 -0.02049 -0.16273 C -0.01754 -0.14653 -0.01094 -0.12407 -0.00469 -0.10972 C 0.00364 -0.06528 3.88889E-006 -0.07731 3.88889E-006 -2.59259E-006 E">
                                      <p:cBhvr>
                                        <p:cTn id="115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16T09:09:4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