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747-F340-4625-AC89-4177EAA9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CB7-7AEC-4342-B735-CCB00998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DF9-D4A4-495D-9B03-3B33A9D5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489-B498-4D11-906E-E4E74985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888-63FE-47BF-AFC2-B98BDB3A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915-51C5-40FD-9FC8-8E5B8F9D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9A9-78E9-4770-8C90-2FA2A5B6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5F5-0200-4E1C-9EA7-609E2129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4DF-55CC-47CE-9D00-EB18841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981-4194-4EC9-9E35-66559DC0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3F4-9F7F-4711-A1D0-54F17D12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AB8-B5E3-4098-A1C9-14314FE6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E2E3-E58D-4A0C-9608-789BEB09EB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43.png"/><Relationship Id="rId21" Type="http://schemas.openxmlformats.org/officeDocument/2006/relationships/image" Target="../media/image44.png"/><Relationship Id="rId22" Type="http://schemas.openxmlformats.org/officeDocument/2006/relationships/image" Target="../media/image45.png"/><Relationship Id="rId23" Type="http://schemas.openxmlformats.org/officeDocument/2006/relationships/image" Target="../media/image46.png"/><Relationship Id="rId24" Type="http://schemas.openxmlformats.org/officeDocument/2006/relationships/image" Target="../media/image47.png"/><Relationship Id="rId25" Type="http://schemas.openxmlformats.org/officeDocument/2006/relationships/image" Target="../media/image48.png"/><Relationship Id="rId26" Type="http://schemas.openxmlformats.org/officeDocument/2006/relationships/image" Target="../media/image49.png"/><Relationship Id="rId2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6"/>
          <p:cNvGrpSpPr/>
          <p:nvPr/>
        </p:nvGrpSpPr>
        <p:grpSpPr>
          <a:xfrm>
            <a:off x="0" y="0"/>
            <a:ext cx="9144000" cy="5715000"/>
            <a:chOff x="0" y="0"/>
            <a:chExt cx="9144000" cy="5715000"/>
          </a:xfrm>
        </p:grpSpPr>
        <p:pic>
          <p:nvPicPr>
            <p:cNvPr id="81" name="图片 3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片 5" descr="2.png"/>
            <p:cNvPicPr/>
            <p:nvPr/>
          </p:nvPicPr>
          <p:blipFill>
            <a:blip r:embed="rId2"/>
            <a:srcRect l="0" t="0" r="0" b="7502"/>
            <a:stretch/>
          </p:blipFill>
          <p:spPr>
            <a:xfrm>
              <a:off x="0" y="71280"/>
              <a:ext cx="9144000" cy="528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矩形 2"/>
          <p:cNvSpPr/>
          <p:nvPr/>
        </p:nvSpPr>
        <p:spPr>
          <a:xfrm>
            <a:off x="2557080" y="747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彩科技金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17240" y="5197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8" descr="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7" descr="6.png"/>
          <p:cNvPicPr/>
          <p:nvPr/>
        </p:nvPicPr>
        <p:blipFill>
          <a:blip r:embed="rId2"/>
          <a:stretch/>
        </p:blipFill>
        <p:spPr>
          <a:xfrm>
            <a:off x="0" y="3456000"/>
            <a:ext cx="9144000" cy="225900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9" descr="7.png"/>
          <p:cNvPicPr/>
          <p:nvPr/>
        </p:nvPicPr>
        <p:blipFill>
          <a:blip r:embed="rId3"/>
          <a:stretch/>
        </p:blipFill>
        <p:spPr>
          <a:xfrm>
            <a:off x="0" y="3456000"/>
            <a:ext cx="9144000" cy="225900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11" descr="8.png"/>
          <p:cNvPicPr/>
          <p:nvPr/>
        </p:nvPicPr>
        <p:blipFill>
          <a:blip r:embed="rId4"/>
          <a:stretch/>
        </p:blipFill>
        <p:spPr>
          <a:xfrm>
            <a:off x="0" y="3263760"/>
            <a:ext cx="9144000" cy="45108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2" descr="8.png"/>
          <p:cNvPicPr/>
          <p:nvPr/>
        </p:nvPicPr>
        <p:blipFill>
          <a:blip r:embed="rId5"/>
          <a:stretch/>
        </p:blipFill>
        <p:spPr>
          <a:xfrm>
            <a:off x="0" y="2819520"/>
            <a:ext cx="9144000" cy="44424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13" descr="9.png"/>
          <p:cNvPicPr/>
          <p:nvPr/>
        </p:nvPicPr>
        <p:blipFill>
          <a:blip r:embed="rId6"/>
          <a:stretch/>
        </p:blipFill>
        <p:spPr>
          <a:xfrm>
            <a:off x="0" y="2798640"/>
            <a:ext cx="9144000" cy="11772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4" descr="9.png"/>
          <p:cNvPicPr/>
          <p:nvPr/>
        </p:nvPicPr>
        <p:blipFill>
          <a:blip r:embed="rId7"/>
          <a:stretch/>
        </p:blipFill>
        <p:spPr>
          <a:xfrm>
            <a:off x="0" y="3713040"/>
            <a:ext cx="9144000" cy="117720"/>
          </a:xfrm>
          <a:prstGeom prst="rect">
            <a:avLst/>
          </a:prstGeom>
          <a:ln w="0">
            <a:noFill/>
          </a:ln>
        </p:spPr>
      </p:pic>
      <p:pic>
        <p:nvPicPr>
          <p:cNvPr id="319" name="TextBox 6" descr=""/>
          <p:cNvPicPr/>
          <p:nvPr/>
        </p:nvPicPr>
        <p:blipFill>
          <a:blip r:embed="rId8"/>
          <a:stretch/>
        </p:blipFill>
        <p:spPr>
          <a:xfrm>
            <a:off x="341280" y="1249200"/>
            <a:ext cx="4048200" cy="543240"/>
          </a:xfrm>
          <a:prstGeom prst="rect">
            <a:avLst/>
          </a:prstGeom>
          <a:ln w="0">
            <a:noFill/>
          </a:ln>
        </p:spPr>
      </p:pic>
      <p:sp>
        <p:nvSpPr>
          <p:cNvPr id="320" name="矩形 12"/>
          <p:cNvSpPr/>
          <p:nvPr/>
        </p:nvSpPr>
        <p:spPr>
          <a:xfrm>
            <a:off x="29196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7"/>
          <p:cNvGrpSpPr/>
          <p:nvPr/>
        </p:nvGrpSpPr>
        <p:grpSpPr>
          <a:xfrm>
            <a:off x="-1500120" y="0"/>
            <a:ext cx="10644120" cy="5715000"/>
            <a:chOff x="-1500120" y="0"/>
            <a:chExt cx="10644120" cy="5715000"/>
          </a:xfrm>
        </p:grpSpPr>
        <p:pic>
          <p:nvPicPr>
            <p:cNvPr id="87" name="图片 5" descr="3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图片 6" descr="5.png"/>
            <p:cNvPicPr/>
            <p:nvPr/>
          </p:nvPicPr>
          <p:blipFill>
            <a:blip r:embed="rId3"/>
            <a:stretch/>
          </p:blipFill>
          <p:spPr>
            <a:xfrm>
              <a:off x="-1500120" y="0"/>
              <a:ext cx="8586360" cy="571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图片 8" descr="4.pn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2.png"/>
          <p:cNvPicPr/>
          <p:nvPr/>
        </p:nvPicPr>
        <p:blipFill>
          <a:blip r:embed="rId5"/>
          <a:srcRect l="0" t="0" r="0" b="7502"/>
          <a:stretch/>
        </p:blipFill>
        <p:spPr>
          <a:xfrm>
            <a:off x="0" y="7308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3" presetSubtype="27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8" descr="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" descr="6.png"/>
          <p:cNvPicPr/>
          <p:nvPr/>
        </p:nvPicPr>
        <p:blipFill>
          <a:blip r:embed="rId2"/>
          <a:stretch/>
        </p:blipFill>
        <p:spPr>
          <a:xfrm>
            <a:off x="0" y="3456000"/>
            <a:ext cx="9144000" cy="2259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" descr="7.png"/>
          <p:cNvPicPr/>
          <p:nvPr/>
        </p:nvPicPr>
        <p:blipFill>
          <a:blip r:embed="rId3"/>
          <a:stretch/>
        </p:blipFill>
        <p:spPr>
          <a:xfrm>
            <a:off x="0" y="3456000"/>
            <a:ext cx="9144000" cy="2259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1" descr="8.png"/>
          <p:cNvPicPr/>
          <p:nvPr/>
        </p:nvPicPr>
        <p:blipFill>
          <a:blip r:embed="rId4"/>
          <a:stretch/>
        </p:blipFill>
        <p:spPr>
          <a:xfrm>
            <a:off x="0" y="3263760"/>
            <a:ext cx="9144000" cy="451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2" descr="8.png"/>
          <p:cNvPicPr/>
          <p:nvPr/>
        </p:nvPicPr>
        <p:blipFill>
          <a:blip r:embed="rId5"/>
          <a:stretch/>
        </p:blipFill>
        <p:spPr>
          <a:xfrm>
            <a:off x="0" y="2819520"/>
            <a:ext cx="9144000" cy="4442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3" descr="9.png"/>
          <p:cNvPicPr/>
          <p:nvPr/>
        </p:nvPicPr>
        <p:blipFill>
          <a:blip r:embed="rId6"/>
          <a:stretch/>
        </p:blipFill>
        <p:spPr>
          <a:xfrm>
            <a:off x="0" y="2798640"/>
            <a:ext cx="9144000" cy="1177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4" descr="9.png"/>
          <p:cNvPicPr/>
          <p:nvPr/>
        </p:nvPicPr>
        <p:blipFill>
          <a:blip r:embed="rId7"/>
          <a:stretch/>
        </p:blipFill>
        <p:spPr>
          <a:xfrm>
            <a:off x="0" y="3713040"/>
            <a:ext cx="9144000" cy="11772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19"/>
          <p:cNvGrpSpPr/>
          <p:nvPr/>
        </p:nvGrpSpPr>
        <p:grpSpPr>
          <a:xfrm>
            <a:off x="522360" y="731880"/>
            <a:ext cx="4049640" cy="1274040"/>
            <a:chOff x="522360" y="731880"/>
            <a:chExt cx="4049640" cy="1274040"/>
          </a:xfrm>
        </p:grpSpPr>
        <p:sp>
          <p:nvSpPr>
            <p:cNvPr id="99" name="TextBox 6"/>
            <p:cNvSpPr/>
            <p:nvPr/>
          </p:nvSpPr>
          <p:spPr>
            <a:xfrm>
              <a:off x="522360" y="731880"/>
              <a:ext cx="40496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7"/>
            <p:cNvSpPr/>
            <p:nvPr/>
          </p:nvSpPr>
          <p:spPr>
            <a:xfrm>
              <a:off x="609480" y="1698840"/>
              <a:ext cx="255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用于商务及相关演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5"/>
          <p:cNvGrpSpPr/>
          <p:nvPr/>
        </p:nvGrpSpPr>
        <p:grpSpPr>
          <a:xfrm>
            <a:off x="2252520" y="1668600"/>
            <a:ext cx="4638960" cy="573120"/>
            <a:chOff x="2252520" y="1668600"/>
            <a:chExt cx="4638960" cy="573120"/>
          </a:xfrm>
        </p:grpSpPr>
        <p:grpSp>
          <p:nvGrpSpPr>
            <p:cNvPr id="102" name="AutoShape 3"/>
            <p:cNvGrpSpPr/>
            <p:nvPr/>
          </p:nvGrpSpPr>
          <p:grpSpPr>
            <a:xfrm>
              <a:off x="2252520" y="1668600"/>
              <a:ext cx="4638960" cy="573120"/>
              <a:chOff x="2252520" y="1668600"/>
              <a:chExt cx="4638960" cy="57312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1668600"/>
                <a:ext cx="463896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342160" y="1719720"/>
                <a:ext cx="445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AutoShape 3"/>
            <p:cNvGrpSpPr/>
            <p:nvPr/>
          </p:nvGrpSpPr>
          <p:grpSpPr>
            <a:xfrm>
              <a:off x="2252520" y="1723320"/>
              <a:ext cx="4638960" cy="503640"/>
              <a:chOff x="2252520" y="1723320"/>
              <a:chExt cx="4638960" cy="503640"/>
            </a:xfrm>
          </p:grpSpPr>
          <p:pic>
            <p:nvPicPr>
              <p:cNvPr id="106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1723320"/>
                <a:ext cx="463896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2333880" y="1782720"/>
                <a:ext cx="447588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组合 5"/>
          <p:cNvGrpSpPr/>
          <p:nvPr/>
        </p:nvGrpSpPr>
        <p:grpSpPr>
          <a:xfrm>
            <a:off x="2252520" y="2541600"/>
            <a:ext cx="4638960" cy="573120"/>
            <a:chOff x="2252520" y="2541600"/>
            <a:chExt cx="4638960" cy="573120"/>
          </a:xfrm>
        </p:grpSpPr>
        <p:grpSp>
          <p:nvGrpSpPr>
            <p:cNvPr id="109" name="AutoShape 3"/>
            <p:cNvGrpSpPr/>
            <p:nvPr/>
          </p:nvGrpSpPr>
          <p:grpSpPr>
            <a:xfrm>
              <a:off x="2252520" y="2541600"/>
              <a:ext cx="4638960" cy="573120"/>
              <a:chOff x="2252520" y="2541600"/>
              <a:chExt cx="4638960" cy="573120"/>
            </a:xfrm>
          </p:grpSpPr>
          <p:pic>
            <p:nvPicPr>
              <p:cNvPr id="11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2520" y="2541600"/>
                <a:ext cx="463896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2342160" y="2593800"/>
                <a:ext cx="445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AutoShape 3"/>
            <p:cNvGrpSpPr/>
            <p:nvPr/>
          </p:nvGrpSpPr>
          <p:grpSpPr>
            <a:xfrm>
              <a:off x="2252520" y="2601360"/>
              <a:ext cx="4638960" cy="498600"/>
              <a:chOff x="2252520" y="2601360"/>
              <a:chExt cx="4638960" cy="498600"/>
            </a:xfrm>
          </p:grpSpPr>
          <p:pic>
            <p:nvPicPr>
              <p:cNvPr id="113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2520" y="2601360"/>
                <a:ext cx="463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2333880" y="2656800"/>
                <a:ext cx="447588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组合 5"/>
          <p:cNvGrpSpPr/>
          <p:nvPr/>
        </p:nvGrpSpPr>
        <p:grpSpPr>
          <a:xfrm>
            <a:off x="2252520" y="3414600"/>
            <a:ext cx="4638960" cy="573120"/>
            <a:chOff x="2252520" y="3414600"/>
            <a:chExt cx="4638960" cy="573120"/>
          </a:xfrm>
        </p:grpSpPr>
        <p:grpSp>
          <p:nvGrpSpPr>
            <p:cNvPr id="116" name="AutoShape 3"/>
            <p:cNvGrpSpPr/>
            <p:nvPr/>
          </p:nvGrpSpPr>
          <p:grpSpPr>
            <a:xfrm>
              <a:off x="2252520" y="3414600"/>
              <a:ext cx="4638960" cy="573120"/>
              <a:chOff x="2252520" y="3414600"/>
              <a:chExt cx="4638960" cy="573120"/>
            </a:xfrm>
          </p:grpSpPr>
          <p:pic>
            <p:nvPicPr>
              <p:cNvPr id="117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52520" y="3414600"/>
                <a:ext cx="463896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2342160" y="3467880"/>
                <a:ext cx="445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AutoShape 3"/>
            <p:cNvGrpSpPr/>
            <p:nvPr/>
          </p:nvGrpSpPr>
          <p:grpSpPr>
            <a:xfrm>
              <a:off x="2252520" y="3474360"/>
              <a:ext cx="4638960" cy="498600"/>
              <a:chOff x="2252520" y="3474360"/>
              <a:chExt cx="4638960" cy="498600"/>
            </a:xfrm>
          </p:grpSpPr>
          <p:pic>
            <p:nvPicPr>
              <p:cNvPr id="120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2520" y="3474360"/>
                <a:ext cx="463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2333880" y="3530880"/>
                <a:ext cx="447588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组合 5"/>
          <p:cNvGrpSpPr/>
          <p:nvPr/>
        </p:nvGrpSpPr>
        <p:grpSpPr>
          <a:xfrm>
            <a:off x="2252520" y="4287960"/>
            <a:ext cx="4638960" cy="573120"/>
            <a:chOff x="2252520" y="4287960"/>
            <a:chExt cx="4638960" cy="573120"/>
          </a:xfrm>
        </p:grpSpPr>
        <p:grpSp>
          <p:nvGrpSpPr>
            <p:cNvPr id="123" name="AutoShape 3"/>
            <p:cNvGrpSpPr/>
            <p:nvPr/>
          </p:nvGrpSpPr>
          <p:grpSpPr>
            <a:xfrm>
              <a:off x="2252520" y="4287960"/>
              <a:ext cx="4638960" cy="573120"/>
              <a:chOff x="2252520" y="4287960"/>
              <a:chExt cx="4638960" cy="573120"/>
            </a:xfrm>
          </p:grpSpPr>
          <p:pic>
            <p:nvPicPr>
              <p:cNvPr id="124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52520" y="4287960"/>
                <a:ext cx="463896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2342160" y="4342680"/>
                <a:ext cx="445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AutoShape 3"/>
            <p:cNvGrpSpPr/>
            <p:nvPr/>
          </p:nvGrpSpPr>
          <p:grpSpPr>
            <a:xfrm>
              <a:off x="2252520" y="4347720"/>
              <a:ext cx="4638960" cy="498600"/>
              <a:chOff x="2252520" y="4347720"/>
              <a:chExt cx="4638960" cy="498600"/>
            </a:xfrm>
          </p:grpSpPr>
          <p:pic>
            <p:nvPicPr>
              <p:cNvPr id="127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52520" y="4347720"/>
                <a:ext cx="463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333880" y="4405680"/>
                <a:ext cx="447588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Box 4"/>
          <p:cNvSpPr/>
          <p:nvPr/>
        </p:nvSpPr>
        <p:spPr>
          <a:xfrm>
            <a:off x="6515280" y="3031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5"/>
          <p:cNvGrpSpPr/>
          <p:nvPr/>
        </p:nvGrpSpPr>
        <p:grpSpPr>
          <a:xfrm>
            <a:off x="2252520" y="2600280"/>
            <a:ext cx="4638960" cy="573120"/>
            <a:chOff x="2252520" y="2600280"/>
            <a:chExt cx="4638960" cy="573120"/>
          </a:xfrm>
        </p:grpSpPr>
        <p:grpSp>
          <p:nvGrpSpPr>
            <p:cNvPr id="131" name="AutoShape 3"/>
            <p:cNvGrpSpPr/>
            <p:nvPr/>
          </p:nvGrpSpPr>
          <p:grpSpPr>
            <a:xfrm>
              <a:off x="2252520" y="2600280"/>
              <a:ext cx="4638960" cy="573120"/>
              <a:chOff x="2252520" y="2600280"/>
              <a:chExt cx="4638960" cy="573120"/>
            </a:xfrm>
          </p:grpSpPr>
          <p:pic>
            <p:nvPicPr>
              <p:cNvPr id="132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600280"/>
                <a:ext cx="463896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2342160" y="2650680"/>
                <a:ext cx="4459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AutoShape 3"/>
            <p:cNvGrpSpPr/>
            <p:nvPr/>
          </p:nvGrpSpPr>
          <p:grpSpPr>
            <a:xfrm>
              <a:off x="2252520" y="2655000"/>
              <a:ext cx="4638960" cy="498600"/>
              <a:chOff x="2252520" y="2655000"/>
              <a:chExt cx="4638960" cy="498600"/>
            </a:xfrm>
          </p:grpSpPr>
          <p:pic>
            <p:nvPicPr>
              <p:cNvPr id="135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55000"/>
                <a:ext cx="463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2333880" y="2713680"/>
                <a:ext cx="447588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4"/>
          <p:cNvSpPr/>
          <p:nvPr/>
        </p:nvSpPr>
        <p:spPr>
          <a:xfrm>
            <a:off x="6515280" y="3031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29196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4"/>
          <p:cNvSpPr/>
          <p:nvPr/>
        </p:nvSpPr>
        <p:spPr>
          <a:xfrm>
            <a:off x="6515280" y="3031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5"/>
          <p:cNvGrpSpPr/>
          <p:nvPr/>
        </p:nvGrpSpPr>
        <p:grpSpPr>
          <a:xfrm>
            <a:off x="714240" y="2062080"/>
            <a:ext cx="7715520" cy="2249640"/>
            <a:chOff x="714240" y="2062080"/>
            <a:chExt cx="7715520" cy="2249640"/>
          </a:xfrm>
        </p:grpSpPr>
        <p:grpSp>
          <p:nvGrpSpPr>
            <p:cNvPr id="141" name="组合 3"/>
            <p:cNvGrpSpPr/>
            <p:nvPr/>
          </p:nvGrpSpPr>
          <p:grpSpPr>
            <a:xfrm>
              <a:off x="714240" y="2062080"/>
              <a:ext cx="7715520" cy="2249640"/>
              <a:chOff x="714240" y="2062080"/>
              <a:chExt cx="7715520" cy="2249640"/>
            </a:xfrm>
          </p:grpSpPr>
          <p:grpSp>
            <p:nvGrpSpPr>
              <p:cNvPr id="142" name="AutoShape 3"/>
              <p:cNvGrpSpPr/>
              <p:nvPr/>
            </p:nvGrpSpPr>
            <p:grpSpPr>
              <a:xfrm>
                <a:off x="714240" y="2062080"/>
                <a:ext cx="7715520" cy="2249640"/>
                <a:chOff x="714240" y="2062080"/>
                <a:chExt cx="7715520" cy="2249640"/>
              </a:xfrm>
            </p:grpSpPr>
            <p:pic>
              <p:nvPicPr>
                <p:cNvPr id="143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14240" y="2062080"/>
                  <a:ext cx="7715520" cy="224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"/>
                <p:cNvSpPr/>
                <p:nvPr/>
              </p:nvSpPr>
              <p:spPr>
                <a:xfrm>
                  <a:off x="797040" y="2113560"/>
                  <a:ext cx="7549920" cy="20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AutoShape 3"/>
              <p:cNvGrpSpPr/>
              <p:nvPr/>
            </p:nvGrpSpPr>
            <p:grpSpPr>
              <a:xfrm>
                <a:off x="720000" y="2177280"/>
                <a:ext cx="7703640" cy="2018880"/>
                <a:chOff x="720000" y="2177280"/>
                <a:chExt cx="7703640" cy="2018880"/>
              </a:xfrm>
            </p:grpSpPr>
            <p:pic>
              <p:nvPicPr>
                <p:cNvPr id="14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0000" y="2177280"/>
                  <a:ext cx="7703640" cy="2018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>
                  <a:off x="799560" y="2224800"/>
                  <a:ext cx="7544160" cy="18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Text Box 11"/>
            <p:cNvSpPr/>
            <p:nvPr/>
          </p:nvSpPr>
          <p:spPr>
            <a:xfrm>
              <a:off x="840960" y="2306520"/>
              <a:ext cx="7517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4"/>
          <p:cNvSpPr/>
          <p:nvPr/>
        </p:nvSpPr>
        <p:spPr>
          <a:xfrm>
            <a:off x="6515280" y="3031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68"/>
          <p:cNvGrpSpPr/>
          <p:nvPr/>
        </p:nvGrpSpPr>
        <p:grpSpPr>
          <a:xfrm>
            <a:off x="3819600" y="2465280"/>
            <a:ext cx="1503360" cy="1538280"/>
            <a:chOff x="3819600" y="2465280"/>
            <a:chExt cx="1503360" cy="1538280"/>
          </a:xfrm>
        </p:grpSpPr>
        <p:grpSp>
          <p:nvGrpSpPr>
            <p:cNvPr id="151" name="组合 31"/>
            <p:cNvGrpSpPr/>
            <p:nvPr/>
          </p:nvGrpSpPr>
          <p:grpSpPr>
            <a:xfrm>
              <a:off x="3819600" y="2465280"/>
              <a:ext cx="1503360" cy="1538280"/>
              <a:chOff x="3819600" y="2465280"/>
              <a:chExt cx="1503360" cy="1538280"/>
            </a:xfrm>
          </p:grpSpPr>
          <p:grpSp>
            <p:nvGrpSpPr>
              <p:cNvPr id="152" name="Oval 93"/>
              <p:cNvGrpSpPr/>
              <p:nvPr/>
            </p:nvGrpSpPr>
            <p:grpSpPr>
              <a:xfrm>
                <a:off x="3819600" y="2465280"/>
                <a:ext cx="1503360" cy="1538280"/>
                <a:chOff x="3819600" y="2465280"/>
                <a:chExt cx="1503360" cy="1538280"/>
              </a:xfrm>
            </p:grpSpPr>
            <p:pic>
              <p:nvPicPr>
                <p:cNvPr id="153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19600" y="2465280"/>
                  <a:ext cx="1503360" cy="15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081320" y="2708640"/>
                  <a:ext cx="978120" cy="100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Oval 94"/>
              <p:cNvGrpSpPr/>
              <p:nvPr/>
            </p:nvGrpSpPr>
            <p:grpSpPr>
              <a:xfrm>
                <a:off x="3870000" y="2515680"/>
                <a:ext cx="1318320" cy="1336320"/>
                <a:chOff x="3870000" y="2515680"/>
                <a:chExt cx="1318320" cy="1336320"/>
              </a:xfrm>
            </p:grpSpPr>
            <p:pic>
              <p:nvPicPr>
                <p:cNvPr id="156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70000" y="2515680"/>
                  <a:ext cx="1318320" cy="13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4108680" y="2726640"/>
                  <a:ext cx="843120" cy="86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Text Box 18"/>
            <p:cNvSpPr/>
            <p:nvPr/>
          </p:nvSpPr>
          <p:spPr>
            <a:xfrm>
              <a:off x="3894120" y="286668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67"/>
          <p:cNvGrpSpPr/>
          <p:nvPr/>
        </p:nvGrpSpPr>
        <p:grpSpPr>
          <a:xfrm>
            <a:off x="1781280" y="1530360"/>
            <a:ext cx="2657520" cy="1066680"/>
            <a:chOff x="1781280" y="1530360"/>
            <a:chExt cx="2657520" cy="1066680"/>
          </a:xfrm>
        </p:grpSpPr>
        <p:grpSp>
          <p:nvGrpSpPr>
            <p:cNvPr id="160" name="组合 8"/>
            <p:cNvGrpSpPr/>
            <p:nvPr/>
          </p:nvGrpSpPr>
          <p:grpSpPr>
            <a:xfrm>
              <a:off x="1781280" y="1530360"/>
              <a:ext cx="2657520" cy="1066680"/>
              <a:chOff x="1781280" y="1530360"/>
              <a:chExt cx="2657520" cy="1066680"/>
            </a:xfrm>
          </p:grpSpPr>
          <p:grpSp>
            <p:nvGrpSpPr>
              <p:cNvPr id="161" name="组合 76"/>
              <p:cNvGrpSpPr/>
              <p:nvPr/>
            </p:nvGrpSpPr>
            <p:grpSpPr>
              <a:xfrm>
                <a:off x="1781280" y="1530360"/>
                <a:ext cx="2657520" cy="1066680"/>
                <a:chOff x="1781280" y="1530360"/>
                <a:chExt cx="2657520" cy="1066680"/>
              </a:xfrm>
            </p:grpSpPr>
            <p:grpSp>
              <p:nvGrpSpPr>
                <p:cNvPr id="162" name="AutoShape 73"/>
                <p:cNvGrpSpPr/>
                <p:nvPr/>
              </p:nvGrpSpPr>
              <p:grpSpPr>
                <a:xfrm>
                  <a:off x="3539880" y="1683720"/>
                  <a:ext cx="898920" cy="913320"/>
                  <a:chOff x="3539880" y="1683720"/>
                  <a:chExt cx="898920" cy="913320"/>
                </a:xfrm>
              </p:grpSpPr>
              <p:pic>
                <p:nvPicPr>
                  <p:cNvPr id="163" name="AutoShape 7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9880" y="1683720"/>
                    <a:ext cx="898920" cy="9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Text Box 111"/>
                  <p:cNvSpPr/>
                  <p:nvPr/>
                </p:nvSpPr>
                <p:spPr>
                  <a:xfrm rot="2700000">
                    <a:off x="3752640" y="1767960"/>
                    <a:ext cx="473760" cy="74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圆角矩形 14"/>
                <p:cNvGrpSpPr/>
                <p:nvPr/>
              </p:nvGrpSpPr>
              <p:grpSpPr>
                <a:xfrm>
                  <a:off x="1781280" y="1530360"/>
                  <a:ext cx="2008080" cy="812160"/>
                  <a:chOff x="1781280" y="1530360"/>
                  <a:chExt cx="2008080" cy="812160"/>
                </a:xfrm>
              </p:grpSpPr>
              <p:pic>
                <p:nvPicPr>
                  <p:cNvPr id="166" name="圆角矩形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1530360"/>
                    <a:ext cx="2008080" cy="8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"/>
                  <p:cNvSpPr/>
                  <p:nvPr/>
                </p:nvSpPr>
                <p:spPr>
                  <a:xfrm>
                    <a:off x="1802880" y="1551240"/>
                    <a:ext cx="1962720" cy="76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组合 28"/>
              <p:cNvGrpSpPr/>
              <p:nvPr/>
            </p:nvGrpSpPr>
            <p:grpSpPr>
              <a:xfrm>
                <a:off x="3288960" y="1530360"/>
                <a:ext cx="702000" cy="719280"/>
                <a:chOff x="3288960" y="1530360"/>
                <a:chExt cx="702000" cy="719280"/>
              </a:xfrm>
            </p:grpSpPr>
            <p:grpSp>
              <p:nvGrpSpPr>
                <p:cNvPr id="169" name="椭圆 11"/>
                <p:cNvGrpSpPr/>
                <p:nvPr/>
              </p:nvGrpSpPr>
              <p:grpSpPr>
                <a:xfrm>
                  <a:off x="3288960" y="1530360"/>
                  <a:ext cx="702000" cy="719280"/>
                  <a:chOff x="3288960" y="1530360"/>
                  <a:chExt cx="702000" cy="719280"/>
                </a:xfrm>
              </p:grpSpPr>
              <p:pic>
                <p:nvPicPr>
                  <p:cNvPr id="170" name="椭圆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88960" y="1530360"/>
                    <a:ext cx="7020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3429000" y="1650960"/>
                    <a:ext cx="417240" cy="4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椭圆 117"/>
                <p:cNvGrpSpPr/>
                <p:nvPr/>
              </p:nvGrpSpPr>
              <p:grpSpPr>
                <a:xfrm>
                  <a:off x="3304080" y="1545840"/>
                  <a:ext cx="620280" cy="631440"/>
                  <a:chOff x="3304080" y="1545840"/>
                  <a:chExt cx="620280" cy="631440"/>
                </a:xfrm>
              </p:grpSpPr>
              <p:pic>
                <p:nvPicPr>
                  <p:cNvPr id="173" name="椭圆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04080" y="1545840"/>
                    <a:ext cx="620280" cy="63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4" name=""/>
                  <p:cNvSpPr/>
                  <p:nvPr/>
                </p:nvSpPr>
                <p:spPr>
                  <a:xfrm>
                    <a:off x="3435480" y="1655640"/>
                    <a:ext cx="35676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5" name="Text Box 18"/>
            <p:cNvSpPr/>
            <p:nvPr/>
          </p:nvSpPr>
          <p:spPr>
            <a:xfrm>
              <a:off x="1861920" y="17287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6"/>
            <p:cNvSpPr/>
            <p:nvPr/>
          </p:nvSpPr>
          <p:spPr>
            <a:xfrm>
              <a:off x="3425760" y="17208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69"/>
          <p:cNvGrpSpPr/>
          <p:nvPr/>
        </p:nvGrpSpPr>
        <p:grpSpPr>
          <a:xfrm>
            <a:off x="4815000" y="1530360"/>
            <a:ext cx="2522520" cy="1177920"/>
            <a:chOff x="4815000" y="1530360"/>
            <a:chExt cx="2522520" cy="1177920"/>
          </a:xfrm>
        </p:grpSpPr>
        <p:grpSp>
          <p:nvGrpSpPr>
            <p:cNvPr id="178" name="组合 62"/>
            <p:cNvGrpSpPr/>
            <p:nvPr/>
          </p:nvGrpSpPr>
          <p:grpSpPr>
            <a:xfrm>
              <a:off x="4815000" y="1530360"/>
              <a:ext cx="2522520" cy="1177920"/>
              <a:chOff x="4815000" y="1530360"/>
              <a:chExt cx="2522520" cy="1177920"/>
            </a:xfrm>
          </p:grpSpPr>
          <p:grpSp>
            <p:nvGrpSpPr>
              <p:cNvPr id="179" name="组合 48"/>
              <p:cNvGrpSpPr/>
              <p:nvPr/>
            </p:nvGrpSpPr>
            <p:grpSpPr>
              <a:xfrm>
                <a:off x="4815000" y="1530360"/>
                <a:ext cx="2522520" cy="1177920"/>
                <a:chOff x="4815000" y="1530360"/>
                <a:chExt cx="2522520" cy="1177920"/>
              </a:xfrm>
            </p:grpSpPr>
            <p:grpSp>
              <p:nvGrpSpPr>
                <p:cNvPr id="180" name="组合 74"/>
                <p:cNvGrpSpPr/>
                <p:nvPr/>
              </p:nvGrpSpPr>
              <p:grpSpPr>
                <a:xfrm>
                  <a:off x="4815000" y="1530360"/>
                  <a:ext cx="2522520" cy="1177920"/>
                  <a:chOff x="4815000" y="1530360"/>
                  <a:chExt cx="2522520" cy="1177920"/>
                </a:xfrm>
              </p:grpSpPr>
              <p:grpSp>
                <p:nvGrpSpPr>
                  <p:cNvPr id="181" name="AutoShape 67"/>
                  <p:cNvGrpSpPr/>
                  <p:nvPr/>
                </p:nvGrpSpPr>
                <p:grpSpPr>
                  <a:xfrm>
                    <a:off x="4815000" y="1568160"/>
                    <a:ext cx="1159560" cy="1140120"/>
                    <a:chOff x="4815000" y="1568160"/>
                    <a:chExt cx="1159560" cy="1140120"/>
                  </a:xfrm>
                </p:grpSpPr>
                <p:pic>
                  <p:nvPicPr>
                    <p:cNvPr id="182" name="AutoShape 6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815000" y="1568160"/>
                      <a:ext cx="1159560" cy="114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"/>
                    <p:cNvSpPr/>
                    <p:nvPr/>
                  </p:nvSpPr>
                  <p:spPr>
                    <a:xfrm rot="18900000">
                      <a:off x="5313240" y="1718640"/>
                      <a:ext cx="390240" cy="616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圆角矩形 54"/>
                  <p:cNvGrpSpPr/>
                  <p:nvPr/>
                </p:nvGrpSpPr>
                <p:grpSpPr>
                  <a:xfrm>
                    <a:off x="5655960" y="1530360"/>
                    <a:ext cx="1681560" cy="659160"/>
                    <a:chOff x="5655960" y="1530360"/>
                    <a:chExt cx="1681560" cy="659160"/>
                  </a:xfrm>
                </p:grpSpPr>
                <p:pic>
                  <p:nvPicPr>
                    <p:cNvPr id="185" name="圆角矩形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55960" y="1530360"/>
                      <a:ext cx="1681560" cy="6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5674680" y="1547280"/>
                      <a:ext cx="1643760" cy="623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7" name="组合 44"/>
                <p:cNvGrpSpPr/>
                <p:nvPr/>
              </p:nvGrpSpPr>
              <p:grpSpPr>
                <a:xfrm>
                  <a:off x="5128920" y="1530360"/>
                  <a:ext cx="702000" cy="718200"/>
                  <a:chOff x="5128920" y="1530360"/>
                  <a:chExt cx="702000" cy="718200"/>
                </a:xfrm>
              </p:grpSpPr>
              <p:grpSp>
                <p:nvGrpSpPr>
                  <p:cNvPr id="188" name="椭圆 51"/>
                  <p:cNvGrpSpPr/>
                  <p:nvPr/>
                </p:nvGrpSpPr>
                <p:grpSpPr>
                  <a:xfrm>
                    <a:off x="5128920" y="1530360"/>
                    <a:ext cx="702000" cy="718200"/>
                    <a:chOff x="5128920" y="1530360"/>
                    <a:chExt cx="702000" cy="718200"/>
                  </a:xfrm>
                </p:grpSpPr>
                <p:pic>
                  <p:nvPicPr>
                    <p:cNvPr id="189" name="椭圆 5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28920" y="1530360"/>
                      <a:ext cx="702000" cy="71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272560" y="1650600"/>
                      <a:ext cx="414360" cy="43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" name="椭圆 117"/>
                  <p:cNvGrpSpPr/>
                  <p:nvPr/>
                </p:nvGrpSpPr>
                <p:grpSpPr>
                  <a:xfrm>
                    <a:off x="5149080" y="1545840"/>
                    <a:ext cx="615600" cy="630360"/>
                    <a:chOff x="5149080" y="1545840"/>
                    <a:chExt cx="615600" cy="630360"/>
                  </a:xfrm>
                </p:grpSpPr>
                <p:pic>
                  <p:nvPicPr>
                    <p:cNvPr id="192" name="椭圆 11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9080" y="1545840"/>
                      <a:ext cx="61560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5277960" y="1655280"/>
                      <a:ext cx="355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94" name="Rectangle 26"/>
              <p:cNvSpPr/>
              <p:nvPr/>
            </p:nvSpPr>
            <p:spPr>
              <a:xfrm>
                <a:off x="5275080" y="17208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18"/>
            <p:cNvSpPr/>
            <p:nvPr/>
          </p:nvSpPr>
          <p:spPr>
            <a:xfrm>
              <a:off x="5878440" y="1728720"/>
              <a:ext cx="144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70"/>
          <p:cNvGrpSpPr/>
          <p:nvPr/>
        </p:nvGrpSpPr>
        <p:grpSpPr>
          <a:xfrm>
            <a:off x="5398920" y="2728800"/>
            <a:ext cx="2637000" cy="1011240"/>
            <a:chOff x="5398920" y="2728800"/>
            <a:chExt cx="2637000" cy="1011240"/>
          </a:xfrm>
        </p:grpSpPr>
        <p:grpSp>
          <p:nvGrpSpPr>
            <p:cNvPr id="197" name="组合 63"/>
            <p:cNvGrpSpPr/>
            <p:nvPr/>
          </p:nvGrpSpPr>
          <p:grpSpPr>
            <a:xfrm>
              <a:off x="5398920" y="2728800"/>
              <a:ext cx="2637000" cy="1011240"/>
              <a:chOff x="5398920" y="2728800"/>
              <a:chExt cx="2637000" cy="1011240"/>
            </a:xfrm>
          </p:grpSpPr>
          <p:grpSp>
            <p:nvGrpSpPr>
              <p:cNvPr id="198" name="组合 39"/>
              <p:cNvGrpSpPr/>
              <p:nvPr/>
            </p:nvGrpSpPr>
            <p:grpSpPr>
              <a:xfrm>
                <a:off x="5398920" y="2728800"/>
                <a:ext cx="2637000" cy="1011240"/>
                <a:chOff x="5398920" y="2728800"/>
                <a:chExt cx="2637000" cy="1011240"/>
              </a:xfrm>
            </p:grpSpPr>
            <p:grpSp>
              <p:nvGrpSpPr>
                <p:cNvPr id="199" name="组合 60"/>
                <p:cNvGrpSpPr/>
                <p:nvPr/>
              </p:nvGrpSpPr>
              <p:grpSpPr>
                <a:xfrm>
                  <a:off x="5398920" y="2728800"/>
                  <a:ext cx="2637000" cy="1011240"/>
                  <a:chOff x="5398920" y="2728800"/>
                  <a:chExt cx="2637000" cy="1011240"/>
                </a:xfrm>
              </p:grpSpPr>
              <p:grpSp>
                <p:nvGrpSpPr>
                  <p:cNvPr id="200" name="AutoShape 49"/>
                  <p:cNvGrpSpPr/>
                  <p:nvPr/>
                </p:nvGrpSpPr>
                <p:grpSpPr>
                  <a:xfrm>
                    <a:off x="5398920" y="2728800"/>
                    <a:ext cx="788760" cy="1011240"/>
                    <a:chOff x="5398920" y="2728800"/>
                    <a:chExt cx="788760" cy="1011240"/>
                  </a:xfrm>
                </p:grpSpPr>
                <p:pic>
                  <p:nvPicPr>
                    <p:cNvPr id="201" name="AutoShape 4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398920" y="2728800"/>
                      <a:ext cx="788760" cy="101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5779800" y="2889720"/>
                      <a:ext cx="394200" cy="690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" name="圆角矩形 47"/>
                  <p:cNvGrpSpPr/>
                  <p:nvPr/>
                </p:nvGrpSpPr>
                <p:grpSpPr>
                  <a:xfrm>
                    <a:off x="6187680" y="2870640"/>
                    <a:ext cx="1848240" cy="727560"/>
                    <a:chOff x="6187680" y="2870640"/>
                    <a:chExt cx="1848240" cy="727560"/>
                  </a:xfrm>
                </p:grpSpPr>
                <p:pic>
                  <p:nvPicPr>
                    <p:cNvPr id="204" name="圆角矩形 4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87680" y="2870640"/>
                      <a:ext cx="1848240" cy="72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6211800" y="2892600"/>
                      <a:ext cx="1800360" cy="684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" name="组合 41"/>
                <p:cNvGrpSpPr/>
                <p:nvPr/>
              </p:nvGrpSpPr>
              <p:grpSpPr>
                <a:xfrm>
                  <a:off x="5838480" y="2875320"/>
                  <a:ext cx="702000" cy="717840"/>
                  <a:chOff x="5838480" y="2875320"/>
                  <a:chExt cx="702000" cy="717840"/>
                </a:xfrm>
              </p:grpSpPr>
              <p:grpSp>
                <p:nvGrpSpPr>
                  <p:cNvPr id="207" name="椭圆 42"/>
                  <p:cNvGrpSpPr/>
                  <p:nvPr/>
                </p:nvGrpSpPr>
                <p:grpSpPr>
                  <a:xfrm>
                    <a:off x="5838480" y="2875320"/>
                    <a:ext cx="702000" cy="717840"/>
                    <a:chOff x="5838480" y="2875320"/>
                    <a:chExt cx="702000" cy="717840"/>
                  </a:xfrm>
                </p:grpSpPr>
                <p:pic>
                  <p:nvPicPr>
                    <p:cNvPr id="208" name="椭圆 4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838480" y="2875320"/>
                      <a:ext cx="702000" cy="71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979960" y="2994840"/>
                      <a:ext cx="41724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椭圆 117"/>
                  <p:cNvGrpSpPr/>
                  <p:nvPr/>
                </p:nvGrpSpPr>
                <p:grpSpPr>
                  <a:xfrm>
                    <a:off x="5853600" y="2890800"/>
                    <a:ext cx="620280" cy="634680"/>
                    <a:chOff x="5853600" y="2890800"/>
                    <a:chExt cx="620280" cy="634680"/>
                  </a:xfrm>
                </p:grpSpPr>
                <p:pic>
                  <p:nvPicPr>
                    <p:cNvPr id="211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53600" y="2890800"/>
                      <a:ext cx="620280" cy="63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5986080" y="2998800"/>
                      <a:ext cx="356760" cy="371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3" name="Rectangle 26"/>
              <p:cNvSpPr/>
              <p:nvPr/>
            </p:nvSpPr>
            <p:spPr>
              <a:xfrm>
                <a:off x="5974560" y="3054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Text Box 18"/>
            <p:cNvSpPr/>
            <p:nvPr/>
          </p:nvSpPr>
          <p:spPr>
            <a:xfrm>
              <a:off x="6548400" y="30733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6"/>
          <p:cNvGrpSpPr/>
          <p:nvPr/>
        </p:nvGrpSpPr>
        <p:grpSpPr>
          <a:xfrm>
            <a:off x="1093680" y="2728800"/>
            <a:ext cx="2648160" cy="1011240"/>
            <a:chOff x="1093680" y="2728800"/>
            <a:chExt cx="2648160" cy="1011240"/>
          </a:xfrm>
        </p:grpSpPr>
        <p:grpSp>
          <p:nvGrpSpPr>
            <p:cNvPr id="216" name="组合 15"/>
            <p:cNvGrpSpPr/>
            <p:nvPr/>
          </p:nvGrpSpPr>
          <p:grpSpPr>
            <a:xfrm>
              <a:off x="1093680" y="2728800"/>
              <a:ext cx="2648160" cy="1011240"/>
              <a:chOff x="1093680" y="2728800"/>
              <a:chExt cx="2648160" cy="1011240"/>
            </a:xfrm>
          </p:grpSpPr>
          <p:grpSp>
            <p:nvGrpSpPr>
              <p:cNvPr id="217" name="组合 57"/>
              <p:cNvGrpSpPr/>
              <p:nvPr/>
            </p:nvGrpSpPr>
            <p:grpSpPr>
              <a:xfrm>
                <a:off x="1093680" y="2728800"/>
                <a:ext cx="2648160" cy="1011240"/>
                <a:chOff x="1093680" y="2728800"/>
                <a:chExt cx="2648160" cy="1011240"/>
              </a:xfrm>
            </p:grpSpPr>
            <p:grpSp>
              <p:nvGrpSpPr>
                <p:cNvPr id="218" name="AutoShape 71"/>
                <p:cNvGrpSpPr/>
                <p:nvPr/>
              </p:nvGrpSpPr>
              <p:grpSpPr>
                <a:xfrm>
                  <a:off x="2951640" y="2728800"/>
                  <a:ext cx="790200" cy="1011240"/>
                  <a:chOff x="2951640" y="2728800"/>
                  <a:chExt cx="790200" cy="1011240"/>
                </a:xfrm>
              </p:grpSpPr>
              <p:pic>
                <p:nvPicPr>
                  <p:cNvPr id="219" name="AutoShape 7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51640" y="2728800"/>
                    <a:ext cx="79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" name=""/>
                  <p:cNvSpPr/>
                  <p:nvPr/>
                </p:nvSpPr>
                <p:spPr>
                  <a:xfrm>
                    <a:off x="2968200" y="2889720"/>
                    <a:ext cx="428040" cy="69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圆角矩形 21"/>
                <p:cNvGrpSpPr/>
                <p:nvPr/>
              </p:nvGrpSpPr>
              <p:grpSpPr>
                <a:xfrm>
                  <a:off x="1093680" y="2870640"/>
                  <a:ext cx="1846080" cy="727560"/>
                  <a:chOff x="1093680" y="2870640"/>
                  <a:chExt cx="1846080" cy="727560"/>
                </a:xfrm>
              </p:grpSpPr>
              <p:pic>
                <p:nvPicPr>
                  <p:cNvPr id="222" name="圆角矩形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93680" y="2870640"/>
                    <a:ext cx="1846080" cy="7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3" name=""/>
                  <p:cNvSpPr/>
                  <p:nvPr/>
                </p:nvSpPr>
                <p:spPr>
                  <a:xfrm>
                    <a:off x="1114920" y="2892600"/>
                    <a:ext cx="1804320" cy="684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" name="组合 24"/>
              <p:cNvGrpSpPr/>
              <p:nvPr/>
            </p:nvGrpSpPr>
            <p:grpSpPr>
              <a:xfrm>
                <a:off x="2601360" y="2875320"/>
                <a:ext cx="702000" cy="717840"/>
                <a:chOff x="2601360" y="2875320"/>
                <a:chExt cx="702000" cy="717840"/>
              </a:xfrm>
            </p:grpSpPr>
            <p:grpSp>
              <p:nvGrpSpPr>
                <p:cNvPr id="225" name="椭圆 18"/>
                <p:cNvGrpSpPr/>
                <p:nvPr/>
              </p:nvGrpSpPr>
              <p:grpSpPr>
                <a:xfrm>
                  <a:off x="2601360" y="2875320"/>
                  <a:ext cx="702000" cy="717840"/>
                  <a:chOff x="2601360" y="2875320"/>
                  <a:chExt cx="702000" cy="717840"/>
                </a:xfrm>
              </p:grpSpPr>
              <p:pic>
                <p:nvPicPr>
                  <p:cNvPr id="226" name="椭圆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01360" y="2875320"/>
                    <a:ext cx="70200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7" name=""/>
                  <p:cNvSpPr/>
                  <p:nvPr/>
                </p:nvSpPr>
                <p:spPr>
                  <a:xfrm>
                    <a:off x="2742480" y="2994840"/>
                    <a:ext cx="417240" cy="43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椭圆 117"/>
                <p:cNvGrpSpPr/>
                <p:nvPr/>
              </p:nvGrpSpPr>
              <p:grpSpPr>
                <a:xfrm>
                  <a:off x="2616480" y="2890800"/>
                  <a:ext cx="620280" cy="634680"/>
                  <a:chOff x="2616480" y="2890800"/>
                  <a:chExt cx="620280" cy="634680"/>
                </a:xfrm>
              </p:grpSpPr>
              <p:pic>
                <p:nvPicPr>
                  <p:cNvPr id="229" name="椭圆 1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16480" y="2890800"/>
                    <a:ext cx="62028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0" name=""/>
                  <p:cNvSpPr/>
                  <p:nvPr/>
                </p:nvSpPr>
                <p:spPr>
                  <a:xfrm>
                    <a:off x="2748960" y="2998800"/>
                    <a:ext cx="356760" cy="37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Text Box 18"/>
            <p:cNvSpPr/>
            <p:nvPr/>
          </p:nvSpPr>
          <p:spPr>
            <a:xfrm>
              <a:off x="1206360" y="307332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2736720" y="3055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65"/>
          <p:cNvGrpSpPr/>
          <p:nvPr/>
        </p:nvGrpSpPr>
        <p:grpSpPr>
          <a:xfrm>
            <a:off x="1781280" y="3767040"/>
            <a:ext cx="2541600" cy="1163880"/>
            <a:chOff x="1781280" y="3767040"/>
            <a:chExt cx="2541600" cy="1163880"/>
          </a:xfrm>
        </p:grpSpPr>
        <p:grpSp>
          <p:nvGrpSpPr>
            <p:cNvPr id="234" name="组合 22"/>
            <p:cNvGrpSpPr/>
            <p:nvPr/>
          </p:nvGrpSpPr>
          <p:grpSpPr>
            <a:xfrm>
              <a:off x="1781280" y="3767040"/>
              <a:ext cx="2541600" cy="1163880"/>
              <a:chOff x="1781280" y="3767040"/>
              <a:chExt cx="2541600" cy="1163880"/>
            </a:xfrm>
          </p:grpSpPr>
          <p:grpSp>
            <p:nvGrpSpPr>
              <p:cNvPr id="235" name="组合 78"/>
              <p:cNvGrpSpPr/>
              <p:nvPr/>
            </p:nvGrpSpPr>
            <p:grpSpPr>
              <a:xfrm>
                <a:off x="1781280" y="3767040"/>
                <a:ext cx="2541600" cy="1163880"/>
                <a:chOff x="1781280" y="3767040"/>
                <a:chExt cx="2541600" cy="1163880"/>
              </a:xfrm>
            </p:grpSpPr>
            <p:grpSp>
              <p:nvGrpSpPr>
                <p:cNvPr id="236" name="AutoShape 75"/>
                <p:cNvGrpSpPr/>
                <p:nvPr/>
              </p:nvGrpSpPr>
              <p:grpSpPr>
                <a:xfrm>
                  <a:off x="3153600" y="3767040"/>
                  <a:ext cx="1169280" cy="1153080"/>
                  <a:chOff x="3153600" y="3767040"/>
                  <a:chExt cx="1169280" cy="1153080"/>
                </a:xfrm>
              </p:grpSpPr>
              <p:pic>
                <p:nvPicPr>
                  <p:cNvPr id="237" name="AutoShape 7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153600" y="3767040"/>
                    <a:ext cx="1169280" cy="11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8" name=""/>
                  <p:cNvSpPr/>
                  <p:nvPr/>
                </p:nvSpPr>
                <p:spPr>
                  <a:xfrm rot="18900000">
                    <a:off x="3436920" y="4132080"/>
                    <a:ext cx="371880" cy="64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圆角矩形 31"/>
                <p:cNvGrpSpPr/>
                <p:nvPr/>
              </p:nvGrpSpPr>
              <p:grpSpPr>
                <a:xfrm>
                  <a:off x="1781280" y="4270320"/>
                  <a:ext cx="1679760" cy="660600"/>
                  <a:chOff x="1781280" y="4270320"/>
                  <a:chExt cx="1679760" cy="660600"/>
                </a:xfrm>
              </p:grpSpPr>
              <p:pic>
                <p:nvPicPr>
                  <p:cNvPr id="240" name="圆角矩形 3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81280" y="4270320"/>
                    <a:ext cx="16797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>
                    <a:off x="1799280" y="4287960"/>
                    <a:ext cx="1641600" cy="62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组合 35"/>
              <p:cNvGrpSpPr/>
              <p:nvPr/>
            </p:nvGrpSpPr>
            <p:grpSpPr>
              <a:xfrm>
                <a:off x="3288600" y="4212720"/>
                <a:ext cx="702000" cy="718200"/>
                <a:chOff x="3288600" y="4212720"/>
                <a:chExt cx="702000" cy="718200"/>
              </a:xfrm>
            </p:grpSpPr>
            <p:grpSp>
              <p:nvGrpSpPr>
                <p:cNvPr id="243" name="椭圆 26"/>
                <p:cNvGrpSpPr/>
                <p:nvPr/>
              </p:nvGrpSpPr>
              <p:grpSpPr>
                <a:xfrm>
                  <a:off x="3288600" y="4212720"/>
                  <a:ext cx="702000" cy="718200"/>
                  <a:chOff x="3288600" y="4212720"/>
                  <a:chExt cx="702000" cy="718200"/>
                </a:xfrm>
              </p:grpSpPr>
              <p:pic>
                <p:nvPicPr>
                  <p:cNvPr id="244" name="椭圆 2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88600" y="4212720"/>
                    <a:ext cx="702000" cy="7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5" name=""/>
                  <p:cNvSpPr/>
                  <p:nvPr/>
                </p:nvSpPr>
                <p:spPr>
                  <a:xfrm>
                    <a:off x="3432240" y="4332960"/>
                    <a:ext cx="414360" cy="43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椭圆 117"/>
                <p:cNvGrpSpPr/>
                <p:nvPr/>
              </p:nvGrpSpPr>
              <p:grpSpPr>
                <a:xfrm>
                  <a:off x="3308760" y="4233240"/>
                  <a:ext cx="615600" cy="625320"/>
                  <a:chOff x="3308760" y="4233240"/>
                  <a:chExt cx="615600" cy="625320"/>
                </a:xfrm>
              </p:grpSpPr>
              <p:pic>
                <p:nvPicPr>
                  <p:cNvPr id="247" name="椭圆 1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08760" y="4233240"/>
                    <a:ext cx="6156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8" name=""/>
                  <p:cNvSpPr/>
                  <p:nvPr/>
                </p:nvSpPr>
                <p:spPr>
                  <a:xfrm>
                    <a:off x="3438000" y="4338000"/>
                    <a:ext cx="354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9" name="Text Box 18"/>
            <p:cNvSpPr/>
            <p:nvPr/>
          </p:nvSpPr>
          <p:spPr>
            <a:xfrm>
              <a:off x="1812960" y="441180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6"/>
            <p:cNvSpPr/>
            <p:nvPr/>
          </p:nvSpPr>
          <p:spPr>
            <a:xfrm>
              <a:off x="3423960" y="43927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71"/>
          <p:cNvGrpSpPr/>
          <p:nvPr/>
        </p:nvGrpSpPr>
        <p:grpSpPr>
          <a:xfrm>
            <a:off x="4703760" y="3884760"/>
            <a:ext cx="2633760" cy="1046160"/>
            <a:chOff x="4703760" y="3884760"/>
            <a:chExt cx="2633760" cy="1046160"/>
          </a:xfrm>
        </p:grpSpPr>
        <p:grpSp>
          <p:nvGrpSpPr>
            <p:cNvPr id="252" name="组合 64"/>
            <p:cNvGrpSpPr/>
            <p:nvPr/>
          </p:nvGrpSpPr>
          <p:grpSpPr>
            <a:xfrm>
              <a:off x="4703760" y="3884760"/>
              <a:ext cx="2633760" cy="1046160"/>
              <a:chOff x="4703760" y="3884760"/>
              <a:chExt cx="2633760" cy="1046160"/>
            </a:xfrm>
          </p:grpSpPr>
          <p:grpSp>
            <p:nvGrpSpPr>
              <p:cNvPr id="253" name="组合 32"/>
              <p:cNvGrpSpPr/>
              <p:nvPr/>
            </p:nvGrpSpPr>
            <p:grpSpPr>
              <a:xfrm>
                <a:off x="4703760" y="3884760"/>
                <a:ext cx="2633760" cy="1046160"/>
                <a:chOff x="4703760" y="3884760"/>
                <a:chExt cx="2633760" cy="1046160"/>
              </a:xfrm>
            </p:grpSpPr>
            <p:grpSp>
              <p:nvGrpSpPr>
                <p:cNvPr id="254" name="组合 72"/>
                <p:cNvGrpSpPr/>
                <p:nvPr/>
              </p:nvGrpSpPr>
              <p:grpSpPr>
                <a:xfrm>
                  <a:off x="4703760" y="3884760"/>
                  <a:ext cx="2633760" cy="1046160"/>
                  <a:chOff x="4703760" y="3884760"/>
                  <a:chExt cx="2633760" cy="1046160"/>
                </a:xfrm>
              </p:grpSpPr>
              <p:grpSp>
                <p:nvGrpSpPr>
                  <p:cNvPr id="255" name="AutoShape 69"/>
                  <p:cNvGrpSpPr/>
                  <p:nvPr/>
                </p:nvGrpSpPr>
                <p:grpSpPr>
                  <a:xfrm>
                    <a:off x="4703760" y="3884760"/>
                    <a:ext cx="897480" cy="907200"/>
                    <a:chOff x="4703760" y="3884760"/>
                    <a:chExt cx="897480" cy="907200"/>
                  </a:xfrm>
                </p:grpSpPr>
                <p:pic>
                  <p:nvPicPr>
                    <p:cNvPr id="256" name="AutoShape 69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4703760" y="3884760"/>
                      <a:ext cx="897480" cy="90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7" name="Text Box 24"/>
                    <p:cNvSpPr/>
                    <p:nvPr/>
                  </p:nvSpPr>
                  <p:spPr>
                    <a:xfrm rot="2700000">
                      <a:off x="4926960" y="3958920"/>
                      <a:ext cx="455040" cy="76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 rot="10800000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圆角矩形 38"/>
                  <p:cNvGrpSpPr/>
                  <p:nvPr/>
                </p:nvGrpSpPr>
                <p:grpSpPr>
                  <a:xfrm>
                    <a:off x="5332320" y="4116600"/>
                    <a:ext cx="2005200" cy="814320"/>
                    <a:chOff x="5332320" y="4116600"/>
                    <a:chExt cx="2005200" cy="814320"/>
                  </a:xfrm>
                </p:grpSpPr>
                <p:pic>
                  <p:nvPicPr>
                    <p:cNvPr id="259" name="圆角矩形 3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332320" y="4116600"/>
                      <a:ext cx="2005200" cy="8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5355360" y="4142880"/>
                      <a:ext cx="1959480" cy="76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1" name="组合 38"/>
                <p:cNvGrpSpPr/>
                <p:nvPr/>
              </p:nvGrpSpPr>
              <p:grpSpPr>
                <a:xfrm>
                  <a:off x="5130000" y="4212360"/>
                  <a:ext cx="701640" cy="718560"/>
                  <a:chOff x="5130000" y="4212360"/>
                  <a:chExt cx="701640" cy="718560"/>
                </a:xfrm>
              </p:grpSpPr>
              <p:grpSp>
                <p:nvGrpSpPr>
                  <p:cNvPr id="262" name="椭圆 35"/>
                  <p:cNvGrpSpPr/>
                  <p:nvPr/>
                </p:nvGrpSpPr>
                <p:grpSpPr>
                  <a:xfrm>
                    <a:off x="5130000" y="4212360"/>
                    <a:ext cx="701640" cy="718560"/>
                    <a:chOff x="5130000" y="4212360"/>
                    <a:chExt cx="701640" cy="718560"/>
                  </a:xfrm>
                </p:grpSpPr>
                <p:pic>
                  <p:nvPicPr>
                    <p:cNvPr id="263" name="椭圆 35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5130000" y="4212360"/>
                      <a:ext cx="701640" cy="71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5270040" y="4332240"/>
                      <a:ext cx="416880" cy="43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" name="椭圆 117"/>
                  <p:cNvGrpSpPr/>
                  <p:nvPr/>
                </p:nvGrpSpPr>
                <p:grpSpPr>
                  <a:xfrm>
                    <a:off x="5145120" y="4227840"/>
                    <a:ext cx="619920" cy="630720"/>
                    <a:chOff x="5145120" y="4227840"/>
                    <a:chExt cx="619920" cy="630720"/>
                  </a:xfrm>
                </p:grpSpPr>
                <p:pic>
                  <p:nvPicPr>
                    <p:cNvPr id="266" name="椭圆 11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145120" y="4227840"/>
                      <a:ext cx="619920" cy="63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5276160" y="4336560"/>
                      <a:ext cx="356400" cy="369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68" name="Rectangle 26"/>
              <p:cNvSpPr/>
              <p:nvPr/>
            </p:nvSpPr>
            <p:spPr>
              <a:xfrm>
                <a:off x="5265360" y="43927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18"/>
            <p:cNvSpPr/>
            <p:nvPr/>
          </p:nvSpPr>
          <p:spPr>
            <a:xfrm>
              <a:off x="5781960" y="4410360"/>
              <a:ext cx="151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4"/>
          <p:cNvSpPr/>
          <p:nvPr/>
        </p:nvSpPr>
        <p:spPr>
          <a:xfrm>
            <a:off x="6515280" y="3031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38"/>
          <p:cNvGrpSpPr/>
          <p:nvPr/>
        </p:nvGrpSpPr>
        <p:grpSpPr>
          <a:xfrm>
            <a:off x="920880" y="1490760"/>
            <a:ext cx="7408800" cy="3833640"/>
            <a:chOff x="920880" y="1490760"/>
            <a:chExt cx="7408800" cy="3833640"/>
          </a:xfrm>
        </p:grpSpPr>
        <p:grpSp>
          <p:nvGrpSpPr>
            <p:cNvPr id="272" name="组合 35"/>
            <p:cNvGrpSpPr/>
            <p:nvPr/>
          </p:nvGrpSpPr>
          <p:grpSpPr>
            <a:xfrm>
              <a:off x="920880" y="1490760"/>
              <a:ext cx="7408800" cy="3833640"/>
              <a:chOff x="920880" y="1490760"/>
              <a:chExt cx="7408800" cy="3833640"/>
            </a:xfrm>
          </p:grpSpPr>
          <p:sp>
            <p:nvSpPr>
              <p:cNvPr id="273" name="AutoShape 5"/>
              <p:cNvSpPr/>
              <p:nvPr/>
            </p:nvSpPr>
            <p:spPr>
              <a:xfrm>
                <a:off x="920880" y="1490760"/>
                <a:ext cx="7408800" cy="383364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00e5f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9"/>
              <p:cNvSpPr/>
              <p:nvPr/>
            </p:nvSpPr>
            <p:spPr>
              <a:xfrm>
                <a:off x="1042560" y="1605600"/>
                <a:ext cx="7165440" cy="36036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组合 36"/>
            <p:cNvGrpSpPr/>
            <p:nvPr/>
          </p:nvGrpSpPr>
          <p:grpSpPr>
            <a:xfrm>
              <a:off x="1347120" y="2128320"/>
              <a:ext cx="6474240" cy="2871360"/>
              <a:chOff x="1347120" y="2128320"/>
              <a:chExt cx="6474240" cy="2871360"/>
            </a:xfrm>
          </p:grpSpPr>
          <p:sp>
            <p:nvSpPr>
              <p:cNvPr id="276" name="Line 11"/>
              <p:cNvSpPr/>
              <p:nvPr/>
            </p:nvSpPr>
            <p:spPr>
              <a:xfrm>
                <a:off x="2954520" y="2558160"/>
                <a:ext cx="1440" cy="2085840"/>
              </a:xfrm>
              <a:prstGeom prst="line">
                <a:avLst/>
              </a:prstGeom>
              <a:ln w="158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2"/>
              <p:cNvSpPr/>
              <p:nvPr/>
            </p:nvSpPr>
            <p:spPr>
              <a:xfrm>
                <a:off x="4615200" y="2558160"/>
                <a:ext cx="1440" cy="2085840"/>
              </a:xfrm>
              <a:prstGeom prst="line">
                <a:avLst/>
              </a:prstGeom>
              <a:ln w="158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3"/>
              <p:cNvSpPr/>
              <p:nvPr/>
            </p:nvSpPr>
            <p:spPr>
              <a:xfrm>
                <a:off x="6264720" y="2558160"/>
                <a:ext cx="2880" cy="2085840"/>
              </a:xfrm>
              <a:prstGeom prst="line">
                <a:avLst/>
              </a:prstGeom>
              <a:ln w="158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56"/>
              <p:cNvSpPr/>
              <p:nvPr/>
            </p:nvSpPr>
            <p:spPr>
              <a:xfrm>
                <a:off x="1839240" y="46926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57"/>
              <p:cNvSpPr/>
              <p:nvPr/>
            </p:nvSpPr>
            <p:spPr>
              <a:xfrm>
                <a:off x="3498120" y="46926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58"/>
              <p:cNvSpPr/>
              <p:nvPr/>
            </p:nvSpPr>
            <p:spPr>
              <a:xfrm>
                <a:off x="5160240" y="46926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9"/>
              <p:cNvSpPr/>
              <p:nvPr/>
            </p:nvSpPr>
            <p:spPr>
              <a:xfrm>
                <a:off x="6827400" y="46926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25"/>
              <p:cNvSpPr/>
              <p:nvPr/>
            </p:nvSpPr>
            <p:spPr>
              <a:xfrm>
                <a:off x="1648800" y="4518000"/>
                <a:ext cx="479160" cy="1317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26"/>
              <p:cNvSpPr/>
              <p:nvPr/>
            </p:nvSpPr>
            <p:spPr>
              <a:xfrm>
                <a:off x="3302640" y="4216320"/>
                <a:ext cx="475920" cy="4330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27"/>
              <p:cNvSpPr/>
              <p:nvPr/>
            </p:nvSpPr>
            <p:spPr>
              <a:xfrm>
                <a:off x="4962960" y="3792240"/>
                <a:ext cx="479160" cy="8571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28"/>
              <p:cNvSpPr/>
              <p:nvPr/>
            </p:nvSpPr>
            <p:spPr>
              <a:xfrm>
                <a:off x="6613560" y="3663720"/>
                <a:ext cx="477720" cy="9856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9"/>
              <p:cNvSpPr/>
              <p:nvPr/>
            </p:nvSpPr>
            <p:spPr>
              <a:xfrm>
                <a:off x="2128320" y="3579480"/>
                <a:ext cx="465480" cy="1069560"/>
              </a:xfrm>
              <a:prstGeom prst="rect">
                <a:avLst/>
              </a:prstGeom>
              <a:solidFill>
                <a:srgbClr val="cc00ff">
                  <a:alpha val="51000"/>
                </a:srgbClr>
              </a:solidFill>
              <a:ln w="1260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30"/>
              <p:cNvSpPr/>
              <p:nvPr/>
            </p:nvSpPr>
            <p:spPr>
              <a:xfrm>
                <a:off x="3778200" y="3748320"/>
                <a:ext cx="479160" cy="900720"/>
              </a:xfrm>
              <a:prstGeom prst="rect">
                <a:avLst/>
              </a:prstGeom>
              <a:solidFill>
                <a:srgbClr val="cc00ff">
                  <a:alpha val="51000"/>
                </a:srgbClr>
              </a:solidFill>
              <a:ln w="1260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31"/>
              <p:cNvSpPr/>
              <p:nvPr/>
            </p:nvSpPr>
            <p:spPr>
              <a:xfrm>
                <a:off x="5441400" y="3230280"/>
                <a:ext cx="465480" cy="1418400"/>
              </a:xfrm>
              <a:prstGeom prst="rect">
                <a:avLst/>
              </a:prstGeom>
              <a:solidFill>
                <a:srgbClr val="cc00ff">
                  <a:alpha val="51000"/>
                </a:srgbClr>
              </a:solidFill>
              <a:ln w="1260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32"/>
              <p:cNvSpPr/>
              <p:nvPr/>
            </p:nvSpPr>
            <p:spPr>
              <a:xfrm>
                <a:off x="7091280" y="3488400"/>
                <a:ext cx="468720" cy="1160640"/>
              </a:xfrm>
              <a:prstGeom prst="rect">
                <a:avLst/>
              </a:prstGeom>
              <a:solidFill>
                <a:srgbClr val="cc00ff">
                  <a:alpha val="51000"/>
                </a:srgbClr>
              </a:solidFill>
              <a:ln w="1260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56"/>
              <p:cNvSpPr/>
              <p:nvPr/>
            </p:nvSpPr>
            <p:spPr>
              <a:xfrm>
                <a:off x="2171160" y="32940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56"/>
              <p:cNvSpPr/>
              <p:nvPr/>
            </p:nvSpPr>
            <p:spPr>
              <a:xfrm>
                <a:off x="1702800" y="42354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56"/>
              <p:cNvSpPr/>
              <p:nvPr/>
            </p:nvSpPr>
            <p:spPr>
              <a:xfrm>
                <a:off x="3614400" y="344772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56"/>
              <p:cNvSpPr/>
              <p:nvPr/>
            </p:nvSpPr>
            <p:spPr>
              <a:xfrm>
                <a:off x="3350520" y="39258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56"/>
              <p:cNvSpPr/>
              <p:nvPr/>
            </p:nvSpPr>
            <p:spPr>
              <a:xfrm>
                <a:off x="5327640" y="2906640"/>
                <a:ext cx="7236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6"/>
              <p:cNvSpPr/>
              <p:nvPr/>
            </p:nvSpPr>
            <p:spPr>
              <a:xfrm>
                <a:off x="4997160" y="35035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56"/>
              <p:cNvSpPr/>
              <p:nvPr/>
            </p:nvSpPr>
            <p:spPr>
              <a:xfrm>
                <a:off x="7061040" y="321624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56"/>
              <p:cNvSpPr/>
              <p:nvPr/>
            </p:nvSpPr>
            <p:spPr>
              <a:xfrm>
                <a:off x="6654600" y="33750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8"/>
              <p:cNvSpPr/>
              <p:nvPr/>
            </p:nvSpPr>
            <p:spPr>
              <a:xfrm>
                <a:off x="1356120" y="2128320"/>
                <a:ext cx="0" cy="2516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8"/>
              <p:cNvSpPr/>
              <p:nvPr/>
            </p:nvSpPr>
            <p:spPr>
              <a:xfrm>
                <a:off x="1347120" y="4644360"/>
                <a:ext cx="6474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组合 34"/>
          <p:cNvGrpSpPr/>
          <p:nvPr/>
        </p:nvGrpSpPr>
        <p:grpSpPr>
          <a:xfrm>
            <a:off x="1598760" y="1209600"/>
            <a:ext cx="6100560" cy="554040"/>
            <a:chOff x="1598760" y="1209600"/>
            <a:chExt cx="6100560" cy="554040"/>
          </a:xfrm>
        </p:grpSpPr>
        <p:grpSp>
          <p:nvGrpSpPr>
            <p:cNvPr id="302" name="组合 53"/>
            <p:cNvGrpSpPr/>
            <p:nvPr/>
          </p:nvGrpSpPr>
          <p:grpSpPr>
            <a:xfrm>
              <a:off x="1598760" y="1209600"/>
              <a:ext cx="6100560" cy="554040"/>
              <a:chOff x="1598760" y="1209600"/>
              <a:chExt cx="6100560" cy="554040"/>
            </a:xfrm>
          </p:grpSpPr>
          <p:grpSp>
            <p:nvGrpSpPr>
              <p:cNvPr id="303" name="AutoShape 3"/>
              <p:cNvGrpSpPr/>
              <p:nvPr/>
            </p:nvGrpSpPr>
            <p:grpSpPr>
              <a:xfrm>
                <a:off x="1598760" y="1209600"/>
                <a:ext cx="6100560" cy="554040"/>
                <a:chOff x="1598760" y="1209600"/>
                <a:chExt cx="6100560" cy="554040"/>
              </a:xfrm>
            </p:grpSpPr>
            <p:pic>
              <p:nvPicPr>
                <p:cNvPr id="304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98760" y="1209600"/>
                  <a:ext cx="6100560" cy="55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1692000" y="1263240"/>
                  <a:ext cx="59151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AutoShape 3"/>
              <p:cNvGrpSpPr/>
              <p:nvPr/>
            </p:nvGrpSpPr>
            <p:grpSpPr>
              <a:xfrm>
                <a:off x="1598760" y="1278720"/>
                <a:ext cx="6100560" cy="420480"/>
                <a:chOff x="1598760" y="1278720"/>
                <a:chExt cx="6100560" cy="420480"/>
              </a:xfrm>
            </p:grpSpPr>
            <p:pic>
              <p:nvPicPr>
                <p:cNvPr id="307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98760" y="1278720"/>
                  <a:ext cx="6100560" cy="42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>
                  <a:off x="1684080" y="1324800"/>
                  <a:ext cx="5929200" cy="28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Rectangle 13"/>
            <p:cNvSpPr/>
            <p:nvPr/>
          </p:nvSpPr>
          <p:spPr>
            <a:xfrm>
              <a:off x="4146480" y="12906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4"/>
          <p:cNvSpPr/>
          <p:nvPr/>
        </p:nvSpPr>
        <p:spPr>
          <a:xfrm>
            <a:off x="6515280" y="30312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F:\临时\素材\图片\My Pictures\color2009_006.jpg"/>
          <p:cNvPicPr/>
          <p:nvPr/>
        </p:nvPicPr>
        <p:blipFill>
          <a:blip r:embed="rId1"/>
          <a:stretch/>
        </p:blipFill>
        <p:spPr>
          <a:xfrm>
            <a:off x="3133800" y="1347840"/>
            <a:ext cx="5705280" cy="373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03:39:14Z</dcterms:created>
  <dc:creator>锐普</dc:creator>
  <dc:description/>
  <dc:language>en-US</dc:language>
  <cp:lastModifiedBy>王玉清</cp:lastModifiedBy>
  <dcterms:modified xsi:type="dcterms:W3CDTF">2016-02-15T04:51:55Z</dcterms:modified>
  <cp:revision>18</cp:revision>
  <dc:subject/>
  <dc:title>锐普PPT模板-五彩科技（动画）</dc:title>
</cp:coreProperties>
</file>