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3727-5A81-4A3C-8659-838EBB3F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563040"/>
            <a:ext cx="9601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3840" y="1981080"/>
            <a:ext cx="9601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93840" y="4170600"/>
            <a:ext cx="9601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31EE-E516-4B94-B40C-A24FE2DE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563040"/>
            <a:ext cx="9601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3840" y="198108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13600" y="198108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3840" y="41706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13600" y="41706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8218-ACA9-41FB-BFCC-87DB4BA55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563040"/>
            <a:ext cx="9601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3840" y="198108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39960" y="198108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786440" y="198108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93840" y="417060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539960" y="417060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786440" y="4170600"/>
            <a:ext cx="3091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5138-7EFC-435A-A35B-DA5C86E41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563040"/>
            <a:ext cx="9601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93840" y="198108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80B8-5B12-46DE-AA00-14FEE298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563040"/>
            <a:ext cx="9601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3840" y="198108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E5B6-8A92-413F-8E6C-3E895DC4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563040"/>
            <a:ext cx="9601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3840" y="198108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13600" y="198108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257B-02CB-4783-AFF8-936438AC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563040"/>
            <a:ext cx="9601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A68A-133A-4C1D-8633-CC927064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563040"/>
            <a:ext cx="960120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3931-E8E4-47A8-9B99-0F0BA194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563040"/>
            <a:ext cx="9601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3840" y="198108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13600" y="198108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93840" y="41706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4440-338E-486F-80D9-50A7DF6C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563040"/>
            <a:ext cx="9601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3840" y="1981080"/>
            <a:ext cx="468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13600" y="198108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13600" y="417060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31CD-9108-4088-A089-41FD5A52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563040"/>
            <a:ext cx="9601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3840" y="198108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13600" y="1981080"/>
            <a:ext cx="4685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3840" y="4170600"/>
            <a:ext cx="9601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850D-21E4-4EE4-9042-F4E87C19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6477120"/>
            <a:ext cx="11960280" cy="380880"/>
          </a:xfrm>
          <a:prstGeom prst="rect">
            <a:avLst/>
          </a:prstGeom>
          <a:solidFill>
            <a:srgbClr val="d7ebd7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11960280" y="6477120"/>
            <a:ext cx="228600" cy="380880"/>
          </a:xfrm>
          <a:prstGeom prst="rect">
            <a:avLst/>
          </a:prstGeom>
          <a:solidFill>
            <a:srgbClr val="488e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0"/>
            <a:ext cx="12188880" cy="6477120"/>
          </a:xfrm>
          <a:prstGeom prst="rect">
            <a:avLst/>
          </a:prstGeom>
          <a:solidFill>
            <a:srgbClr val="488e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3840" y="563040"/>
            <a:ext cx="9601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293840" y="198108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1" marL="4572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2" marL="6858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3" marL="9144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4" marL="11430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5" marL="11430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6" marL="11430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913600" y="6248160"/>
            <a:ext cx="10904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C5AC-E938-4D28-B614-1EDA17B44EFB}" type="datetime">
              <a:rPr b="0" lang="en-US" sz="900" spc="-1" strike="noStrike">
                <a:solidFill>
                  <a:srgbClr val="404040"/>
                </a:solidFill>
                <a:latin typeface="Arial"/>
              </a:rPr>
              <a:t>07/29/26</a:t>
            </a:fld>
            <a:endParaRPr b="0" lang="en-US" sz="9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293480" y="6248160"/>
            <a:ext cx="7467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0132560" y="6248160"/>
            <a:ext cx="762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5B4F-66F0-4392-A3F1-80927B6ECF08}" type="slidenum">
              <a:rPr b="0" lang="zh-CN" sz="9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0" y="0"/>
            <a:ext cx="12188880" cy="6172200"/>
          </a:xfrm>
          <a:prstGeom prst="rect">
            <a:avLst/>
          </a:prstGeom>
          <a:solidFill>
            <a:srgbClr val="488e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0"/>
            <a:ext cx="5180040" cy="6172200"/>
          </a:xfrm>
          <a:prstGeom prst="rect">
            <a:avLst/>
          </a:prstGeom>
          <a:solidFill>
            <a:srgbClr val="366a37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0" y="6172200"/>
            <a:ext cx="12188880" cy="685800"/>
          </a:xfrm>
          <a:prstGeom prst="rect">
            <a:avLst/>
          </a:prstGeom>
          <a:solidFill>
            <a:srgbClr val="f5e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8040" y="914040"/>
            <a:ext cx="4191120" cy="388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mbria"/>
              </a:rPr>
              <a:t>Title</a:t>
            </a:r>
            <a:endParaRPr b="0" lang="en-US" sz="6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6520" y="4952880"/>
            <a:ext cx="42022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7ebd7"/>
                </a:solidFill>
                <a:latin typeface="Cambria"/>
              </a:rPr>
              <a:t>Subtitle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49" name="Picture Placeholder 4" descr=""/>
          <p:cNvPicPr/>
          <p:nvPr/>
        </p:nvPicPr>
        <p:blipFill>
          <a:blip r:embed="rId1"/>
          <a:stretch/>
        </p:blipFill>
        <p:spPr>
          <a:xfrm>
            <a:off x="5180040" y="228600"/>
            <a:ext cx="678168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矩形 1"/>
          <p:cNvSpPr/>
          <p:nvPr/>
        </p:nvSpPr>
        <p:spPr>
          <a:xfrm>
            <a:off x="3488760" y="94140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水滴体简"/>
                <a:ea typeface="汉仪水滴体简"/>
              </a:rPr>
              <a:t>外国调查报告动态</a:t>
            </a:r>
            <a:r>
              <a:rPr b="0" lang="en-US" sz="4000" spc="-1" strike="noStrike">
                <a:solidFill>
                  <a:srgbClr val="000000"/>
                </a:solidFill>
                <a:latin typeface="汉仪水滴体简"/>
                <a:ea typeface="汉仪水滴体简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汉仪水滴体简"/>
                <a:ea typeface="汉仪水滴体简"/>
              </a:rPr>
              <a:t>模板下载</a:t>
            </a:r>
            <a:endParaRPr b="0" lang="en-US" sz="4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0" y="6172200"/>
            <a:ext cx="12188880" cy="685800"/>
          </a:xfrm>
          <a:prstGeom prst="rect">
            <a:avLst/>
          </a:prstGeom>
          <a:solidFill>
            <a:srgbClr val="f5e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0" y="0"/>
            <a:ext cx="12188880" cy="6172200"/>
          </a:xfrm>
          <a:prstGeom prst="rect">
            <a:avLst/>
          </a:prstGeom>
          <a:solidFill>
            <a:srgbClr val="488e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0" y="0"/>
            <a:ext cx="4722840" cy="6172200"/>
          </a:xfrm>
          <a:prstGeom prst="rect">
            <a:avLst/>
          </a:prstGeom>
          <a:solidFill>
            <a:srgbClr val="366a37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2200" y="235080"/>
            <a:ext cx="37735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82120" y="5029200"/>
            <a:ext cx="37832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944960" y="464760"/>
            <a:ext cx="678672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6"/>
          <p:cNvSpPr/>
          <p:nvPr/>
        </p:nvSpPr>
        <p:spPr>
          <a:xfrm>
            <a:off x="0" y="0"/>
            <a:ext cx="12188880" cy="6172200"/>
          </a:xfrm>
          <a:prstGeom prst="rect">
            <a:avLst/>
          </a:prstGeom>
          <a:solidFill>
            <a:srgbClr val="488e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7466040" y="0"/>
            <a:ext cx="4722840" cy="6172200"/>
          </a:xfrm>
          <a:prstGeom prst="rect">
            <a:avLst/>
          </a:prstGeom>
          <a:solidFill>
            <a:srgbClr val="366a37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0" y="6172200"/>
            <a:ext cx="12188880" cy="685800"/>
          </a:xfrm>
          <a:prstGeom prst="rect">
            <a:avLst/>
          </a:prstGeom>
          <a:solidFill>
            <a:srgbClr val="f5ee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883640" y="235080"/>
            <a:ext cx="37735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872480" y="5029200"/>
            <a:ext cx="3782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563040"/>
            <a:ext cx="96012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mbria"/>
              </a:rPr>
              <a:t>Title and Content Layout with List</a:t>
            </a: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293840" y="1981080"/>
            <a:ext cx="9601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mbria"/>
              </a:rPr>
              <a:t>Add your first bullet point here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mbria"/>
              </a:rPr>
              <a:t>Add your second bullet point here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mbria"/>
              </a:rPr>
              <a:t>Add your third bullet point here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563040"/>
            <a:ext cx="96012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mbria"/>
              </a:rPr>
              <a:t>Title and Content Layout with Chart</a:t>
            </a: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55" name="Content Placeholder 7" descr=""/>
          <p:cNvPicPr/>
          <p:nvPr/>
        </p:nvPicPr>
        <p:blipFill>
          <a:blip r:embed="rId1"/>
          <a:stretch/>
        </p:blipFill>
        <p:spPr>
          <a:xfrm>
            <a:off x="1293840" y="1981080"/>
            <a:ext cx="9601200" cy="419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563040"/>
            <a:ext cx="96012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mbria"/>
              </a:rPr>
              <a:t>Title and Content Layout with Table</a:t>
            </a: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293840" y="1981080"/>
          <a:ext cx="4648320" cy="2286000"/>
        </p:xfrm>
        <a:graphic>
          <a:graphicData uri="http://schemas.openxmlformats.org/drawingml/2006/table">
            <a:tbl>
              <a:tblPr/>
              <a:tblGrid>
                <a:gridCol w="1549440"/>
                <a:gridCol w="1549440"/>
                <a:gridCol w="1549440"/>
              </a:tblGrid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0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88e4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Group A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88e4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Group B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88e4a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04040"/>
                          </a:solidFill>
                          <a:latin typeface="Cambria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a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04040"/>
                          </a:solidFill>
                          <a:latin typeface="Cambria"/>
                        </a:rPr>
                        <a:t>82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a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04040"/>
                          </a:solidFill>
                          <a:latin typeface="Cambria"/>
                        </a:rPr>
                        <a:t>95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ace"/>
                    </a:solidFill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04040"/>
                          </a:solidFill>
                          <a:latin typeface="Cambria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04040"/>
                          </a:solidFill>
                          <a:latin typeface="Cambria"/>
                        </a:rPr>
                        <a:t>76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04040"/>
                          </a:solidFill>
                          <a:latin typeface="Cambria"/>
                        </a:rPr>
                        <a:t>88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e8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04040"/>
                          </a:solidFill>
                          <a:latin typeface="Cambria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a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04040"/>
                          </a:solidFill>
                          <a:latin typeface="Cambria"/>
                        </a:rPr>
                        <a:t>84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a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04040"/>
                          </a:solidFill>
                          <a:latin typeface="Cambria"/>
                        </a:rPr>
                        <a:t>90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ace"/>
                    </a:solidFill>
                  </a:tcPr>
                </a:tc>
              </a:tr>
            </a:tbl>
          </a:graphicData>
        </a:graphic>
      </p:graphicFrame>
      <p:sp>
        <p:nvSpPr>
          <p:cNvPr id="58" name=""/>
          <p:cNvSpPr txBox="1"/>
          <p:nvPr/>
        </p:nvSpPr>
        <p:spPr>
          <a:xfrm>
            <a:off x="6246720" y="1981080"/>
            <a:ext cx="4648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mbria"/>
              </a:rPr>
              <a:t>First bullet point here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mbria"/>
              </a:rPr>
              <a:t>Second bullet point here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mbria"/>
              </a:rPr>
              <a:t>Third bullet point here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563040"/>
            <a:ext cx="96012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mbria"/>
              </a:rPr>
              <a:t>Title and Content Layout with SmartArt</a:t>
            </a: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93840" y="1981080"/>
            <a:ext cx="4648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mbria"/>
              </a:rPr>
              <a:t>First bullet point here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mbria"/>
              </a:rPr>
              <a:t>Second bullet point here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mbria"/>
              </a:rPr>
              <a:t>Third bullet point here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6"/>
          <p:cNvSpPr/>
          <p:nvPr/>
        </p:nvSpPr>
        <p:spPr>
          <a:xfrm>
            <a:off x="0" y="0"/>
            <a:ext cx="12188880" cy="6172200"/>
          </a:xfrm>
          <a:prstGeom prst="rect">
            <a:avLst/>
          </a:prstGeom>
          <a:solidFill>
            <a:srgbClr val="488e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0" y="0"/>
            <a:ext cx="6926400" cy="6172200"/>
          </a:xfrm>
          <a:prstGeom prst="rect">
            <a:avLst/>
          </a:prstGeom>
          <a:solidFill>
            <a:srgbClr val="366a37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0" y="6172200"/>
            <a:ext cx="12188880" cy="685800"/>
          </a:xfrm>
          <a:prstGeom prst="rect">
            <a:avLst/>
          </a:prstGeom>
          <a:solidFill>
            <a:srgbClr val="d7ebd7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7680" y="1703160"/>
            <a:ext cx="5791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6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085160" y="3429000"/>
            <a:ext cx="45720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0" y="3240"/>
            <a:ext cx="12188880" cy="6476760"/>
          </a:xfrm>
          <a:prstGeom prst="rect">
            <a:avLst/>
          </a:prstGeom>
          <a:solidFill>
            <a:srgbClr val="488e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7451640" y="0"/>
            <a:ext cx="4737240" cy="6477120"/>
          </a:xfrm>
          <a:prstGeom prst="rect">
            <a:avLst/>
          </a:prstGeom>
          <a:solidFill>
            <a:srgbClr val="366a37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0" y="6477120"/>
            <a:ext cx="12188880" cy="380880"/>
          </a:xfrm>
          <a:prstGeom prst="rect">
            <a:avLst/>
          </a:prstGeom>
          <a:solidFill>
            <a:srgbClr val="d7ebd7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480" y="685800"/>
            <a:ext cx="5638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5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3480" y="5029200"/>
            <a:ext cx="5638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488e4a"/>
              </a:solidFill>
              <a:latin typeface="Cambria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746280" y="59277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b1754c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40404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3840" y="563040"/>
            <a:ext cx="9601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3480" y="1980720"/>
            <a:ext cx="4645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293480" y="2819160"/>
            <a:ext cx="46450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49600" y="1980720"/>
            <a:ext cx="4645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249600" y="2819160"/>
            <a:ext cx="46450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3840" y="563040"/>
            <a:ext cx="9601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406440" y="6021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b1754c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40404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2T06:20:00Z</dcterms:created>
  <dc:creator>Administrator</dc:creator>
  <dc:description/>
  <cp:keywords/>
  <dc:language>en-US</dc:language>
  <cp:lastModifiedBy>王玉清</cp:lastModifiedBy>
  <dcterms:modified xsi:type="dcterms:W3CDTF">2016-02-19T07:39:44Z</dcterms:modified>
  <cp:revision>3</cp:revision>
  <dc:subject/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  <property fmtid="{D5CDD505-2E9C-101B-9397-08002B2CF9AE}" pid="3" name="_TemplateID">
    <vt:lpwstr>TC028010969991</vt:lpwstr>
  </property>
</Properties>
</file>