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8D7-D464-454E-BC9B-12EE3619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EDA-99A2-4A54-B77F-0B717CF3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31B-F0DC-422D-8E9F-786167F5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181-761E-42B0-8D3B-8C18E72B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4D4F-ABBC-4786-98B5-D43F0AED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A13-CF4A-4FB3-B5B3-1D7B9864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E006-F24D-4B3A-899E-B187D4FE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19D-0F89-471A-B568-CFC97195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5D46-7C90-4E1A-B5A3-7EB5777C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4945-FCAA-48AA-B53A-5056DBC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E1A-31D3-4589-8336-6CE4D25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E19-5BA1-4374-B562-BAE41EB0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017-E555-4C80-A099-5C3FA32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E14E-67C0-4DF5-9A37-F6E8A7E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1A10-6C06-4D4A-A13B-FCD75D1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11B-6744-4630-A4A7-DA1AD95B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FAE-019A-4C31-93B6-1454DC0A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EE3-FF2C-4E60-B0BB-B5FC0244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A3A-259B-4682-98BB-4497162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FAA-F34E-433C-9B60-AAB6114C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886-61A3-4BA8-BDA8-D58EB8A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D04-DF89-47A1-BEA7-A41F739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209-5A8A-4B65-9D4C-62BAD38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8BE-09EA-4DFE-AD4E-EDDDB8F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131-88A1-4903-9BE6-3DEF8FC6B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3920" y="1315080"/>
              <a:ext cx="439812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97B9-D060-4654-BD6D-835F348A3B69}" type="slidenum">
              <a:rPr b="0" lang="en-US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181400"/>
            <a:ext cx="8153280" cy="101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5338"/>
                </a:solidFill>
                <a:latin typeface="Verdana"/>
                <a:ea typeface="宋体"/>
              </a:rPr>
              <a:t>网格绿色商务</a:t>
            </a:r>
            <a:r>
              <a:rPr b="1" lang="en-US" sz="4000" spc="-1" strike="noStrike">
                <a:solidFill>
                  <a:srgbClr val="335338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335338"/>
                </a:solidFill>
                <a:latin typeface="Verdana"/>
                <a:ea typeface="宋体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8320" y="3714840"/>
            <a:ext cx="29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5338"/>
                </a:solidFill>
                <a:latin typeface="Arial"/>
                <a:ea typeface="宋体"/>
              </a:rPr>
              <a:t>PowerPoint</a:t>
            </a:r>
            <a:endParaRPr b="0" lang="en-US" sz="4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46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8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846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9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d4736"/>
                </a:gs>
                <a:gs pos="50000">
                  <a:srgbClr val="368463"/>
                </a:gs>
                <a:gs pos="100000">
                  <a:srgbClr val="1d47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3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81ec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4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5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7106f"/>
                </a:gs>
                <a:gs pos="50000">
                  <a:srgbClr val="481ece"/>
                </a:gs>
                <a:gs pos="100000">
                  <a:srgbClr val="27106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6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e1383"/>
                </a:gs>
                <a:gs pos="100000">
                  <a:srgbClr val="481ec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7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58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59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0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1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2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63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6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32156"/>
                  </a:srgbClr>
                </a:gs>
                <a:gs pos="100000">
                  <a:srgbClr val="163e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5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960"/>
                </a:gs>
                <a:gs pos="50000">
                  <a:srgbClr val="2f86b1"/>
                </a:gs>
                <a:gs pos="100000">
                  <a:srgbClr val="1949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570"/>
                </a:gs>
                <a:gs pos="100000">
                  <a:srgbClr val="2f86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7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68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69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0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1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2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74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5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6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7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78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9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0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1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2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3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f86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6" name="Text Box 32"/>
          <p:cNvSpPr/>
          <p:nvPr/>
        </p:nvSpPr>
        <p:spPr>
          <a:xfrm>
            <a:off x="5791320" y="34290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7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8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9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0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1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3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94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95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6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7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8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00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1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2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3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4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5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6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7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9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0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1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20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21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3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24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27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9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30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1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2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33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4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5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36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7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38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846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9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8463">
                  <a:alpha val="32156"/>
                </a:srgbClr>
              </a:gs>
              <a:gs pos="100000">
                <a:srgbClr val="193d2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0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4736"/>
              </a:gs>
              <a:gs pos="50000">
                <a:srgbClr val="368463"/>
              </a:gs>
              <a:gs pos="100000">
                <a:srgbClr val="1d47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1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543f"/>
              </a:gs>
              <a:gs pos="100000">
                <a:srgbClr val="36846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6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3973680" y="3687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114300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176480" y="199548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119376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19376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14948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119376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1887480" y="1679400"/>
            <a:ext cx="642960" cy="642960"/>
            <a:chOff x="1887480" y="1679400"/>
            <a:chExt cx="642960" cy="642960"/>
          </a:xfrm>
        </p:grpSpPr>
        <p:sp>
          <p:nvSpPr>
            <p:cNvPr id="462" name="Oval 11"/>
            <p:cNvSpPr/>
            <p:nvPr/>
          </p:nvSpPr>
          <p:spPr>
            <a:xfrm>
              <a:off x="1887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3" name="Oval 12"/>
            <p:cNvSpPr/>
            <p:nvPr/>
          </p:nvSpPr>
          <p:spPr>
            <a:xfrm>
              <a:off x="189396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4" name="Oval 13"/>
            <p:cNvSpPr/>
            <p:nvPr/>
          </p:nvSpPr>
          <p:spPr>
            <a:xfrm>
              <a:off x="190188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5" name="Oval 14"/>
            <p:cNvSpPr/>
            <p:nvPr/>
          </p:nvSpPr>
          <p:spPr>
            <a:xfrm>
              <a:off x="190836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6" name="Oval 15"/>
            <p:cNvSpPr/>
            <p:nvPr/>
          </p:nvSpPr>
          <p:spPr>
            <a:xfrm>
              <a:off x="194220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67" name="Text Box 16"/>
          <p:cNvSpPr/>
          <p:nvPr/>
        </p:nvSpPr>
        <p:spPr>
          <a:xfrm>
            <a:off x="20275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21932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9" name="AutoShape 19"/>
          <p:cNvSpPr/>
          <p:nvPr/>
        </p:nvSpPr>
        <p:spPr>
          <a:xfrm>
            <a:off x="350532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0" name="AutoShape 20"/>
          <p:cNvSpPr/>
          <p:nvPr/>
        </p:nvSpPr>
        <p:spPr>
          <a:xfrm>
            <a:off x="353844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1" name="AutoShape 21"/>
          <p:cNvSpPr/>
          <p:nvPr/>
        </p:nvSpPr>
        <p:spPr>
          <a:xfrm>
            <a:off x="355608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2" name="AutoShape 22"/>
          <p:cNvSpPr/>
          <p:nvPr/>
        </p:nvSpPr>
        <p:spPr>
          <a:xfrm>
            <a:off x="355608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4249800" y="1679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4" name="Oval 24"/>
          <p:cNvSpPr/>
          <p:nvPr/>
        </p:nvSpPr>
        <p:spPr>
          <a:xfrm>
            <a:off x="4255920" y="1684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4264200" y="1687680"/>
            <a:ext cx="60768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4270320" y="1693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4305240" y="1709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438984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358128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0" name="AutoShape 30"/>
          <p:cNvSpPr/>
          <p:nvPr/>
        </p:nvSpPr>
        <p:spPr>
          <a:xfrm>
            <a:off x="3508200" y="4844880"/>
            <a:ext cx="216396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1" name="AutoShape 31"/>
          <p:cNvSpPr/>
          <p:nvPr/>
        </p:nvSpPr>
        <p:spPr>
          <a:xfrm>
            <a:off x="35528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2" name="AutoShape 33"/>
          <p:cNvSpPr/>
          <p:nvPr/>
        </p:nvSpPr>
        <p:spPr>
          <a:xfrm>
            <a:off x="5867280" y="1987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3" name="AutoShape 34"/>
          <p:cNvSpPr/>
          <p:nvPr/>
        </p:nvSpPr>
        <p:spPr>
          <a:xfrm>
            <a:off x="590076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4" name="AutoShape 35"/>
          <p:cNvSpPr/>
          <p:nvPr/>
        </p:nvSpPr>
        <p:spPr>
          <a:xfrm>
            <a:off x="5918040" y="4059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5" name="AutoShape 36"/>
          <p:cNvSpPr/>
          <p:nvPr/>
        </p:nvSpPr>
        <p:spPr>
          <a:xfrm>
            <a:off x="5918040" y="2017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86" name="Group 37"/>
          <p:cNvGrpSpPr/>
          <p:nvPr/>
        </p:nvGrpSpPr>
        <p:grpSpPr>
          <a:xfrm>
            <a:off x="6611760" y="1679400"/>
            <a:ext cx="642960" cy="642960"/>
            <a:chOff x="6611760" y="1679400"/>
            <a:chExt cx="642960" cy="642960"/>
          </a:xfrm>
        </p:grpSpPr>
        <p:sp>
          <p:nvSpPr>
            <p:cNvPr id="487" name="Oval 38"/>
            <p:cNvSpPr/>
            <p:nvPr/>
          </p:nvSpPr>
          <p:spPr>
            <a:xfrm>
              <a:off x="661176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8" name="Oval 39"/>
            <p:cNvSpPr/>
            <p:nvPr/>
          </p:nvSpPr>
          <p:spPr>
            <a:xfrm>
              <a:off x="661824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9" name="Oval 40"/>
            <p:cNvSpPr/>
            <p:nvPr/>
          </p:nvSpPr>
          <p:spPr>
            <a:xfrm>
              <a:off x="662616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0" name="Oval 41"/>
            <p:cNvSpPr/>
            <p:nvPr/>
          </p:nvSpPr>
          <p:spPr>
            <a:xfrm>
              <a:off x="663264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1" name="Oval 42"/>
            <p:cNvSpPr/>
            <p:nvPr/>
          </p:nvSpPr>
          <p:spPr>
            <a:xfrm>
              <a:off x="666648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92" name="Text Box 43"/>
          <p:cNvSpPr/>
          <p:nvPr/>
        </p:nvSpPr>
        <p:spPr>
          <a:xfrm>
            <a:off x="675216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594360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4" name="AutoShape 45"/>
          <p:cNvSpPr/>
          <p:nvPr/>
        </p:nvSpPr>
        <p:spPr>
          <a:xfrm>
            <a:off x="586116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5" name="AutoShape 46"/>
          <p:cNvSpPr/>
          <p:nvPr/>
        </p:nvSpPr>
        <p:spPr>
          <a:xfrm>
            <a:off x="59054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9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0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0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0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0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1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1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1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2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3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3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3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3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54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4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4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6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6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6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7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7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8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584" name="AutoShape 90"/>
            <p:cNvCxnSpPr>
              <a:stCxn id="580" idx="3"/>
              <a:endCxn id="58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5" name="AutoShape 91"/>
            <p:cNvCxnSpPr>
              <a:stCxn id="581" idx="3"/>
              <a:endCxn id="58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89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2761a"/>
                </a:gs>
                <a:gs pos="100000">
                  <a:srgbClr val="e09f5f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0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73a99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1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f86b1"/>
                </a:gs>
                <a:gs pos="100000">
                  <a:srgbClr val="6eab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2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6eabc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3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73a99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4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761a"/>
                </a:gs>
                <a:gs pos="100000">
                  <a:srgbClr val="e09f5f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0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0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0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1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1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62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35080" y="2367000"/>
          <a:ext cx="7040520" cy="312408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7f9f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4" name="Arc 7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7fb19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5" name="Arc 8"/>
          <p:cNvSpPr/>
          <p:nvPr/>
        </p:nvSpPr>
        <p:spPr>
          <a:xfrm flipH="1" rot="20602200">
            <a:off x="1713600" y="3954600"/>
            <a:ext cx="328104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215e7c"/>
              </a:gs>
              <a:gs pos="100000">
                <a:srgbClr val="2f86b1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6" name="Arc 9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aacbbd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7" name="Arc 10"/>
          <p:cNvSpPr/>
          <p:nvPr/>
        </p:nvSpPr>
        <p:spPr>
          <a:xfrm flipH="1" rot="20602200">
            <a:off x="1370520" y="2719440"/>
            <a:ext cx="2851200" cy="206640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d2761a"/>
              </a:gs>
              <a:gs pos="100000">
                <a:srgbClr val="61370c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ececec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3" name="Freeform 16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368463">
                  <a:alpha val="19215"/>
                </a:srgbClr>
              </a:gs>
              <a:gs pos="100000">
                <a:srgbClr val="79a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4" name="Freeform 17"/>
          <p:cNvSpPr/>
          <p:nvPr/>
        </p:nvSpPr>
        <p:spPr>
          <a:xfrm>
            <a:off x="5356080" y="3506760"/>
            <a:ext cx="1773360" cy="177660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7a5cdb"/>
              </a:gs>
              <a:gs pos="100000">
                <a:srgbClr val="481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5" name="Arc 18"/>
          <p:cNvSpPr/>
          <p:nvPr/>
        </p:nvSpPr>
        <p:spPr>
          <a:xfrm rot="20539200">
            <a:off x="4419720" y="289548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481ece"/>
              </a:gs>
              <a:gs pos="100000">
                <a:srgbClr val="2a1177"/>
              </a:gs>
            </a:gsLst>
            <a:lin ang="10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6" name="Freeform 19"/>
          <p:cNvSpPr/>
          <p:nvPr/>
        </p:nvSpPr>
        <p:spPr>
          <a:xfrm>
            <a:off x="4491000" y="3983040"/>
            <a:ext cx="92412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481ece"/>
              </a:gs>
              <a:gs pos="100000">
                <a:srgbClr val="8b70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7" name="Oval 20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455760" y="6359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52"/>
              </a:gs>
              <a:gs pos="50000">
                <a:srgbClr val="2f86b1"/>
              </a:gs>
              <a:gs pos="100000">
                <a:srgbClr val="163e5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54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655" name="Oval 45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6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7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85098"/>
                  </a:srgbClr>
                </a:gs>
                <a:gs pos="100000">
                  <a:srgbClr val="2e1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8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59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 Box 33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1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662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85098"/>
                  </a:srgbClr>
                </a:gs>
                <a:gs pos="100000">
                  <a:srgbClr val="1e5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2261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6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26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8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669" name="Oval 5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0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1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85098"/>
                  </a:srgbClr>
                </a:gs>
                <a:gs pos="100000">
                  <a:srgbClr val="2254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2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3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 Box 19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75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676" name="Oval 52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7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8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2761a">
                    <a:alpha val="85098"/>
                  </a:srgbClr>
                </a:gs>
                <a:gs pos="100000">
                  <a:srgbClr val="854b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9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80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12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200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3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204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7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3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4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5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218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9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0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21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WordArt 3"/>
          <p:cNvSpPr txBox="1"/>
          <p:nvPr/>
        </p:nvSpPr>
        <p:spPr>
          <a:xfrm>
            <a:off x="582480" y="4419720"/>
            <a:ext cx="4802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761a"/>
              </a:gs>
              <a:gs pos="100000">
                <a:srgbClr val="e2a86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bfd8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38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100000">
                    <a:srgbClr val="1a403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0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6c8ba"/>
                  </a:gs>
                  <a:gs pos="100000">
                    <a:srgbClr val="3684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41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0"/>
                  </a:srgbClr>
                </a:gs>
                <a:gs pos="100000">
                  <a:srgbClr val="b6d5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a8c"/>
                </a:gs>
                <a:gs pos="100000">
                  <a:srgbClr val="2f86b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6b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5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4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8e8e8">
                  <a:alpha val="36078"/>
                </a:srgbClr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3821040" y="2057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100000">
                <a:srgbClr val="132e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1585800" y="33750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2f86b1"/>
              </a:gs>
              <a:gs pos="100000">
                <a:srgbClr val="0f2a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2370240" y="484200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d2761a"/>
              </a:gs>
              <a:gs pos="100000">
                <a:srgbClr val="4b2a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4838760" y="42973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6464160" y="225432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481ece"/>
              </a:gs>
              <a:gs pos="100000">
                <a:srgbClr val="190a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1786680" y="3770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042800" y="24526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6663600" y="2635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063400" y="469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563200" y="523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5338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3353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cxnSp>
        <p:nvCxnSpPr>
          <p:cNvPr id="261" name="AutoShape 17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335338"/>
            </a:solidFill>
            <a:miter/>
          </a:ln>
        </p:spPr>
      </p:cxnSp>
      <p:sp>
        <p:nvSpPr>
          <p:cNvPr id="262" name="Text Box 18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93d2e"/>
                </a:gs>
                <a:gs pos="50000">
                  <a:srgbClr val="368463"/>
                </a:gs>
                <a:gs pos="100000">
                  <a:srgbClr val="193d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461880" y="6334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6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87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0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1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2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846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3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4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4736"/>
                  </a:gs>
                  <a:gs pos="50000">
                    <a:srgbClr val="368463"/>
                  </a:gs>
                  <a:gs pos="100000">
                    <a:srgbClr val="1d47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5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96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7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8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9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0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1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3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4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5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1370c"/>
                </a:gs>
                <a:gs pos="50000">
                  <a:srgbClr val="d2761a"/>
                </a:gs>
                <a:gs pos="100000">
                  <a:srgbClr val="613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93d2e"/>
                </a:gs>
                <a:gs pos="50000">
                  <a:srgbClr val="368463"/>
                </a:gs>
                <a:gs pos="100000">
                  <a:srgbClr val="193d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0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1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2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3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85613"/>
                </a:gs>
                <a:gs pos="5000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4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6048"/>
                </a:gs>
                <a:gs pos="5000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5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341695"/>
                </a:gs>
                <a:gs pos="5000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b2b2b2"/>
                </a:gs>
                <a:gs pos="100000">
                  <a:srgbClr val="818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0" y="1600200"/>
            <a:ext cx="6324480" cy="4495680"/>
          </a:xfrm>
          <a:prstGeom prst="rightArrow">
            <a:avLst>
              <a:gd name="adj1" fmla="val 79306"/>
              <a:gd name="adj2" fmla="val 34844"/>
            </a:avLst>
          </a:prstGeom>
          <a:gradFill rotWithShape="0">
            <a:gsLst>
              <a:gs pos="0">
                <a:srgbClr val="d7e4be"/>
              </a:gs>
              <a:gs pos="100000">
                <a:srgbClr val="2f86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2761a"/>
              </a:gs>
              <a:gs pos="100000">
                <a:srgbClr val="e09f5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8463"/>
              </a:gs>
              <a:gs pos="100000">
                <a:srgbClr val="73a99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21:58Z</dcterms:modified>
  <cp:revision>36</cp:revision>
  <dc:subject/>
  <dc:title>www.pptbz.com</dc:title>
</cp:coreProperties>
</file>