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CDE7-1282-457F-AF54-D36EEA0C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4A39-1051-448C-9C39-1BC17414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405-2062-41E0-9282-7050F08A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59C4-0B3B-4C36-AE51-CC1CC1D1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2410-E79A-4739-B651-F516C1DE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C0DF-37B4-46B0-AE3D-C7491E48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0D82-DEEA-40BA-A233-F7F717E3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95F-D0AC-416C-9F2C-36E3C30D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2B9B-917D-42FA-8FFC-E5F10D36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5290-F59D-4AED-B8B4-4BDA7F7D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B8FA-A764-4F1A-AD5E-1F2BE513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28F-4286-4F0B-BC27-9C48193F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C014-B8FC-43EA-9646-FEC417FB1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8" descr="we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214200" y="3774960"/>
            <a:ext cx="9144000" cy="18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外国语学院简介通用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黑体"/>
              </a:rPr>
              <a:t>PPT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五边形 3"/>
          <p:cNvSpPr/>
          <p:nvPr/>
        </p:nvSpPr>
        <p:spPr>
          <a:xfrm rot="5400000">
            <a:off x="3167280" y="1089360"/>
            <a:ext cx="2448000" cy="251964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519640"/>
              <a:gd name="textAreaBottom" fmla="*/ 2520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100320" y="1268280"/>
            <a:ext cx="23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E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517920" y="220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造字工房悦黑体验版细体"/>
                <a:ea typeface="造字工房悦黑体验版细体"/>
              </a:rPr>
              <a:t>外国语学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0"/>
          <p:cNvSpPr/>
          <p:nvPr/>
        </p:nvSpPr>
        <p:spPr>
          <a:xfrm>
            <a:off x="3384720" y="1062000"/>
            <a:ext cx="539640" cy="649440"/>
          </a:xfrm>
          <a:custGeom>
            <a:avLst/>
            <a:gdLst/>
            <a:ahLst/>
            <a:rect l="l" t="t" r="r" b="b"/>
            <a:pathLst>
              <a:path w="453110" h="648072">
                <a:moveTo>
                  <a:pt x="0" y="0"/>
                </a:moveTo>
                <a:lnTo>
                  <a:pt x="453110" y="0"/>
                </a:lnTo>
                <a:lnTo>
                  <a:pt x="453110" y="432048"/>
                </a:lnTo>
                <a:lnTo>
                  <a:pt x="453110" y="648072"/>
                </a:lnTo>
                <a:lnTo>
                  <a:pt x="237086" y="432048"/>
                </a:lnTo>
                <a:lnTo>
                  <a:pt x="216024" y="432048"/>
                </a:lnTo>
                <a:lnTo>
                  <a:pt x="0" y="648072"/>
                </a:lnTo>
                <a:lnTo>
                  <a:pt x="0" y="432048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六角星 35"/>
          <p:cNvSpPr/>
          <p:nvPr/>
        </p:nvSpPr>
        <p:spPr>
          <a:xfrm>
            <a:off x="4143240" y="3040200"/>
            <a:ext cx="428760" cy="42840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0" y="107156"/>
                </a:moveTo>
                <a:lnTo>
                  <a:pt x="145628" y="111286"/>
                </a:lnTo>
                <a:lnTo>
                  <a:pt x="214313" y="0"/>
                </a:lnTo>
                <a:lnTo>
                  <a:pt x="282997" y="111286"/>
                </a:lnTo>
                <a:lnTo>
                  <a:pt x="428625" y="107156"/>
                </a:lnTo>
                <a:lnTo>
                  <a:pt x="351681" y="214313"/>
                </a:lnTo>
                <a:lnTo>
                  <a:pt x="428625" y="321469"/>
                </a:lnTo>
                <a:lnTo>
                  <a:pt x="282997" y="317339"/>
                </a:lnTo>
                <a:lnTo>
                  <a:pt x="214313" y="428625"/>
                </a:lnTo>
                <a:lnTo>
                  <a:pt x="145628" y="317339"/>
                </a:lnTo>
                <a:lnTo>
                  <a:pt x="0" y="321469"/>
                </a:lnTo>
                <a:lnTo>
                  <a:pt x="76944" y="214313"/>
                </a:lnTo>
                <a:lnTo>
                  <a:pt x="0" y="1071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5"/>
          <p:cNvSpPr/>
          <p:nvPr/>
        </p:nvSpPr>
        <p:spPr>
          <a:xfrm rot="16200000">
            <a:off x="5731560" y="2258280"/>
            <a:ext cx="1843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we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33399"/>
                </a:solidFill>
                <a:latin typeface="Arial"/>
                <a:ea typeface="黑体"/>
              </a:rPr>
              <a:t>目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学校概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学院优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机构设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毕业出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we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"/>
                <a:ea typeface="黑体"/>
              </a:rPr>
              <a:t>学校概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53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潍坊外国语学校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经潍坊市和潍城区人民政府批准、省教育厅备案的一所九年一贯制公办民助学校。学校现已发展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教学班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名在校学生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教职员工（其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外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图表 9"/>
          <p:cNvGraphicFramePr/>
          <p:nvPr/>
        </p:nvGraphicFramePr>
        <p:xfrm>
          <a:off x="4572000" y="1413000"/>
          <a:ext cx="5977080" cy="468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" name="图表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413000"/>
                    <a:ext cx="597708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ttp://farm6.static.flickr.com/5256/5576549207_407f2a12b5_b.jpg"/>
          <p:cNvPicPr/>
          <p:nvPr/>
        </p:nvPicPr>
        <p:blipFill>
          <a:blip r:embed="rId1"/>
          <a:srcRect l="0" t="0" r="1119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7"/>
          <p:cNvSpPr/>
          <p:nvPr/>
        </p:nvSpPr>
        <p:spPr>
          <a:xfrm>
            <a:off x="1116000" y="4581360"/>
            <a:ext cx="452916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2225" dir="27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在四六级考试中，学校学生的过级率达到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70%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以上。其中英语专业学生在历年全国英语竞赛及全国英语专业四、八级统考中，平均成绩名列前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2"/>
          <a:srcRect l="39694" t="51084" r="38837" b="31023"/>
          <a:stretch/>
        </p:blipFill>
        <p:spPr>
          <a:xfrm>
            <a:off x="684360" y="4076640"/>
            <a:ext cx="858600" cy="951120"/>
          </a:xfrm>
          <a:prstGeom prst="rect">
            <a:avLst/>
          </a:prstGeom>
          <a:ln w="0">
            <a:noFill/>
          </a:ln>
        </p:spPr>
      </p:pic>
      <p:sp>
        <p:nvSpPr>
          <p:cNvPr id="62" name="五边形 3"/>
          <p:cNvSpPr/>
          <p:nvPr/>
        </p:nvSpPr>
        <p:spPr>
          <a:xfrm rot="5400000">
            <a:off x="6444360" y="116640"/>
            <a:ext cx="2376360" cy="252072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E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nguage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外国语学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0"/>
          <p:cNvSpPr/>
          <p:nvPr/>
        </p:nvSpPr>
        <p:spPr>
          <a:xfrm>
            <a:off x="6443640" y="0"/>
            <a:ext cx="539640" cy="838080"/>
          </a:xfrm>
          <a:custGeom>
            <a:avLst/>
            <a:gdLst/>
            <a:ahLst/>
            <a:rect l="l" t="t" r="r" b="b"/>
            <a:pathLst>
              <a:path w="453110" h="648072">
                <a:moveTo>
                  <a:pt x="0" y="0"/>
                </a:moveTo>
                <a:lnTo>
                  <a:pt x="453110" y="0"/>
                </a:lnTo>
                <a:lnTo>
                  <a:pt x="453110" y="432048"/>
                </a:lnTo>
                <a:lnTo>
                  <a:pt x="453110" y="648072"/>
                </a:lnTo>
                <a:lnTo>
                  <a:pt x="237086" y="432048"/>
                </a:lnTo>
                <a:lnTo>
                  <a:pt x="216024" y="432048"/>
                </a:lnTo>
                <a:lnTo>
                  <a:pt x="0" y="648072"/>
                </a:lnTo>
                <a:lnTo>
                  <a:pt x="0" y="432048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六角星 35"/>
          <p:cNvSpPr/>
          <p:nvPr/>
        </p:nvSpPr>
        <p:spPr>
          <a:xfrm>
            <a:off x="7451640" y="198900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0" y="107156"/>
                </a:moveTo>
                <a:lnTo>
                  <a:pt x="145628" y="111286"/>
                </a:lnTo>
                <a:lnTo>
                  <a:pt x="214313" y="0"/>
                </a:lnTo>
                <a:lnTo>
                  <a:pt x="282997" y="111286"/>
                </a:lnTo>
                <a:lnTo>
                  <a:pt x="428625" y="107156"/>
                </a:lnTo>
                <a:lnTo>
                  <a:pt x="351681" y="214313"/>
                </a:lnTo>
                <a:lnTo>
                  <a:pt x="428625" y="321469"/>
                </a:lnTo>
                <a:lnTo>
                  <a:pt x="282997" y="317339"/>
                </a:lnTo>
                <a:lnTo>
                  <a:pt x="214313" y="428625"/>
                </a:lnTo>
                <a:lnTo>
                  <a:pt x="145628" y="317339"/>
                </a:lnTo>
                <a:lnTo>
                  <a:pt x="0" y="321469"/>
                </a:lnTo>
                <a:lnTo>
                  <a:pt x="76944" y="214313"/>
                </a:lnTo>
                <a:lnTo>
                  <a:pt x="0" y="1071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we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59280" y="2602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"/>
                <a:ea typeface="黑体"/>
              </a:rPr>
              <a:t>机构设置</a:t>
            </a:r>
            <a:br>
              <a:rPr sz="60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校设多个职能部门，有力保障了在校学生正常的学习和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63640" y="476280"/>
            <a:ext cx="1873080" cy="1224000"/>
          </a:xfrm>
          <a:prstGeom prst="rect">
            <a:avLst/>
          </a:prstGeom>
          <a:solidFill>
            <a:srgbClr val="37609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 vert="eaVer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室   公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3"/>
          <p:cNvSpPr/>
          <p:nvPr/>
        </p:nvSpPr>
        <p:spPr>
          <a:xfrm>
            <a:off x="611280" y="1989000"/>
            <a:ext cx="1873080" cy="1292400"/>
          </a:xfrm>
          <a:prstGeom prst="rect">
            <a:avLst/>
          </a:prstGeom>
          <a:solidFill>
            <a:srgbClr val="72bfc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人事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2"/>
          <p:cNvSpPr/>
          <p:nvPr/>
        </p:nvSpPr>
        <p:spPr>
          <a:xfrm>
            <a:off x="3492360" y="3716280"/>
            <a:ext cx="1873440" cy="129060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财务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684360" y="5229360"/>
            <a:ext cx="1873080" cy="129060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保卫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2"/>
          <p:cNvSpPr/>
          <p:nvPr/>
        </p:nvSpPr>
        <p:spPr>
          <a:xfrm>
            <a:off x="3348000" y="5300640"/>
            <a:ext cx="1873440" cy="129060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宣传工作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3"/>
          <p:cNvSpPr/>
          <p:nvPr/>
        </p:nvSpPr>
        <p:spPr>
          <a:xfrm>
            <a:off x="3635280" y="1916280"/>
            <a:ext cx="1873440" cy="1292040"/>
          </a:xfrm>
          <a:prstGeom prst="rect">
            <a:avLst/>
          </a:prstGeom>
          <a:solidFill>
            <a:srgbClr val="72bfc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后勤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611280" y="3500280"/>
            <a:ext cx="1873080" cy="12909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生活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138240" y="64040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we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"/>
              </a:rPr>
              <a:t>毕业出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校形成一条龙培养体系。学生初中毕业可升入潍坊外国语学校高级中学，学校现已与澳大利亚、加拿大、新西兰等有关国家教育机构达成合作办学和出国修学的多项协议，与北京外国语学院、山大山师大外语学院等院校达成联合办学协议，与北京佳联教育投资公司等教育机构达成投资与合作办学意向，为学生提供最大求学便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6T00:47:55Z</dcterms:created>
  <dc:creator>www.pptbz.com</dc:creator>
  <dc:description/>
  <dc:language>en-US</dc:language>
  <cp:lastModifiedBy>王玉清</cp:lastModifiedBy>
  <dcterms:modified xsi:type="dcterms:W3CDTF">2016-03-06T04:27:20Z</dcterms:modified>
  <cp:revision>18</cp:revision>
  <dc:subject/>
  <dc:title>幻灯片 1</dc:title>
</cp:coreProperties>
</file>