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EBA2-42BB-44EF-B298-91C0BFEA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A53-6036-4642-89AB-565791EC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55D2-EED0-401C-A564-889EAB90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443-CDCD-4BE1-A751-58FEFF19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B5F9-5438-4C48-843C-4C7A9677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4BA-2ABC-4D8B-A81A-93B79E05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BB5-F5FD-4B18-BBFD-7C4D57A1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24B3-BB3D-48E5-B67F-C5C07B28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F3E-1E6E-4A3D-9B95-1B7835E0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9098-414E-40BE-9023-CE86BC38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DD7-F4C3-4017-AE4E-8F9F425C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CC0-3D39-4FB7-9958-8244140B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C220-86E2-4FC4-99F6-ECBBF50B58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2393640" y="40464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唯美简洁动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流程图: 决策 9"/>
          <p:cNvSpPr/>
          <p:nvPr/>
        </p:nvSpPr>
        <p:spPr>
          <a:xfrm>
            <a:off x="1214280" y="2349360"/>
            <a:ext cx="2143440" cy="1436760"/>
          </a:xfrm>
          <a:prstGeom prst="flowChartDecision">
            <a:avLst/>
          </a:prstGeom>
          <a:solidFill>
            <a:srgbClr val="5db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流程图: 决策 10"/>
          <p:cNvSpPr/>
          <p:nvPr/>
        </p:nvSpPr>
        <p:spPr>
          <a:xfrm>
            <a:off x="3643200" y="2343240"/>
            <a:ext cx="2143080" cy="1436760"/>
          </a:xfrm>
          <a:prstGeom prst="flowChartDecision">
            <a:avLst/>
          </a:pr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流程图: 决策 11"/>
          <p:cNvSpPr/>
          <p:nvPr/>
        </p:nvSpPr>
        <p:spPr>
          <a:xfrm>
            <a:off x="6072120" y="2349360"/>
            <a:ext cx="2143080" cy="1436760"/>
          </a:xfrm>
          <a:prstGeom prst="flowChartDecision">
            <a:avLst/>
          </a:prstGeom>
          <a:solidFill>
            <a:srgbClr val="5db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42138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1784880" y="291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6712560" y="291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直角三角形 16"/>
          <p:cNvSpPr/>
          <p:nvPr/>
        </p:nvSpPr>
        <p:spPr>
          <a:xfrm>
            <a:off x="1500120" y="2357280"/>
            <a:ext cx="1785960" cy="1785960"/>
          </a:xfrm>
          <a:prstGeom prst="rtTriangle">
            <a:avLst/>
          </a:pr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角三角形 17"/>
          <p:cNvSpPr/>
          <p:nvPr/>
        </p:nvSpPr>
        <p:spPr>
          <a:xfrm flipV="1" rot="5400000">
            <a:off x="1571760" y="2284920"/>
            <a:ext cx="1785960" cy="1785960"/>
          </a:xfrm>
          <a:prstGeom prst="rtTriangle">
            <a:avLst/>
          </a:prstGeom>
          <a:solidFill>
            <a:srgbClr val="5db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角三角形 18"/>
          <p:cNvSpPr/>
          <p:nvPr/>
        </p:nvSpPr>
        <p:spPr>
          <a:xfrm>
            <a:off x="3786120" y="2357280"/>
            <a:ext cx="1785960" cy="1785960"/>
          </a:xfrm>
          <a:prstGeom prst="rtTriangle">
            <a:avLst/>
          </a:pr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角三角形 19"/>
          <p:cNvSpPr/>
          <p:nvPr/>
        </p:nvSpPr>
        <p:spPr>
          <a:xfrm flipV="1" rot="5400000">
            <a:off x="3857760" y="2284920"/>
            <a:ext cx="1785960" cy="1785960"/>
          </a:xfrm>
          <a:prstGeom prst="rtTriangle">
            <a:avLst/>
          </a:prstGeom>
          <a:solidFill>
            <a:srgbClr val="5db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角三角形 20"/>
          <p:cNvSpPr/>
          <p:nvPr/>
        </p:nvSpPr>
        <p:spPr>
          <a:xfrm>
            <a:off x="6143760" y="2357280"/>
            <a:ext cx="1785960" cy="1785960"/>
          </a:xfrm>
          <a:prstGeom prst="rtTriangle">
            <a:avLst/>
          </a:pr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角三角形 21"/>
          <p:cNvSpPr/>
          <p:nvPr/>
        </p:nvSpPr>
        <p:spPr>
          <a:xfrm flipV="1" rot="5400000">
            <a:off x="6215040" y="2284920"/>
            <a:ext cx="1785960" cy="1785960"/>
          </a:xfrm>
          <a:prstGeom prst="rtTriangle">
            <a:avLst/>
          </a:prstGeom>
          <a:solidFill>
            <a:srgbClr val="5db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2"/>
          <p:cNvSpPr/>
          <p:nvPr/>
        </p:nvSpPr>
        <p:spPr>
          <a:xfrm>
            <a:off x="1711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3"/>
          <p:cNvSpPr/>
          <p:nvPr/>
        </p:nvSpPr>
        <p:spPr>
          <a:xfrm>
            <a:off x="63550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4069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丁字箭头 10"/>
          <p:cNvSpPr/>
          <p:nvPr/>
        </p:nvSpPr>
        <p:spPr>
          <a:xfrm>
            <a:off x="3357720" y="1357200"/>
            <a:ext cx="3071520" cy="2148120"/>
          </a:xfrm>
          <a:custGeom>
            <a:avLst/>
            <a:gdLst/>
            <a:ahLst/>
            <a:rect l="l" t="t" r="r" b="b"/>
            <a:pathLst>
              <a:path w="3071812" h="2147887">
                <a:moveTo>
                  <a:pt x="0" y="1610915"/>
                </a:moveTo>
                <a:lnTo>
                  <a:pt x="536972" y="1073944"/>
                </a:lnTo>
                <a:lnTo>
                  <a:pt x="536972" y="1342429"/>
                </a:lnTo>
                <a:lnTo>
                  <a:pt x="1267420" y="1342429"/>
                </a:lnTo>
                <a:lnTo>
                  <a:pt x="1267420" y="536972"/>
                </a:lnTo>
                <a:lnTo>
                  <a:pt x="998934" y="536972"/>
                </a:lnTo>
                <a:lnTo>
                  <a:pt x="1535906" y="0"/>
                </a:lnTo>
                <a:lnTo>
                  <a:pt x="2072878" y="536972"/>
                </a:lnTo>
                <a:lnTo>
                  <a:pt x="1804392" y="536972"/>
                </a:lnTo>
                <a:lnTo>
                  <a:pt x="1804392" y="1342429"/>
                </a:lnTo>
                <a:lnTo>
                  <a:pt x="2534840" y="1342429"/>
                </a:lnTo>
                <a:lnTo>
                  <a:pt x="2534840" y="1073944"/>
                </a:lnTo>
                <a:lnTo>
                  <a:pt x="3071812" y="1610915"/>
                </a:lnTo>
                <a:lnTo>
                  <a:pt x="2534840" y="2147887"/>
                </a:lnTo>
                <a:lnTo>
                  <a:pt x="2534840" y="1879401"/>
                </a:lnTo>
                <a:lnTo>
                  <a:pt x="536972" y="1879401"/>
                </a:lnTo>
                <a:lnTo>
                  <a:pt x="536972" y="2147887"/>
                </a:lnTo>
                <a:lnTo>
                  <a:pt x="0" y="1610915"/>
                </a:lnTo>
                <a:close/>
              </a:path>
            </a:pathLst>
          </a:custGeom>
          <a:solidFill>
            <a:srgbClr val="5db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丁字箭头 11"/>
          <p:cNvSpPr/>
          <p:nvPr/>
        </p:nvSpPr>
        <p:spPr>
          <a:xfrm flipV="1">
            <a:off x="3357720" y="2994840"/>
            <a:ext cx="3071520" cy="2148120"/>
          </a:xfrm>
          <a:custGeom>
            <a:avLst/>
            <a:gdLst/>
            <a:ahLst/>
            <a:rect l="l" t="t" r="r" b="b"/>
            <a:pathLst>
              <a:path w="3071812" h="2147887">
                <a:moveTo>
                  <a:pt x="0" y="1610915"/>
                </a:moveTo>
                <a:lnTo>
                  <a:pt x="536972" y="1073944"/>
                </a:lnTo>
                <a:lnTo>
                  <a:pt x="536972" y="1342429"/>
                </a:lnTo>
                <a:lnTo>
                  <a:pt x="1267420" y="1342429"/>
                </a:lnTo>
                <a:lnTo>
                  <a:pt x="1267420" y="536972"/>
                </a:lnTo>
                <a:lnTo>
                  <a:pt x="998934" y="536972"/>
                </a:lnTo>
                <a:lnTo>
                  <a:pt x="1535906" y="0"/>
                </a:lnTo>
                <a:lnTo>
                  <a:pt x="2072878" y="536972"/>
                </a:lnTo>
                <a:lnTo>
                  <a:pt x="1804392" y="536972"/>
                </a:lnTo>
                <a:lnTo>
                  <a:pt x="1804392" y="1342429"/>
                </a:lnTo>
                <a:lnTo>
                  <a:pt x="2534840" y="1342429"/>
                </a:lnTo>
                <a:lnTo>
                  <a:pt x="2534840" y="1073944"/>
                </a:lnTo>
                <a:lnTo>
                  <a:pt x="3071812" y="1610915"/>
                </a:lnTo>
                <a:lnTo>
                  <a:pt x="2534840" y="2147887"/>
                </a:lnTo>
                <a:lnTo>
                  <a:pt x="2534840" y="1879401"/>
                </a:lnTo>
                <a:lnTo>
                  <a:pt x="536972" y="1879401"/>
                </a:lnTo>
                <a:lnTo>
                  <a:pt x="536972" y="2147887"/>
                </a:lnTo>
                <a:lnTo>
                  <a:pt x="0" y="1610915"/>
                </a:lnTo>
                <a:close/>
              </a:path>
            </a:pathLst>
          </a:cu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44280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3"/>
          <p:cNvSpPr/>
          <p:nvPr/>
        </p:nvSpPr>
        <p:spPr>
          <a:xfrm>
            <a:off x="65696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4"/>
          <p:cNvSpPr/>
          <p:nvPr/>
        </p:nvSpPr>
        <p:spPr>
          <a:xfrm>
            <a:off x="24260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5"/>
          <p:cNvSpPr/>
          <p:nvPr/>
        </p:nvSpPr>
        <p:spPr>
          <a:xfrm>
            <a:off x="4426560" y="100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 10"/>
          <p:cNvSpPr/>
          <p:nvPr/>
        </p:nvSpPr>
        <p:spPr>
          <a:xfrm>
            <a:off x="500040" y="1214280"/>
            <a:ext cx="2643120" cy="264348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2643480"/>
              <a:gd name="textAreaBottom" fmla="*/ 2514600 h 2643480"/>
            </a:gdLst>
            <a:ahLst/>
            <a:rect l="textAreaLeft" t="textAreaTop" r="textAreaRight" b="textAreaBottom"/>
            <a:pathLst>
              <a:path w="21600" h="21603">
                <a:moveTo>
                  <a:pt x="3600" y="0"/>
                </a:moveTo>
                <a:arcTo wR="3600" hR="3600" stAng="16200000" swAng="-5400000"/>
                <a:lnTo>
                  <a:pt x="0" y="18003"/>
                </a:lnTo>
                <a:arcTo wR="3600" hR="3600" stAng="10800000" swAng="-5400000"/>
                <a:lnTo>
                  <a:pt x="18000" y="216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11"/>
          <p:cNvSpPr/>
          <p:nvPr/>
        </p:nvSpPr>
        <p:spPr>
          <a:xfrm>
            <a:off x="3357720" y="1857240"/>
            <a:ext cx="2643120" cy="264348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2643480"/>
              <a:gd name="textAreaBottom" fmla="*/ 2514600 h 2643480"/>
            </a:gdLst>
            <a:ahLst/>
            <a:rect l="textAreaLeft" t="textAreaTop" r="textAreaRight" b="textAreaBottom"/>
            <a:pathLst>
              <a:path w="21600" h="21603">
                <a:moveTo>
                  <a:pt x="3600" y="0"/>
                </a:moveTo>
                <a:arcTo wR="3600" hR="3600" stAng="16200000" swAng="-5400000"/>
                <a:lnTo>
                  <a:pt x="0" y="18003"/>
                </a:lnTo>
                <a:arcTo wR="3600" hR="3600" stAng="10800000" swAng="-5400000"/>
                <a:lnTo>
                  <a:pt x="18000" y="216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db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12"/>
          <p:cNvSpPr/>
          <p:nvPr/>
        </p:nvSpPr>
        <p:spPr>
          <a:xfrm>
            <a:off x="6215040" y="2714760"/>
            <a:ext cx="2643120" cy="2643120"/>
          </a:xfrm>
          <a:prstGeom prst="roundRect">
            <a:avLst>
              <a:gd name="adj" fmla="val 16667"/>
            </a:avLst>
          </a:pr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13546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3"/>
          <p:cNvSpPr/>
          <p:nvPr/>
        </p:nvSpPr>
        <p:spPr>
          <a:xfrm>
            <a:off x="7140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4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 形 10"/>
          <p:cNvSpPr/>
          <p:nvPr/>
        </p:nvSpPr>
        <p:spPr>
          <a:xfrm rot="18938400">
            <a:off x="6359400" y="1926720"/>
            <a:ext cx="1714680" cy="171468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0" y="0"/>
                </a:moveTo>
                <a:lnTo>
                  <a:pt x="857250" y="0"/>
                </a:lnTo>
                <a:lnTo>
                  <a:pt x="857250" y="857250"/>
                </a:lnTo>
                <a:lnTo>
                  <a:pt x="1714500" y="857250"/>
                </a:lnTo>
                <a:lnTo>
                  <a:pt x="1714500" y="1714500"/>
                </a:lnTo>
                <a:lnTo>
                  <a:pt x="0" y="1714500"/>
                </a:lnTo>
                <a:lnTo>
                  <a:pt x="0" y="0"/>
                </a:lnTo>
                <a:close/>
              </a:path>
            </a:pathLst>
          </a:cu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 形 11"/>
          <p:cNvSpPr/>
          <p:nvPr/>
        </p:nvSpPr>
        <p:spPr>
          <a:xfrm rot="18938400">
            <a:off x="3859200" y="1926720"/>
            <a:ext cx="1714680" cy="171468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0" y="0"/>
                </a:moveTo>
                <a:lnTo>
                  <a:pt x="857250" y="0"/>
                </a:lnTo>
                <a:lnTo>
                  <a:pt x="857250" y="857250"/>
                </a:lnTo>
                <a:lnTo>
                  <a:pt x="1714500" y="857250"/>
                </a:lnTo>
                <a:lnTo>
                  <a:pt x="1714500" y="1714500"/>
                </a:lnTo>
                <a:lnTo>
                  <a:pt x="0" y="1714500"/>
                </a:lnTo>
                <a:lnTo>
                  <a:pt x="0" y="0"/>
                </a:lnTo>
                <a:close/>
              </a:path>
            </a:pathLst>
          </a:custGeom>
          <a:solidFill>
            <a:srgbClr val="5db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 形 12"/>
          <p:cNvSpPr/>
          <p:nvPr/>
        </p:nvSpPr>
        <p:spPr>
          <a:xfrm rot="18938400">
            <a:off x="1359000" y="1926720"/>
            <a:ext cx="1714320" cy="171468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0" y="0"/>
                </a:moveTo>
                <a:lnTo>
                  <a:pt x="857250" y="0"/>
                </a:lnTo>
                <a:lnTo>
                  <a:pt x="857250" y="857250"/>
                </a:lnTo>
                <a:lnTo>
                  <a:pt x="1714500" y="857250"/>
                </a:lnTo>
                <a:lnTo>
                  <a:pt x="1714500" y="1714500"/>
                </a:lnTo>
                <a:lnTo>
                  <a:pt x="0" y="1714500"/>
                </a:lnTo>
                <a:lnTo>
                  <a:pt x="0" y="0"/>
                </a:lnTo>
                <a:close/>
              </a:path>
            </a:pathLst>
          </a:cu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 形 13"/>
          <p:cNvSpPr/>
          <p:nvPr/>
        </p:nvSpPr>
        <p:spPr>
          <a:xfrm rot="18938400">
            <a:off x="2572920" y="3284280"/>
            <a:ext cx="1714680" cy="171432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0" y="0"/>
                </a:moveTo>
                <a:lnTo>
                  <a:pt x="857250" y="0"/>
                </a:lnTo>
                <a:lnTo>
                  <a:pt x="857250" y="857250"/>
                </a:lnTo>
                <a:lnTo>
                  <a:pt x="1714500" y="857250"/>
                </a:lnTo>
                <a:lnTo>
                  <a:pt x="1714500" y="1714500"/>
                </a:lnTo>
                <a:lnTo>
                  <a:pt x="0" y="1714500"/>
                </a:lnTo>
                <a:lnTo>
                  <a:pt x="0" y="0"/>
                </a:lnTo>
                <a:close/>
              </a:path>
            </a:pathLst>
          </a:cu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 形 14"/>
          <p:cNvSpPr/>
          <p:nvPr/>
        </p:nvSpPr>
        <p:spPr>
          <a:xfrm rot="18938400">
            <a:off x="5073120" y="3284280"/>
            <a:ext cx="1714680" cy="171432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0" y="0"/>
                </a:moveTo>
                <a:lnTo>
                  <a:pt x="857250" y="0"/>
                </a:lnTo>
                <a:lnTo>
                  <a:pt x="857250" y="857250"/>
                </a:lnTo>
                <a:lnTo>
                  <a:pt x="1714500" y="857250"/>
                </a:lnTo>
                <a:lnTo>
                  <a:pt x="1714500" y="1714500"/>
                </a:lnTo>
                <a:lnTo>
                  <a:pt x="0" y="1714500"/>
                </a:lnTo>
                <a:lnTo>
                  <a:pt x="0" y="0"/>
                </a:lnTo>
                <a:close/>
              </a:path>
            </a:pathLst>
          </a:cu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6569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3"/>
          <p:cNvSpPr/>
          <p:nvPr/>
        </p:nvSpPr>
        <p:spPr>
          <a:xfrm>
            <a:off x="4212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29260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17830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流程图: 手动输入 10"/>
          <p:cNvSpPr/>
          <p:nvPr/>
        </p:nvSpPr>
        <p:spPr>
          <a:xfrm>
            <a:off x="1928880" y="3249720"/>
            <a:ext cx="5929200" cy="2036520"/>
          </a:xfrm>
          <a:prstGeom prst="flowChartManualInput">
            <a:avLst/>
          </a:prstGeom>
          <a:solidFill>
            <a:srgbClr val="5db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流程图: 手动输入 11"/>
          <p:cNvSpPr/>
          <p:nvPr/>
        </p:nvSpPr>
        <p:spPr>
          <a:xfrm flipH="1" flipV="1">
            <a:off x="1928880" y="1535040"/>
            <a:ext cx="5929200" cy="2036880"/>
          </a:xfrm>
          <a:prstGeom prst="flowChartManualInput">
            <a:avLst/>
          </a:pr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4997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35690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19T03:37:02Z</dcterms:modified>
  <cp:revision>284</cp:revision>
  <dc:subject/>
  <dc:title>幻灯片 1</dc:title>
</cp:coreProperties>
</file>