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121856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CDF6-983D-49F4-85A6-04D6BB0A8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120" y="368208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C04E-6AD7-4C15-A1C6-52EA576A9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287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410F-1382-473F-865B-D6759CFF3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748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548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12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748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548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04C0-B7CE-43E0-8083-4EBEE5733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7F055-FDC6-4E43-9F67-CDE783F5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1604520"/>
            <a:ext cx="10967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A8023-BA0D-4217-9718-45EE48DA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7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C6270-9E8F-4898-A82C-10866432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E4AF5-8C96-480E-8A18-0D3026BA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149FC-7517-4206-8386-B9B211CF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73600"/>
            <a:ext cx="10967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B43FD-490B-4CAB-89F8-225F5429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FE2DB-95A5-4161-8479-A2627117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120" y="1604520"/>
            <a:ext cx="10967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E492-5755-40F6-BC71-8EE2AD0E8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87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20E18-DE70-48A6-9D93-335A4E08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F05D5-9EB8-4AD4-A420-64B5B064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120" y="368208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2E67A-9358-4873-85A7-951DD893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87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2376D-09C5-4E21-AC0C-F3C7C92E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748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548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12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748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548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05999-EA7F-4510-92DF-13B4A6FC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120" y="1604520"/>
            <a:ext cx="10967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7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7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4662-BD8F-4D17-9FD0-721BB6816A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120" y="273600"/>
            <a:ext cx="10967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287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120" y="368208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287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748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548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12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748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548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E925-E547-489D-9592-992F1D6C8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E862-5546-4B4E-816B-E6AE90567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273600"/>
            <a:ext cx="10967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CEA9-00F0-4447-B34E-F6CD5F213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4642-ED50-48DA-834C-F6AC5EADE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287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5925-FF3F-4FF0-BD4F-BB86E4E4C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E052-F9C6-4822-98FB-6AADA3608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对角圆角矩形 8"/>
          <p:cNvSpPr/>
          <p:nvPr/>
        </p:nvSpPr>
        <p:spPr>
          <a:xfrm>
            <a:off x="-52560" y="6149880"/>
            <a:ext cx="12225600" cy="743040"/>
          </a:xfrm>
          <a:custGeom>
            <a:avLst/>
            <a:gdLst/>
            <a:ahLst/>
            <a:rect l="l" t="t" r="r" b="b"/>
            <a:pathLst>
              <a:path w="12249297" h="777104">
                <a:moveTo>
                  <a:pt x="670585" y="0"/>
                </a:moveTo>
                <a:lnTo>
                  <a:pt x="12235000" y="0"/>
                </a:lnTo>
                <a:lnTo>
                  <a:pt x="12235000" y="0"/>
                </a:lnTo>
                <a:lnTo>
                  <a:pt x="12235000" y="533332"/>
                </a:lnTo>
                <a:cubicBezTo>
                  <a:pt x="12235000" y="869967"/>
                  <a:pt x="12266963" y="733486"/>
                  <a:pt x="12235307" y="777104"/>
                </a:cubicBezTo>
                <a:lnTo>
                  <a:pt x="0" y="746624"/>
                </a:lnTo>
                <a:lnTo>
                  <a:pt x="15333" y="594292"/>
                </a:lnTo>
                <a:cubicBezTo>
                  <a:pt x="15333" y="257657"/>
                  <a:pt x="333950" y="0"/>
                  <a:pt x="670585" y="0"/>
                </a:cubicBezTo>
                <a:close/>
              </a:path>
            </a:pathLst>
          </a:custGeom>
          <a:solidFill>
            <a:srgbClr val="00a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10574280" y="6343560"/>
            <a:ext cx="1440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第</a:t>
            </a:r>
            <a:fld id="{936BC562-3771-4085-BE34-72F71B05CFCE}" type="slidenum"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矩形 9"/>
          <p:cNvSpPr/>
          <p:nvPr/>
        </p:nvSpPr>
        <p:spPr>
          <a:xfrm>
            <a:off x="12014280" y="0"/>
            <a:ext cx="180720" cy="6892920"/>
          </a:xfrm>
          <a:prstGeom prst="rect">
            <a:avLst/>
          </a:prstGeom>
          <a:solidFill>
            <a:srgbClr val="00a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" descr="E:\迅雷下载\新建文件夹\中国农业银行 [转换].png"/>
          <p:cNvPicPr/>
          <p:nvPr/>
        </p:nvPicPr>
        <p:blipFill>
          <a:blip r:embed="rId2"/>
          <a:stretch/>
        </p:blipFill>
        <p:spPr>
          <a:xfrm>
            <a:off x="615960" y="404640"/>
            <a:ext cx="2898720" cy="5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28a"/>
            </a:gs>
            <a:gs pos="100000">
              <a:srgbClr val="00a97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6" descr=""/>
          <p:cNvPicPr/>
          <p:nvPr/>
        </p:nvPicPr>
        <p:blipFill>
          <a:blip r:embed="rId2"/>
          <a:stretch/>
        </p:blipFill>
        <p:spPr>
          <a:xfrm>
            <a:off x="-50760" y="0"/>
            <a:ext cx="1223784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" descr="E:\迅雷下载\新建文件夹\中国农业银行白色logo.png"/>
          <p:cNvPicPr/>
          <p:nvPr/>
        </p:nvPicPr>
        <p:blipFill>
          <a:blip r:embed="rId3"/>
          <a:stretch/>
        </p:blipFill>
        <p:spPr>
          <a:xfrm>
            <a:off x="189000" y="260280"/>
            <a:ext cx="3887640" cy="73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2"/>
          </p:nvPr>
        </p:nvSpPr>
        <p:spPr>
          <a:xfrm>
            <a:off x="609480" y="6356520"/>
            <a:ext cx="284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416412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10574280" y="6343560"/>
            <a:ext cx="1440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BE05-C051-49AF-A0FC-91D9DD76A830}" type="slidenum"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对角圆角矩形 8"/>
          <p:cNvSpPr/>
          <p:nvPr/>
        </p:nvSpPr>
        <p:spPr>
          <a:xfrm>
            <a:off x="-15840" y="6165720"/>
            <a:ext cx="12210840" cy="743040"/>
          </a:xfrm>
          <a:custGeom>
            <a:avLst/>
            <a:gdLst/>
            <a:ahLst/>
            <a:rect l="l" t="t" r="r" b="b"/>
            <a:pathLst>
              <a:path w="12235000" h="777104">
                <a:moveTo>
                  <a:pt x="670585" y="0"/>
                </a:moveTo>
                <a:lnTo>
                  <a:pt x="12235000" y="0"/>
                </a:lnTo>
                <a:lnTo>
                  <a:pt x="12235000" y="0"/>
                </a:lnTo>
                <a:lnTo>
                  <a:pt x="12235000" y="533332"/>
                </a:lnTo>
                <a:cubicBezTo>
                  <a:pt x="12235000" y="869967"/>
                  <a:pt x="12236423" y="685664"/>
                  <a:pt x="12113148" y="777104"/>
                </a:cubicBezTo>
                <a:lnTo>
                  <a:pt x="0" y="746624"/>
                </a:lnTo>
                <a:lnTo>
                  <a:pt x="15333" y="594292"/>
                </a:lnTo>
                <a:cubicBezTo>
                  <a:pt x="15333" y="257657"/>
                  <a:pt x="333950" y="0"/>
                  <a:pt x="670585" y="0"/>
                </a:cubicBezTo>
                <a:close/>
              </a:path>
            </a:pathLst>
          </a:custGeom>
          <a:solidFill>
            <a:srgbClr val="00a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12014280" y="0"/>
            <a:ext cx="180720" cy="6892920"/>
          </a:xfrm>
          <a:prstGeom prst="rect">
            <a:avLst/>
          </a:prstGeom>
          <a:solidFill>
            <a:srgbClr val="00a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E:\迅雷下载\新建文件夹\农业银行.png"/>
          <p:cNvPicPr/>
          <p:nvPr/>
        </p:nvPicPr>
        <p:blipFill>
          <a:blip r:embed="rId2"/>
          <a:stretch/>
        </p:blipFill>
        <p:spPr>
          <a:xfrm>
            <a:off x="693720" y="1525680"/>
            <a:ext cx="3095640" cy="307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1"/>
          <p:cNvSpPr/>
          <p:nvPr/>
        </p:nvSpPr>
        <p:spPr>
          <a:xfrm>
            <a:off x="1027080" y="4724280"/>
            <a:ext cx="32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2d050"/>
                </a:solidFill>
                <a:latin typeface="微软雅黑"/>
                <a:ea typeface="微软雅黑"/>
              </a:rPr>
              <a:t>目    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E:\迅雷下载\新建文件夹\中国农业银行白色logo.png"/>
          <p:cNvPicPr/>
          <p:nvPr/>
        </p:nvPicPr>
        <p:blipFill>
          <a:blip r:embed="rId3"/>
          <a:stretch/>
        </p:blipFill>
        <p:spPr>
          <a:xfrm>
            <a:off x="9320040" y="6292800"/>
            <a:ext cx="2592720" cy="48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549360" y="1197000"/>
            <a:ext cx="107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绚丽银行金融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3"/>
          <p:cNvGrpSpPr/>
          <p:nvPr/>
        </p:nvGrpSpPr>
        <p:grpSpPr>
          <a:xfrm>
            <a:off x="5013360" y="1628640"/>
            <a:ext cx="5977080" cy="576360"/>
            <a:chOff x="5013360" y="1628640"/>
            <a:chExt cx="5977080" cy="576360"/>
          </a:xfrm>
        </p:grpSpPr>
        <p:sp>
          <p:nvSpPr>
            <p:cNvPr id="125" name="对角圆角矩形 1"/>
            <p:cNvSpPr/>
            <p:nvPr/>
          </p:nvSpPr>
          <p:spPr>
            <a:xfrm>
              <a:off x="5013360" y="1628640"/>
              <a:ext cx="5977080" cy="576360"/>
            </a:xfrm>
            <a:prstGeom prst="pie">
              <a:avLst/>
            </a:prstGeom>
            <a:solidFill>
              <a:srgbClr val="00a28b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对角圆角矩形 2"/>
            <p:cNvSpPr/>
            <p:nvPr/>
          </p:nvSpPr>
          <p:spPr>
            <a:xfrm>
              <a:off x="5084640" y="1699920"/>
              <a:ext cx="792000" cy="43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28b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组合 4"/>
          <p:cNvGrpSpPr/>
          <p:nvPr/>
        </p:nvGrpSpPr>
        <p:grpSpPr>
          <a:xfrm>
            <a:off x="4992840" y="2565360"/>
            <a:ext cx="5976720" cy="576360"/>
            <a:chOff x="4992840" y="2565360"/>
            <a:chExt cx="5976720" cy="576360"/>
          </a:xfrm>
        </p:grpSpPr>
        <p:sp>
          <p:nvSpPr>
            <p:cNvPr id="128" name="对角圆角矩形 5"/>
            <p:cNvSpPr/>
            <p:nvPr/>
          </p:nvSpPr>
          <p:spPr>
            <a:xfrm>
              <a:off x="4992840" y="2565360"/>
              <a:ext cx="5976720" cy="576360"/>
            </a:xfrm>
            <a:prstGeom prst="pie">
              <a:avLst/>
            </a:prstGeom>
            <a:solidFill>
              <a:srgbClr val="00a28b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对角圆角矩形 6"/>
            <p:cNvSpPr/>
            <p:nvPr/>
          </p:nvSpPr>
          <p:spPr>
            <a:xfrm>
              <a:off x="5064120" y="2636640"/>
              <a:ext cx="792000" cy="43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28b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7"/>
          <p:cNvGrpSpPr/>
          <p:nvPr/>
        </p:nvGrpSpPr>
        <p:grpSpPr>
          <a:xfrm>
            <a:off x="5013360" y="3500280"/>
            <a:ext cx="5977080" cy="576360"/>
            <a:chOff x="5013360" y="3500280"/>
            <a:chExt cx="5977080" cy="576360"/>
          </a:xfrm>
        </p:grpSpPr>
        <p:sp>
          <p:nvSpPr>
            <p:cNvPr id="131" name="对角圆角矩形 8"/>
            <p:cNvSpPr/>
            <p:nvPr/>
          </p:nvSpPr>
          <p:spPr>
            <a:xfrm>
              <a:off x="5013360" y="3500280"/>
              <a:ext cx="5977080" cy="576360"/>
            </a:xfrm>
            <a:prstGeom prst="pie">
              <a:avLst/>
            </a:prstGeom>
            <a:solidFill>
              <a:srgbClr val="00a28b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对角圆角矩形 9"/>
            <p:cNvSpPr/>
            <p:nvPr/>
          </p:nvSpPr>
          <p:spPr>
            <a:xfrm>
              <a:off x="5084640" y="3571560"/>
              <a:ext cx="792000" cy="43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28b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组合 10"/>
          <p:cNvGrpSpPr/>
          <p:nvPr/>
        </p:nvGrpSpPr>
        <p:grpSpPr>
          <a:xfrm>
            <a:off x="4992840" y="4437000"/>
            <a:ext cx="5976720" cy="576360"/>
            <a:chOff x="4992840" y="4437000"/>
            <a:chExt cx="5976720" cy="576360"/>
          </a:xfrm>
        </p:grpSpPr>
        <p:sp>
          <p:nvSpPr>
            <p:cNvPr id="134" name="对角圆角矩形 11"/>
            <p:cNvSpPr/>
            <p:nvPr/>
          </p:nvSpPr>
          <p:spPr>
            <a:xfrm>
              <a:off x="4992840" y="4437000"/>
              <a:ext cx="5976720" cy="576360"/>
            </a:xfrm>
            <a:prstGeom prst="pie">
              <a:avLst/>
            </a:prstGeom>
            <a:solidFill>
              <a:srgbClr val="00a28b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对角圆角矩形 12"/>
            <p:cNvSpPr/>
            <p:nvPr/>
          </p:nvSpPr>
          <p:spPr>
            <a:xfrm>
              <a:off x="5064120" y="4508280"/>
              <a:ext cx="792000" cy="43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28b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5T04:00:31Z</dcterms:modified>
  <cp:revision>9</cp:revision>
  <dc:subject/>
  <dc:title>PowerPoint 演示文稿</dc:title>
</cp:coreProperties>
</file>