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E367A-4433-4D53-941B-BEB76B38A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835640" y="4221000"/>
            <a:ext cx="5467680" cy="11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5253F-5E7E-4577-9F96-DCA30F164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835640" y="4221000"/>
            <a:ext cx="5467680" cy="11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BB510-159A-4DA1-B4FC-49742270E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835640" y="4221000"/>
            <a:ext cx="5467680" cy="11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D893C-8272-4681-9792-9130B2740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835640" y="4221000"/>
            <a:ext cx="5467680" cy="11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A20FE-F376-40A7-BEF9-21965E446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835640" y="4221000"/>
            <a:ext cx="5467680" cy="11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8757C-A58D-40D5-ACF6-A50F54B0A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835640" y="4221000"/>
            <a:ext cx="5467680" cy="11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8EAEF-3C9F-49B7-B993-B28C6D0D5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835640" y="4221000"/>
            <a:ext cx="5467680" cy="11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4C5FF-BA0F-45C5-8895-CADFFE9C1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835640" y="4221000"/>
            <a:ext cx="5467680" cy="53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126C5-77B0-4BC9-A8E4-C79341507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835640" y="4221000"/>
            <a:ext cx="5467680" cy="11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B87EC-27FD-467D-856C-5A180AB4E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835640" y="4221000"/>
            <a:ext cx="5467680" cy="11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28E37-300C-4E7A-9C67-BAF1C77B0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835640" y="4221000"/>
            <a:ext cx="5467680" cy="11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134FA-2AEA-43E1-B44B-1C6B6BB4E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0" descr="PPP_SENVI_TXT_Fresh_Spring_Day"/>
          <p:cNvPicPr/>
          <p:nvPr/>
        </p:nvPicPr>
        <p:blipFill>
          <a:blip r:embed="rId2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pic>
        <p:nvPicPr>
          <p:cNvPr id="1" name="Picture 15" descr="PPP_SENVI_TLE_Fresh_Spring_Day"/>
          <p:cNvPicPr/>
          <p:nvPr/>
        </p:nvPicPr>
        <p:blipFill>
          <a:blip r:embed="rId3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835640" y="4221000"/>
            <a:ext cx="5467680" cy="1151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TW" sz="3600" spc="-1" strike="noStrike">
                <a:solidFill>
                  <a:srgbClr val="000000"/>
                </a:solidFill>
                <a:latin typeface="Corbel"/>
              </a:rPr>
              <a:t>按一下以編輯母片標題樣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147600" y="6402240"/>
            <a:ext cx="21333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402240"/>
            <a:ext cx="2895120" cy="304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772320" y="6402240"/>
            <a:ext cx="2133360" cy="304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1985F5D-DFF5-4504-ABF6-2E4507E0C0B7}" type="slidenum">
              <a:rPr b="0" lang="en-US" sz="10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文字方塊 1"/>
          <p:cNvSpPr/>
          <p:nvPr/>
        </p:nvSpPr>
        <p:spPr>
          <a:xfrm>
            <a:off x="12600" y="12600"/>
            <a:ext cx="12240" cy="12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omic Sans MS"/>
              <a:ea typeface="宋体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15640" y="4149000"/>
            <a:ext cx="6841080" cy="1152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000" spc="-1" strike="noStrike">
                <a:solidFill>
                  <a:srgbClr val="000000"/>
                </a:solidFill>
                <a:latin typeface="Corbel"/>
                <a:ea typeface="PMingLiU"/>
              </a:rPr>
              <a:t>洗澡的狗狗通用</a:t>
            </a:r>
            <a:r>
              <a:rPr b="0" lang="en-US" sz="4000" spc="-1" strike="noStrike">
                <a:solidFill>
                  <a:srgbClr val="000000"/>
                </a:solidFill>
                <a:latin typeface="Corbel"/>
                <a:ea typeface="PMingLiU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Corbel"/>
                <a:ea typeface="PMingLiU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2411280" y="5445000"/>
            <a:ext cx="4384440" cy="685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 algn="ctr">
              <a:buNone/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Simple 01">
  <a:themeElements>
    <a:clrScheme name="Simple_1">
      <a:dk1>
        <a:srgbClr val="000000"/>
      </a:dk1>
      <a:lt1>
        <a:srgbClr val="ffffff"/>
      </a:lt1>
      <a:dk2>
        <a:srgbClr val="17375d"/>
      </a:dk2>
      <a:lt2>
        <a:srgbClr val="bedbfe"/>
      </a:lt2>
      <a:accent1>
        <a:srgbClr val="686f3a"/>
      </a:accent1>
      <a:accent2>
        <a:srgbClr val="165996"/>
      </a:accent2>
      <a:accent3>
        <a:srgbClr val="7276a0"/>
      </a:accent3>
      <a:accent4>
        <a:srgbClr val="7db434"/>
      </a:accent4>
      <a:accent5>
        <a:srgbClr val="d28300"/>
      </a:accent5>
      <a:accent6>
        <a:srgbClr val="2b62cb"/>
      </a:accent6>
      <a:hlink>
        <a:srgbClr val="b58900"/>
      </a:hlink>
      <a:folHlink>
        <a:srgbClr val="b55c39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  <Words>14</Words>
  <Paragraphs>2</Paragraphs>
  <Company>Your Company Name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4T07:48:07Z</dcterms:created>
  <dc:creator>Your User Name</dc:creator>
  <dc:description/>
  <dc:language>en-US</dc:language>
  <cp:lastModifiedBy>王玉清</cp:lastModifiedBy>
  <dcterms:modified xsi:type="dcterms:W3CDTF">2016-03-02T07:36:40Z</dcterms:modified>
  <cp:revision>5</cp:revision>
  <dc:subject/>
  <dc:title>投影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4:3)</vt:lpwstr>
  </property>
  <property fmtid="{D5CDD505-2E9C-101B-9397-08002B2CF9AE}" pid="3" name="Slides">
    <vt:r8>1</vt:r8>
  </property>
</Properties>
</file>