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5A983-494C-4922-9F16-78A6671F4788}"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EF1B2-EE7B-4515-B0E8-221627388A79}"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26A0-2D97-45D7-AFCF-F40EC0363230}"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42F4A-361E-4C0E-B06F-6EF94B9E0EC8}"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9F3C60-AC95-4298-AE62-13D5E0B89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2CD7A5-A838-4304-BFD9-CA6E252DD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D5AC7A-53E5-49BB-A508-CD451249AB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0407D-2329-4853-A590-EC1715AA5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EC2D8-DCBA-4119-B24B-85943454C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9B535-78A5-4522-BF2F-69B4A8C02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905D5-EDF5-44C4-BDDD-0BD8D33F1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BC631-E9D9-43CB-A980-101795742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C73C3-A7AD-4F3A-9D2E-74BAED2E9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7AB06-A991-4AA0-AF61-BF761D009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D8638-FFD1-452F-982A-C2965CB1A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1110E-9004-4D5A-B19E-4FE3D9C0FE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1CBB5-FDD6-4A7A-94A4-88CEC1E756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90C3D-56F7-4BAC-B5AB-ADAC8113B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ED1FA-2067-4C65-A68F-1EB340953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DF552-60E0-4AFB-B764-99F8F8D9C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4065D-0585-40F4-B3CA-CE48749BCD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2082D-1840-4276-8027-F468D1292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A0DFB-9CF6-46FF-9E28-41A0B96D7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0487A-54FE-41E1-A4D7-6A7E4DEE0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6C61B-C8A8-44DC-9C83-C1416A974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47825-D121-48E6-9BE2-34A062FAF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CE3BD-EB00-44B3-89FE-0B441788D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7EECD-37D4-48C9-A922-923D432CA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4936-5EB7-44C7-8C73-52BB323FAE42}"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54AD-0F46-42A4-BAFF-0B1D53C0B57C}"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1714680"/>
            <a:ext cx="7315200" cy="66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硬币别墅金融</a:t>
            </a:r>
            <a:r>
              <a:rPr b="1" lang="en-US" sz="4000" spc="-1" strike="noStrike">
                <a:solidFill>
                  <a:srgbClr val="000000"/>
                </a:solidFill>
                <a:latin typeface="Tahoma"/>
              </a:rPr>
              <a:t>PPT</a:t>
            </a:r>
            <a:r>
              <a:rPr b="1" lang="zh-CN" sz="4000" spc="-1" strike="noStrike">
                <a:solidFill>
                  <a:srgbClr val="000000"/>
                </a:solidFill>
                <a:latin typeface="Tahoma"/>
              </a:rPr>
              <a:t>模板免费下载</a:t>
            </a:r>
            <a:endParaRPr b="1" lang="en-US" sz="4000" spc="-1" strike="noStrike">
              <a:solidFill>
                <a:srgbClr val="000000"/>
              </a:solidFill>
              <a:latin typeface="Tahoma"/>
            </a:endParaRPr>
          </a:p>
        </p:txBody>
      </p:sp>
      <p:sp>
        <p:nvSpPr>
          <p:cNvPr id="90" name="PlaceHolder 2"/>
          <p:cNvSpPr>
            <a:spLocks noGrp="1"/>
          </p:cNvSpPr>
          <p:nvPr>
            <p:ph type="subTitle"/>
          </p:nvPr>
        </p:nvSpPr>
        <p:spPr>
          <a:xfrm>
            <a:off x="2057400" y="4343040"/>
            <a:ext cx="5029200" cy="609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d0d0d"/>
              </a:solidFill>
              <a:latin typeface="Arial"/>
              <a:ea typeface="Arial"/>
            </a:endParaRPr>
          </a:p>
        </p:txBody>
      </p:sp>
      <p:sp>
        <p:nvSpPr>
          <p:cNvPr id="91" name="Title 1"/>
          <p:cNvSpPr/>
          <p:nvPr/>
        </p:nvSpPr>
        <p:spPr>
          <a:xfrm>
            <a:off x="3505320" y="380880"/>
            <a:ext cx="5486400" cy="66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ahoma"/>
              </a:rPr>
              <a:t>Presentation Title</a:t>
            </a:r>
            <a:endParaRPr b="0" lang="en-US" sz="3200" spc="-1" strike="noStrike">
              <a:solidFill>
                <a:srgbClr val="000000"/>
              </a:solidFill>
              <a:latin typeface="Arial"/>
            </a:endParaRPr>
          </a:p>
        </p:txBody>
      </p:sp>
      <p:sp>
        <p:nvSpPr>
          <p:cNvPr id="92" name="Subtitle 2"/>
          <p:cNvSpPr/>
          <p:nvPr/>
        </p:nvSpPr>
        <p:spPr>
          <a:xfrm>
            <a:off x="3733920" y="1066680"/>
            <a:ext cx="5029200" cy="60984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rPr>
              <a:t>Presentation Subtitle</a:t>
            </a:r>
            <a:endParaRPr b="0" lang="en-US" sz="2000" spc="-1" strike="noStrike">
              <a:solidFill>
                <a:srgbClr val="000000"/>
              </a:solidFill>
              <a:latin typeface="Arial"/>
            </a:endParaRPr>
          </a:p>
        </p:txBody>
      </p:sp>
      <p:sp>
        <p:nvSpPr>
          <p:cNvPr id="9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7" name=""/>
          <p:cNvSpPr txBox="1"/>
          <p:nvPr/>
        </p:nvSpPr>
        <p:spPr>
          <a:xfrm>
            <a:off x="1980720" y="160020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王玉清</cp:lastModifiedBy>
  <dcterms:modified xsi:type="dcterms:W3CDTF">2016-02-15T04:33:34Z</dcterms:modified>
  <cp:revision>33</cp:revision>
  <dc:subject/>
  <dc:title>PowerPoint Presentation</dc:title>
</cp:coreProperties>
</file>