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DB89B-6ACD-4024-B87C-0DAF3929E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69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D212-E1D7-49DB-8ECD-7824BB069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69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969F-715D-4B4A-A9CE-FBC0AF0F95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69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0ADE7-7C53-4514-A163-0BFE599687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69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62460-AF0C-46C2-BE04-D6FEA8C95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69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A0BFB-570C-4CF9-B9A2-99DFF2107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69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2DF99-83FC-462F-B83D-0BA8BF5921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69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797C-59D6-4A1F-BC1A-FAA471799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-360" y="26640"/>
            <a:ext cx="694836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EAB9-A222-4DBF-9B0D-99E4261683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69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FD737-6C11-4880-9AAF-5075127E4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69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16F-9521-4B67-8F91-D0685608C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69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F620-E7A0-4E41-A45F-C5344EB6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26640"/>
            <a:ext cx="694836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Malgun Gothic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4AFA78-A9CD-4A71-A479-1440AF4949E3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36C42-E66A-4E28-88B5-60423D9F21C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sucai/" TargetMode="External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3"/>
          <p:cNvSpPr/>
          <p:nvPr/>
        </p:nvSpPr>
        <p:spPr>
          <a:xfrm>
            <a:off x="4321080" y="1530360"/>
            <a:ext cx="4211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INSERT THE TITL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f3f3f"/>
                </a:solidFill>
                <a:latin typeface="Arial"/>
              </a:rPr>
              <a:t>OF YOUR PRESENTATION HERE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1"/>
          <p:cNvSpPr/>
          <p:nvPr/>
        </p:nvSpPr>
        <p:spPr>
          <a:xfrm>
            <a:off x="4321080" y="555480"/>
            <a:ext cx="4211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Arial"/>
                <a:ea typeface="Malgun Gothic"/>
              </a:rPr>
              <a:t>FR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f3f3f"/>
                </a:solidFill>
                <a:latin typeface="Arial"/>
                <a:ea typeface="Malgun Gothic"/>
              </a:rPr>
              <a:t>PPT TEMPLAT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1"/>
          <p:cNvSpPr/>
          <p:nvPr/>
        </p:nvSpPr>
        <p:spPr>
          <a:xfrm>
            <a:off x="7236000" y="4424400"/>
            <a:ext cx="129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6"/>
          <p:cNvSpPr/>
          <p:nvPr/>
        </p:nvSpPr>
        <p:spPr>
          <a:xfrm>
            <a:off x="0" y="4843440"/>
            <a:ext cx="914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" spc="-1" strike="noStrike">
                <a:solidFill>
                  <a:srgbClr val="3f3f3f"/>
                </a:solidFill>
                <a:latin typeface="Arial"/>
                <a:ea typeface="宋体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473220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943000" y="339840"/>
            <a:ext cx="293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云计算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素材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08000" y="952560"/>
            <a:ext cx="8928000" cy="39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Malgun Gothic"/>
              </a:rPr>
              <a:t>站点介绍：</a:t>
            </a:r>
            <a:endParaRPr b="0" lang="en-US" sz="11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Malgun Gothic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0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Malgun Gothic"/>
              </a:rPr>
              <a:t>特别说明：</a:t>
            </a:r>
            <a:endParaRPr b="0" lang="en-US" sz="11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Malgun Gothic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100" spc="-1" strike="noStrike">
                <a:solidFill>
                  <a:srgbClr val="ededed"/>
                </a:solidFill>
                <a:latin typeface="Malgun Gothic"/>
              </a:rPr>
              <a:t>栏目推荐：</a:t>
            </a:r>
            <a:endParaRPr b="0" lang="en-US" sz="11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9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  <a:p>
            <a:pPr indent="0">
              <a:lnSpc>
                <a:spcPct val="10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49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2CCB7-0A20-4776-B415-0901F78BCA5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0" y="26640"/>
            <a:ext cx="91440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3f3f3f"/>
                </a:solidFill>
                <a:latin typeface="Arial"/>
              </a:rPr>
              <a:t>Enter Your Tittle 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1318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f3f3f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f3f3f"/>
                </a:solidFill>
                <a:latin typeface="Arial"/>
              </a:rPr>
              <a:t>Widescreen 16:9</a:t>
            </a:r>
            <a:endParaRPr b="0" lang="en-US" sz="2800" spc="-1" strike="noStrike">
              <a:solidFill>
                <a:srgbClr val="000000"/>
              </a:solidFill>
              <a:latin typeface="Malgun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is PowerPoint Template has clean and neutral design that can be adapted to any content and meets various market segments. With this many slides you are able to make a complete PowerPoint Presentation that best suit your needs. 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7f7f7f"/>
              </a:buClr>
              <a:buSzPct val="25000"/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7f7f"/>
                </a:solidFill>
                <a:latin typeface="Arial"/>
              </a:rPr>
              <a:t>This PowerPoint Template has clean and neutral design that can be adapted to any content and meets various market segments. With this many slides you are able to make a complete PowerPoint Presentation that best suit your needs.</a:t>
            </a:r>
            <a:endParaRPr b="0" lang="en-US" sz="2000" spc="-1" strike="noStrike">
              <a:solidFill>
                <a:srgbClr val="000000"/>
              </a:solidFill>
              <a:latin typeface="Malgun Gothic"/>
            </a:endParaRPr>
          </a:p>
        </p:txBody>
      </p:sp>
      <p:sp>
        <p:nvSpPr>
          <p:cNvPr id="52" name=""/>
          <p:cNvSpPr/>
          <p:nvPr/>
        </p:nvSpPr>
        <p:spPr>
          <a:xfrm>
            <a:off x="2197080" y="4660920"/>
            <a:ext cx="468000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ppt图片素材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/sucai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01T16:27:00Z</dcterms:created>
  <dc:creator>Registered User</dc:creator>
  <dc:description/>
  <dc:language>en-US</dc:language>
  <cp:lastModifiedBy>WIN7</cp:lastModifiedBy>
  <dcterms:modified xsi:type="dcterms:W3CDTF">2015-07-20T11:16:10Z</dcterms:modified>
  <cp:revision>1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