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198-55C6-49B3-B8B8-8EF03164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2F8-15C9-4FF4-A5AC-16196B94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198-9A1B-4A59-B2B7-197307AF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0BA-994B-49A3-8501-E59BE0C5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1DC-6BF1-442F-B9DB-15D0686C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059-97A0-439E-9E19-F947FA9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4BC-B68D-4E5F-A282-AA0EA4A2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8B8-A6E2-4411-8718-43065589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AFE-BF03-41F3-BC95-4AC54B4F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3CC-3DC2-4473-8F5A-DA7DD783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80D-6F20-4AB5-B18E-97646CC8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08A-82B9-4A62-A8F3-1B3A5283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CDB4-4532-4236-A359-269D55C325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3C72-238C-40B2-B3D3-24291AD064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 rot="19236600">
            <a:off x="-906480" y="387000"/>
            <a:ext cx="3008160" cy="3729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搜狐新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 rot="19162200">
            <a:off x="-216720" y="17532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SOHU  N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7596360" y="50760"/>
            <a:ext cx="1655280" cy="308160"/>
            <a:chOff x="7596360" y="50760"/>
            <a:chExt cx="1655280" cy="308160"/>
          </a:xfrm>
        </p:grpSpPr>
        <p:sp>
          <p:nvSpPr>
            <p:cNvPr id="45" name="TextBox 13"/>
            <p:cNvSpPr/>
            <p:nvPr/>
          </p:nvSpPr>
          <p:spPr>
            <a:xfrm>
              <a:off x="7596360" y="5076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闪客小波改编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14"/>
            <p:cNvSpPr/>
            <p:nvPr/>
          </p:nvSpPr>
          <p:spPr>
            <a:xfrm>
              <a:off x="7668000" y="321840"/>
              <a:ext cx="1583640" cy="0"/>
            </a:xfrm>
            <a:prstGeom prst="line">
              <a:avLst/>
            </a:prstGeom>
            <a:ln w="9360">
              <a:solidFill>
                <a:srgbClr val="91c61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15"/>
            <p:cNvSpPr/>
            <p:nvPr/>
          </p:nvSpPr>
          <p:spPr>
            <a:xfrm>
              <a:off x="7668000" y="358920"/>
              <a:ext cx="1583640" cy="0"/>
            </a:xfrm>
            <a:prstGeom prst="line">
              <a:avLst/>
            </a:prstGeom>
            <a:ln w="9360">
              <a:solidFill>
                <a:srgbClr val="91c61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Box 3"/>
          <p:cNvSpPr/>
          <p:nvPr/>
        </p:nvSpPr>
        <p:spPr>
          <a:xfrm>
            <a:off x="1009800" y="1425600"/>
            <a:ext cx="758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养老金情况说明通用</a:t>
            </a:r>
            <a:r>
              <a:rPr b="1" lang="en-US" sz="40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40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Administrator\Desktop\20111024252144.jpg"/>
          <p:cNvPicPr/>
          <p:nvPr/>
        </p:nvPicPr>
        <p:blipFill>
          <a:blip r:embed="rId1"/>
          <a:stretch/>
        </p:blipFill>
        <p:spPr>
          <a:xfrm>
            <a:off x="1619280" y="2244600"/>
            <a:ext cx="3733920" cy="2889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3"/>
          <p:cNvSpPr/>
          <p:nvPr/>
        </p:nvSpPr>
        <p:spPr>
          <a:xfrm>
            <a:off x="7788240" y="487836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素材来源于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517320" y="48625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646200" y="2253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你不是打黑工，有一纸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工劳动合同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恭喜你，够幸运！这意味着除了你工资之外，还会有你今后的养老钱，不过需要交够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得到规定退休年龄。可是细细算，你会发现你养老账户里的钱少的实在可怜，当然，除非你是公务员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·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-76320" y="1481040"/>
            <a:ext cx="9220320" cy="55404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-131760" y="1481040"/>
            <a:ext cx="94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公务员养老金：国家财政一手包办，退休前后差别不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9"/>
          <p:cNvSpPr/>
          <p:nvPr/>
        </p:nvSpPr>
        <p:spPr>
          <a:xfrm>
            <a:off x="7300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1"/>
          <p:cNvSpPr/>
          <p:nvPr/>
        </p:nvSpPr>
        <p:spPr>
          <a:xfrm>
            <a:off x="29480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2"/>
          <p:cNvSpPr/>
          <p:nvPr/>
        </p:nvSpPr>
        <p:spPr>
          <a:xfrm>
            <a:off x="51674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3"/>
          <p:cNvSpPr/>
          <p:nvPr/>
        </p:nvSpPr>
        <p:spPr>
          <a:xfrm>
            <a:off x="73864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89064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4000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5148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7380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8177040" y="30351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23800" y="37368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籍贯事业单位，退休时养老金是企业职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7986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关人士估算，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6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退休，只能享受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的退休金（以人均寿命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2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计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95288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收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0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元左右的普通职工，缴纳社保费用和领取养老金的差额高达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71834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职工养老保险缴费占工资收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8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居全球最高水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椭圆 9"/>
          <p:cNvSpPr/>
          <p:nvPr/>
        </p:nvSpPr>
        <p:spPr>
          <a:xfrm>
            <a:off x="666720" y="2355840"/>
            <a:ext cx="2448000" cy="2448000"/>
          </a:xfrm>
          <a:prstGeom prst="ellipse">
            <a:avLst/>
          </a:prstGeom>
          <a:solidFill>
            <a:srgbClr val="e9a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0" y="266760"/>
            <a:ext cx="20160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完整的退休收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2049480" y="266760"/>
            <a:ext cx="99864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退休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3348000" y="266760"/>
            <a:ext cx="22176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职务（地区）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5880240" y="266760"/>
            <a:ext cx="17110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物价生活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7907400" y="266760"/>
            <a:ext cx="12351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项福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十字形 6"/>
          <p:cNvSpPr/>
          <p:nvPr/>
        </p:nvSpPr>
        <p:spPr>
          <a:xfrm>
            <a:off x="3070080" y="385920"/>
            <a:ext cx="2764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十字形 10"/>
          <p:cNvSpPr/>
          <p:nvPr/>
        </p:nvSpPr>
        <p:spPr>
          <a:xfrm>
            <a:off x="5592600" y="385920"/>
            <a:ext cx="2746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十字形 11"/>
          <p:cNvSpPr/>
          <p:nvPr/>
        </p:nvSpPr>
        <p:spPr>
          <a:xfrm>
            <a:off x="7608960" y="385920"/>
            <a:ext cx="27612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604800" y="1017720"/>
            <a:ext cx="770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北京市公务员退休金计算公式为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退休前工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职务津贴）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比例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15"/>
          <p:cNvSpPr/>
          <p:nvPr/>
        </p:nvSpPr>
        <p:spPr>
          <a:xfrm>
            <a:off x="906480" y="2682720"/>
            <a:ext cx="1938240" cy="2049480"/>
          </a:xfrm>
          <a:prstGeom prst="ellipse">
            <a:avLst/>
          </a:prstGeom>
          <a:solidFill>
            <a:srgbClr val="efb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6"/>
          <p:cNvSpPr/>
          <p:nvPr/>
        </p:nvSpPr>
        <p:spPr>
          <a:xfrm>
            <a:off x="1085760" y="2924280"/>
            <a:ext cx="1586160" cy="1677960"/>
          </a:xfrm>
          <a:prstGeom prst="ellipse">
            <a:avLst/>
          </a:prstGeom>
          <a:solidFill>
            <a:srgbClr val="e0d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8"/>
          <p:cNvSpPr/>
          <p:nvPr/>
        </p:nvSpPr>
        <p:spPr>
          <a:xfrm>
            <a:off x="1171440" y="3092400"/>
            <a:ext cx="1397160" cy="1479600"/>
          </a:xfrm>
          <a:prstGeom prst="ellipse">
            <a:avLst/>
          </a:prstGeom>
          <a:solidFill>
            <a:srgbClr val="cfc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9"/>
          <p:cNvSpPr/>
          <p:nvPr/>
        </p:nvSpPr>
        <p:spPr>
          <a:xfrm>
            <a:off x="1305000" y="3343320"/>
            <a:ext cx="1146240" cy="121284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4"/>
          <p:cNvSpPr/>
          <p:nvPr/>
        </p:nvSpPr>
        <p:spPr>
          <a:xfrm>
            <a:off x="2238480" y="4216320"/>
            <a:ext cx="165708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2"/>
          <p:cNvSpPr/>
          <p:nvPr/>
        </p:nvSpPr>
        <p:spPr>
          <a:xfrm>
            <a:off x="2495520" y="3873600"/>
            <a:ext cx="140004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3"/>
          <p:cNvSpPr/>
          <p:nvPr/>
        </p:nvSpPr>
        <p:spPr>
          <a:xfrm>
            <a:off x="2584440" y="3530520"/>
            <a:ext cx="1311120" cy="18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24"/>
          <p:cNvSpPr/>
          <p:nvPr/>
        </p:nvSpPr>
        <p:spPr>
          <a:xfrm>
            <a:off x="2646360" y="3187800"/>
            <a:ext cx="1249200" cy="144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5"/>
          <p:cNvSpPr/>
          <p:nvPr/>
        </p:nvSpPr>
        <p:spPr>
          <a:xfrm>
            <a:off x="2787480" y="2846520"/>
            <a:ext cx="110808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3895560" y="403236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以下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3895560" y="368928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-3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2"/>
          <p:cNvSpPr/>
          <p:nvPr/>
        </p:nvSpPr>
        <p:spPr>
          <a:xfrm>
            <a:off x="3895560" y="33433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-2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3"/>
          <p:cNvSpPr/>
          <p:nvPr/>
        </p:nvSpPr>
        <p:spPr>
          <a:xfrm>
            <a:off x="3895560" y="29941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0-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4"/>
          <p:cNvSpPr/>
          <p:nvPr/>
        </p:nvSpPr>
        <p:spPr>
          <a:xfrm>
            <a:off x="3895560" y="261144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满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按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90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计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5"/>
          <p:cNvSpPr/>
          <p:nvPr/>
        </p:nvSpPr>
        <p:spPr>
          <a:xfrm>
            <a:off x="0" y="502596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54120" y="617400"/>
            <a:ext cx="1612800" cy="1747800"/>
            <a:chOff x="654120" y="617400"/>
            <a:chExt cx="1612800" cy="1747800"/>
          </a:xfrm>
        </p:grpSpPr>
        <p:sp>
          <p:nvSpPr>
            <p:cNvPr id="94" name="椭圆 3"/>
            <p:cNvSpPr/>
            <p:nvPr/>
          </p:nvSpPr>
          <p:spPr>
            <a:xfrm>
              <a:off x="1064520" y="617400"/>
              <a:ext cx="792000" cy="792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4"/>
            <p:cNvSpPr/>
            <p:nvPr/>
          </p:nvSpPr>
          <p:spPr>
            <a:xfrm>
              <a:off x="654120" y="1409760"/>
              <a:ext cx="1612800" cy="95544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6"/>
            <p:cNvSpPr/>
            <p:nvPr/>
          </p:nvSpPr>
          <p:spPr>
            <a:xfrm>
              <a:off x="934200" y="16704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北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8"/>
          <p:cNvSpPr/>
          <p:nvPr/>
        </p:nvSpPr>
        <p:spPr>
          <a:xfrm>
            <a:off x="2627280" y="890640"/>
            <a:ext cx="55483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北京市一名公务员为例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5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=50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（退休前工资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+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职务补贴）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*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（未包括津贴、补贴和各种福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654120" y="2932200"/>
            <a:ext cx="1612800" cy="1746000"/>
            <a:chOff x="654120" y="2932200"/>
            <a:chExt cx="1612800" cy="1746000"/>
          </a:xfrm>
        </p:grpSpPr>
        <p:sp>
          <p:nvSpPr>
            <p:cNvPr id="99" name="椭圆 11"/>
            <p:cNvSpPr/>
            <p:nvPr/>
          </p:nvSpPr>
          <p:spPr>
            <a:xfrm>
              <a:off x="1064520" y="293220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"/>
            <p:cNvSpPr/>
            <p:nvPr/>
          </p:nvSpPr>
          <p:spPr>
            <a:xfrm>
              <a:off x="654120" y="372384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34200" y="398412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广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4"/>
          <p:cNvSpPr/>
          <p:nvPr/>
        </p:nvSpPr>
        <p:spPr>
          <a:xfrm>
            <a:off x="2627280" y="2978280"/>
            <a:ext cx="5832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广州市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年公务员退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科员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正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处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7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-76320" y="5008680"/>
            <a:ext cx="9220320" cy="226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6"/>
          <p:cNvSpPr/>
          <p:nvPr/>
        </p:nvSpPr>
        <p:spPr>
          <a:xfrm>
            <a:off x="0" y="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4920" y="507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机关单位：基本与公务员退休标准看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900000" y="12049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09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启动的五省市（山西、上海、浙江、广东、重庆）的事业单位养老金试点改革无果而终。大多数省市基本执行公务员退休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393840" y="2540160"/>
            <a:ext cx="1612800" cy="1746000"/>
            <a:chOff x="393840" y="2540160"/>
            <a:chExt cx="1612800" cy="1746000"/>
          </a:xfrm>
        </p:grpSpPr>
        <p:sp>
          <p:nvSpPr>
            <p:cNvPr id="109" name="椭圆 8"/>
            <p:cNvSpPr/>
            <p:nvPr/>
          </p:nvSpPr>
          <p:spPr>
            <a:xfrm>
              <a:off x="804240" y="254016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4"/>
            <p:cNvSpPr/>
            <p:nvPr/>
          </p:nvSpPr>
          <p:spPr>
            <a:xfrm>
              <a:off x="393840" y="333180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11"/>
          <p:cNvSpPr/>
          <p:nvPr/>
        </p:nvSpPr>
        <p:spPr>
          <a:xfrm>
            <a:off x="2411280" y="2486160"/>
            <a:ext cx="77058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广州市某机关单位的干部黄阿姨（正科级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没退休前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6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刚退休时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3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加薪：提高到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起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-264960" y="5076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职工：缴费基数越多，退休之后差别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1217520" y="6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养老金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1260360" y="1036800"/>
            <a:ext cx="17272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月基本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十字形 8"/>
          <p:cNvSpPr/>
          <p:nvPr/>
        </p:nvSpPr>
        <p:spPr>
          <a:xfrm>
            <a:off x="302904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3359160" y="1036800"/>
            <a:ext cx="24987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统筹（基础）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6227640" y="1036800"/>
            <a:ext cx="12384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个人账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十字形 11"/>
          <p:cNvSpPr/>
          <p:nvPr/>
        </p:nvSpPr>
        <p:spPr>
          <a:xfrm>
            <a:off x="590400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3218040" y="1539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用人单位按缴费工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6203880" y="15397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负担按缴费工资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1087560" y="1916280"/>
            <a:ext cx="69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养老金计算公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非常复杂，非社保专业人员很难搞懂，核算指标有很多不确定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1135080" y="2746440"/>
            <a:ext cx="601560" cy="790560"/>
            <a:chOff x="1135080" y="2746440"/>
            <a:chExt cx="601560" cy="790560"/>
          </a:xfrm>
        </p:grpSpPr>
        <p:sp>
          <p:nvSpPr>
            <p:cNvPr id="124" name="椭圆 17"/>
            <p:cNvSpPr/>
            <p:nvPr/>
          </p:nvSpPr>
          <p:spPr>
            <a:xfrm>
              <a:off x="1274040" y="2746440"/>
              <a:ext cx="359280" cy="35856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4"/>
            <p:cNvSpPr/>
            <p:nvPr/>
          </p:nvSpPr>
          <p:spPr>
            <a:xfrm>
              <a:off x="1135080" y="3105000"/>
              <a:ext cx="601560" cy="43200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圆角矩形 4"/>
          <p:cNvSpPr/>
          <p:nvPr/>
        </p:nvSpPr>
        <p:spPr>
          <a:xfrm>
            <a:off x="324000" y="296244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7"/>
          <p:cNvGrpSpPr/>
          <p:nvPr/>
        </p:nvGrpSpPr>
        <p:grpSpPr>
          <a:xfrm>
            <a:off x="1104840" y="3841920"/>
            <a:ext cx="600120" cy="792000"/>
            <a:chOff x="1104840" y="3841920"/>
            <a:chExt cx="600120" cy="792000"/>
          </a:xfrm>
        </p:grpSpPr>
        <p:sp>
          <p:nvSpPr>
            <p:cNvPr id="128" name="椭圆 22"/>
            <p:cNvSpPr/>
            <p:nvPr/>
          </p:nvSpPr>
          <p:spPr>
            <a:xfrm>
              <a:off x="1243440" y="3841920"/>
              <a:ext cx="358560" cy="35892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4"/>
            <p:cNvSpPr/>
            <p:nvPr/>
          </p:nvSpPr>
          <p:spPr>
            <a:xfrm>
              <a:off x="1104840" y="4200840"/>
              <a:ext cx="600120" cy="4330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圆角矩形 24"/>
          <p:cNvSpPr/>
          <p:nvPr/>
        </p:nvSpPr>
        <p:spPr>
          <a:xfrm>
            <a:off x="293760" y="405936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5"/>
          <p:cNvSpPr/>
          <p:nvPr/>
        </p:nvSpPr>
        <p:spPr>
          <a:xfrm>
            <a:off x="1941480" y="2749680"/>
            <a:ext cx="69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女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5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2139840" y="304308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2644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1936800" y="395928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男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6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8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9"/>
          <p:cNvSpPr/>
          <p:nvPr/>
        </p:nvSpPr>
        <p:spPr>
          <a:xfrm>
            <a:off x="2139840" y="431496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5139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40480" y="4913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-611280" y="50760"/>
            <a:ext cx="104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能看到的只是养老钱的差别，看不见的还有很多</a:t>
            </a:r>
            <a:r>
              <a:rPr b="0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74680" y="1028880"/>
            <a:ext cx="4895640" cy="2802240"/>
            <a:chOff x="274680" y="1028880"/>
            <a:chExt cx="4895640" cy="2802240"/>
          </a:xfrm>
        </p:grpSpPr>
        <p:sp>
          <p:nvSpPr>
            <p:cNvPr id="139" name="椭圆 5"/>
            <p:cNvSpPr/>
            <p:nvPr/>
          </p:nvSpPr>
          <p:spPr>
            <a:xfrm>
              <a:off x="1386360" y="103680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7"/>
            <p:cNvSpPr/>
            <p:nvPr/>
          </p:nvSpPr>
          <p:spPr>
            <a:xfrm>
              <a:off x="274680" y="1747440"/>
              <a:ext cx="1079640" cy="1080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房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8"/>
            <p:cNvSpPr/>
            <p:nvPr/>
          </p:nvSpPr>
          <p:spPr>
            <a:xfrm>
              <a:off x="1386360" y="289728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9"/>
            <p:cNvSpPr/>
            <p:nvPr/>
          </p:nvSpPr>
          <p:spPr>
            <a:xfrm>
              <a:off x="1710360" y="1967040"/>
              <a:ext cx="64764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0"/>
            <p:cNvSpPr/>
            <p:nvPr/>
          </p:nvSpPr>
          <p:spPr>
            <a:xfrm flipV="1">
              <a:off x="1278360" y="1698840"/>
              <a:ext cx="147960" cy="18828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14"/>
            <p:cNvSpPr/>
            <p:nvPr/>
          </p:nvSpPr>
          <p:spPr>
            <a:xfrm>
              <a:off x="1386360" y="2291040"/>
              <a:ext cx="293760" cy="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7"/>
            <p:cNvSpPr/>
            <p:nvPr/>
          </p:nvSpPr>
          <p:spPr>
            <a:xfrm>
              <a:off x="1295640" y="2677320"/>
              <a:ext cx="180720" cy="20700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9"/>
            <p:cNvSpPr/>
            <p:nvPr/>
          </p:nvSpPr>
          <p:spPr>
            <a:xfrm>
              <a:off x="2044080" y="1028880"/>
              <a:ext cx="25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公积金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按职务、级别、年限补贴不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20"/>
            <p:cNvSpPr/>
            <p:nvPr/>
          </p:nvSpPr>
          <p:spPr>
            <a:xfrm>
              <a:off x="2358360" y="206028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购房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21"/>
            <p:cNvSpPr/>
            <p:nvPr/>
          </p:nvSpPr>
          <p:spPr>
            <a:xfrm>
              <a:off x="2044080" y="3036600"/>
              <a:ext cx="31262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提租补贴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对租住公有住房的职工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因租金提高而由单位给予的补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5292720" y="1635120"/>
            <a:ext cx="1211400" cy="1081080"/>
            <a:chOff x="5292720" y="1635120"/>
            <a:chExt cx="1211400" cy="1081080"/>
          </a:xfrm>
        </p:grpSpPr>
        <p:sp>
          <p:nvSpPr>
            <p:cNvPr id="150" name="椭圆 24"/>
            <p:cNvSpPr/>
            <p:nvPr/>
          </p:nvSpPr>
          <p:spPr>
            <a:xfrm>
              <a:off x="5292720" y="1635120"/>
              <a:ext cx="1079640" cy="108108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17"/>
            <p:cNvGrpSpPr/>
            <p:nvPr/>
          </p:nvGrpSpPr>
          <p:grpSpPr>
            <a:xfrm>
              <a:off x="5547240" y="1777320"/>
              <a:ext cx="574200" cy="378000"/>
              <a:chOff x="5547240" y="1777320"/>
              <a:chExt cx="574200" cy="378000"/>
            </a:xfrm>
          </p:grpSpPr>
          <p:sp>
            <p:nvSpPr>
              <p:cNvPr id="152" name="矩形 22"/>
              <p:cNvSpPr/>
              <p:nvPr/>
            </p:nvSpPr>
            <p:spPr>
              <a:xfrm>
                <a:off x="5629680" y="1894680"/>
                <a:ext cx="491760" cy="2606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648072" h="343152">
                    <a:moveTo>
                      <a:pt x="356663" y="63899"/>
                    </a:moveTo>
                    <a:lnTo>
                      <a:pt x="356663" y="117738"/>
                    </a:lnTo>
                    <a:lnTo>
                      <a:pt x="302434" y="117738"/>
                    </a:lnTo>
                    <a:lnTo>
                      <a:pt x="302434" y="225415"/>
                    </a:lnTo>
                    <a:lnTo>
                      <a:pt x="356663" y="225415"/>
                    </a:lnTo>
                    <a:lnTo>
                      <a:pt x="356663" y="279254"/>
                    </a:lnTo>
                    <a:lnTo>
                      <a:pt x="465120" y="279254"/>
                    </a:lnTo>
                    <a:lnTo>
                      <a:pt x="465120" y="225415"/>
                    </a:lnTo>
                    <a:lnTo>
                      <a:pt x="519349" y="225415"/>
                    </a:lnTo>
                    <a:lnTo>
                      <a:pt x="519349" y="117738"/>
                    </a:lnTo>
                    <a:lnTo>
                      <a:pt x="465120" y="117738"/>
                    </a:lnTo>
                    <a:lnTo>
                      <a:pt x="465120" y="63899"/>
                    </a:lnTo>
                    <a:lnTo>
                      <a:pt x="356663" y="63899"/>
                    </a:lnTo>
                    <a:close/>
                    <a:moveTo>
                      <a:pt x="0" y="0"/>
                    </a:moveTo>
                    <a:lnTo>
                      <a:pt x="648072" y="0"/>
                    </a:lnTo>
                    <a:lnTo>
                      <a:pt x="648072" y="343152"/>
                    </a:lnTo>
                    <a:lnTo>
                      <a:pt x="0" y="343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等腰三角形 25"/>
              <p:cNvSpPr/>
              <p:nvPr/>
            </p:nvSpPr>
            <p:spPr>
              <a:xfrm>
                <a:off x="5547240" y="1777320"/>
                <a:ext cx="165240" cy="149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Box 30"/>
            <p:cNvSpPr/>
            <p:nvPr/>
          </p:nvSpPr>
          <p:spPr>
            <a:xfrm>
              <a:off x="5530320" y="2175840"/>
              <a:ext cx="97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医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33"/>
          <p:cNvSpPr/>
          <p:nvPr/>
        </p:nvSpPr>
        <p:spPr>
          <a:xfrm>
            <a:off x="6384960" y="206676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吃财政变成了吃医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4"/>
          <p:cNvSpPr/>
          <p:nvPr/>
        </p:nvSpPr>
        <p:spPr>
          <a:xfrm>
            <a:off x="5219640" y="33289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有很多我们不知道的东西，公务员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报销比例能达到</a:t>
            </a:r>
            <a:r>
              <a:rPr b="0" lang="en-US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90%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以上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副司局级公务员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在指定医院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干部门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医，医疗报销费要比普通公务员更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2181240" y="170820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9:00:00Z</dcterms:created>
  <dc:creator>Administrator</dc:creator>
  <dc:description/>
  <cp:keywords/>
  <dc:language>en-US</dc:language>
  <cp:lastModifiedBy>王玉清</cp:lastModifiedBy>
  <dcterms:modified xsi:type="dcterms:W3CDTF">2016-02-24T03:26:34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