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8C62-2839-4545-B5F3-92254F1D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F54-CEBD-42E5-8585-A20115EE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A4E-410F-4ED5-8E05-F57A687B4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66C-CE59-443E-8243-8551714A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DF7D-CEA4-474D-95A6-62C4681CB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777B-4D94-4198-98C5-6AB25930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8005-6FE5-48C6-9017-6D19DA24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10E6-21EA-4841-8922-2A921CA6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2840-9880-42A3-BEA9-37F3A684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C096-4E25-4ACF-ACE0-E27BBA1D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F96E-8613-4CE2-BF67-3987C1FC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751-A1FC-4B2B-A28C-9AB788D7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ACCF-7160-42BD-B276-F6CE1411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ABB3-1251-405E-B1CC-CF5FBFD9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96BB-9245-4A59-B606-1E016D0C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5015-1595-42A0-BB69-A3148E08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575C-77EC-4C15-B3A6-80D5BA35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1AD1-CB6F-4B19-8174-81595FA3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2EF-5F49-448B-95C3-B09FD870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1C9B-16BC-4873-AEE6-079B6098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529-BCC4-4AD2-B5B5-DABC868FE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9FD-CFF2-4851-8BF4-D1DED4F1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1CA-FA48-4174-A914-9A8F1670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181-E07E-42E0-946E-48893AC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622560"/>
            <a:ext cx="289584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09920" y="6622560"/>
            <a:ext cx="2133720" cy="1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C32E-54BB-4AB4-92FA-4EB8CF768A5B}" type="slidenum">
              <a:rPr b="1" lang="zh-CN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4"/>
          </p:nvPr>
        </p:nvSpPr>
        <p:spPr>
          <a:xfrm>
            <a:off x="-36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5"/>
          </p:nvPr>
        </p:nvSpPr>
        <p:spPr>
          <a:xfrm>
            <a:off x="3124080" y="66261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6"/>
          </p:nvPr>
        </p:nvSpPr>
        <p:spPr>
          <a:xfrm>
            <a:off x="7009920" y="66261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2AE1-1C8C-4442-B04B-9CDCE147B992}" type="slidenum">
              <a:rPr b="1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月亮通用</a:t>
            </a:r>
            <a:r>
              <a:rPr b="0" lang="en-US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宋体"/>
              </a:rPr>
              <a:t>Your Topic Goes Here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581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  <a:ea typeface="宋体"/>
              </a:rPr>
              <a:t>Transitional Page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320" y="4160520"/>
            <a:ext cx="906768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  <a:ea typeface="宋体"/>
              </a:rPr>
              <a:t>Your Topic Goes Here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880" y="1066320"/>
            <a:ext cx="7315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3:19:48Z</dcterms:created>
  <dc:creator>User</dc:creator>
  <dc:description/>
  <dc:language>en-US</dc:language>
  <cp:lastModifiedBy>王玉清</cp:lastModifiedBy>
  <dcterms:modified xsi:type="dcterms:W3CDTF">2016-02-20T04:32:44Z</dcterms:modified>
  <cp:revision>4</cp:revision>
  <dc:subject/>
  <dc:title>Blue Skies</dc:title>
</cp:coreProperties>
</file>