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6675-00B1-4A0C-90A1-5E120417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AEF4-2437-4259-A2C4-72B0CD6C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75C9-AFA6-4A31-8C30-8EA5F80C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3C10-41DD-42E0-991F-8A2CC49C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8031-CBE8-4BD7-9071-B31E336E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D517-DFD7-4301-94CD-9B8F7604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C139-8A5F-49BB-A90D-B51126C5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6AD9-19B3-4BCD-B7D2-D1EBDF49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B1EA-0867-4FCB-80F0-0FD52241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2C3E-BD27-47E5-B50E-EEBA6F07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192E-BBA3-4804-864C-BED30464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B05F-92A0-4C53-BE91-D3D8C7E5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97D8-C488-48AD-8171-98CE48C41E7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d4d4d"/>
              </a:solidFill>
              <a:latin typeface="Times New Roman"/>
              <a:ea typeface="宋体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1350000" y="1143000"/>
            <a:ext cx="60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艺术花朵教育通用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d4d4d"/>
              </a:solidFill>
              <a:latin typeface="Times New Roman"/>
              <a:ea typeface="宋体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4d4d4d"/>
              </a:solidFill>
              <a:latin typeface="Times New Roman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6T13:31:35Z</dcterms:created>
  <dc:creator/>
  <dc:description/>
  <cp:keywords/>
  <dc:language>en-US</dc:language>
  <cp:lastModifiedBy>王玉清</cp:lastModifiedBy>
  <dcterms:modified xsi:type="dcterms:W3CDTF">2016-02-24T03:33:35Z</dcterms:modified>
  <cp:revision>7</cp:revision>
  <dc:subject/>
  <dc:title>ppt.glzy8.com提供海量PPT模板免费下载！</dc:title>
</cp:coreProperties>
</file>