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6BE-482A-477E-9FC8-D6FA4DAA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750-959F-450D-880E-A943815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1F6-233B-45C6-8E9E-499A018A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048-3472-440D-AD2E-3D561F55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18C1-0F48-4805-8C0A-B522B8A6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0344-E7F6-4CA7-AE27-C0DAD86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E493-2C9C-4AF0-B8CB-4954DFED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8829-9F5C-4AC8-B6AF-8EF3E01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334-A279-4540-A775-C0C21982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25E-1779-4E8A-8367-58945653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EC2-CA9E-4A02-9309-A729743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E7A-4332-4FEE-91A9-D0531DB1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51C-CF97-45A7-8C78-7158C7F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CBC-26E4-4CB2-B86E-3B99CEF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65F-3410-490F-95A7-D955990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B06-99D2-4AE2-AA67-67AAFFAE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555C-8584-43A0-95E6-430040CB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206-841C-4B50-A1C2-01402E27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07E-0A3A-4CDB-B324-08557D7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0FB-CAB2-4AB6-A5CB-8A28CB2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968-21AB-4C3C-8E0A-04904770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5CF-54C3-43F3-B062-12D3B32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B6C-C184-49C1-BA3B-4463EB3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E3B-AE33-4D16-B75B-F4F766B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12F373-331A-4B09-9B3A-923C1A39DF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4E926-F957-4432-920C-DAB3D21A81E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4181760"/>
            <a:ext cx="700056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Power Poin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378720" y="553896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941840" y="3808440"/>
            <a:ext cx="5068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银行卡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0"/>
          <p:cNvSpPr/>
          <p:nvPr/>
        </p:nvSpPr>
        <p:spPr>
          <a:xfrm>
            <a:off x="6357960" y="371196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215968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712880" y="2166840"/>
            <a:ext cx="5206680" cy="23284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eeece1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2601720" y="371196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77933c"/>
              </a:gs>
              <a:gs pos="100000">
                <a:srgbClr val="404f27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252960" y="2781360"/>
            <a:ext cx="1647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781200" y="371484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20000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882720" y="4183200"/>
            <a:ext cx="1160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646360" y="4183200"/>
            <a:ext cx="1290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500720" y="371196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4583160" y="4183200"/>
            <a:ext cx="1290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6513480" y="4183200"/>
            <a:ext cx="1058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643040" y="1547640"/>
            <a:ext cx="545148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800" y="71280"/>
            <a:ext cx="3757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标题 8"/>
          <p:cNvSpPr/>
          <p:nvPr/>
        </p:nvSpPr>
        <p:spPr>
          <a:xfrm>
            <a:off x="285840" y="4000680"/>
            <a:ext cx="507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5d5d5d"/>
                </a:solidFill>
                <a:latin typeface="Arial"/>
                <a:ea typeface="宋体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副标题 9"/>
          <p:cNvSpPr/>
          <p:nvPr/>
        </p:nvSpPr>
        <p:spPr>
          <a:xfrm>
            <a:off x="785880" y="5084640"/>
            <a:ext cx="4285800" cy="49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Add your company slog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>
            <a:hlinkClick r:id="rId1"/>
          </p:cNvPr>
          <p:cNvSpPr/>
          <p:nvPr/>
        </p:nvSpPr>
        <p:spPr>
          <a:xfrm>
            <a:off x="1746360" y="6218280"/>
            <a:ext cx="56512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7f7f7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金融1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金融1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金融1</Template>
  <TotalTime>4</TotalTime>
  <Application>LibreOffice/7.4.7.2$Linux_X86_64 LibreOffice_project/40$Build-2</Application>
  <AppVersion>15.0000</AppVersion>
  <Words>39</Words>
  <Paragraphs>13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7:05:07Z</dcterms:created>
  <dc:creator>YlmF</dc:creator>
  <dc:description/>
  <dc:language>en-US</dc:language>
  <cp:lastModifiedBy>王玉清</cp:lastModifiedBy>
  <dcterms:modified xsi:type="dcterms:W3CDTF">2016-02-15T04:31:55Z</dcterms:modified>
  <cp:revision>4</cp:revision>
  <dc:subject/>
  <dc:title>Power 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