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95D-7402-45EC-B2D8-222F2383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081-6DFF-4F83-B9CB-1FB68AAE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A40-7C06-42BD-B862-A0F3A43C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264-ACE6-40AE-8663-EE41FCF5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D37-6FEE-40F9-8E53-343B6EE6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A4C-EC46-480B-B834-579B896D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41C-4178-4B72-A858-3DD89782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73F-B9F0-47EC-B0D4-03E46479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D2A-BB1A-47F2-9110-EAAC923E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18C-3852-4A33-AA63-F55FA964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57B-288C-4AC5-AA80-E3F6612A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4A0-3A40-4583-A77A-EAF20469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871E-F991-4A72-840B-F3A678D7E32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F683-D87E-41CC-A034-22E94CA68D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1895400"/>
            <a:ext cx="9144000" cy="496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1911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431640" y="2276640"/>
            <a:ext cx="8280720" cy="3457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611280" y="155412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Komika Parch"/>
              </a:rPr>
              <a:t>FLOUTING CLOUD SOFTWARE DEVELOP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5940360" y="3213000"/>
            <a:ext cx="2448000" cy="1728720"/>
            <a:chOff x="5940360" y="3213000"/>
            <a:chExt cx="2448000" cy="1728720"/>
          </a:xfrm>
        </p:grpSpPr>
        <p:sp>
          <p:nvSpPr>
            <p:cNvPr id="46" name="矩形 15"/>
            <p:cNvSpPr/>
            <p:nvPr/>
          </p:nvSpPr>
          <p:spPr>
            <a:xfrm>
              <a:off x="5940360" y="3213000"/>
              <a:ext cx="2448000" cy="172872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1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"/>
            <p:cNvPicPr/>
            <p:nvPr/>
          </p:nvPicPr>
          <p:blipFill>
            <a:blip r:embed="rId3"/>
            <a:srcRect l="-34" t="0" r="0" b="0"/>
            <a:stretch/>
          </p:blipFill>
          <p:spPr>
            <a:xfrm>
              <a:off x="6093360" y="3321000"/>
              <a:ext cx="2142000" cy="152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9"/>
          <p:cNvGrpSpPr/>
          <p:nvPr/>
        </p:nvGrpSpPr>
        <p:grpSpPr>
          <a:xfrm>
            <a:off x="755640" y="3213000"/>
            <a:ext cx="2448000" cy="1728720"/>
            <a:chOff x="755640" y="3213000"/>
            <a:chExt cx="2448000" cy="1728720"/>
          </a:xfrm>
        </p:grpSpPr>
        <p:sp>
          <p:nvSpPr>
            <p:cNvPr id="49" name="矩形 4"/>
            <p:cNvSpPr/>
            <p:nvPr/>
          </p:nvSpPr>
          <p:spPr>
            <a:xfrm>
              <a:off x="755640" y="3213000"/>
              <a:ext cx="2448000" cy="172872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1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"/>
            <p:cNvPicPr/>
            <p:nvPr/>
          </p:nvPicPr>
          <p:blipFill>
            <a:blip r:embed="rId4"/>
            <a:stretch/>
          </p:blipFill>
          <p:spPr>
            <a:xfrm>
              <a:off x="908640" y="3321000"/>
              <a:ext cx="2142000" cy="151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2"/>
          <p:cNvGrpSpPr/>
          <p:nvPr/>
        </p:nvGrpSpPr>
        <p:grpSpPr>
          <a:xfrm>
            <a:off x="3348000" y="3213000"/>
            <a:ext cx="2448000" cy="1728720"/>
            <a:chOff x="3348000" y="3213000"/>
            <a:chExt cx="2448000" cy="1728720"/>
          </a:xfrm>
        </p:grpSpPr>
        <p:sp>
          <p:nvSpPr>
            <p:cNvPr id="52" name="矩形 14"/>
            <p:cNvSpPr/>
            <p:nvPr/>
          </p:nvSpPr>
          <p:spPr>
            <a:xfrm>
              <a:off x="3348000" y="3213000"/>
              <a:ext cx="2448000" cy="172872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1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5"/>
            <a:srcRect l="-17" t="0" r="0" b="0"/>
            <a:stretch/>
          </p:blipFill>
          <p:spPr>
            <a:xfrm>
              <a:off x="3502440" y="3321000"/>
              <a:ext cx="2142360" cy="151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Box 19"/>
          <p:cNvSpPr/>
          <p:nvPr/>
        </p:nvSpPr>
        <p:spPr>
          <a:xfrm>
            <a:off x="611280" y="23716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elsinki"/>
                <a:ea typeface="RockoFLF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539640" y="571680"/>
            <a:ext cx="71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elsinki"/>
                <a:ea typeface="RockoFLF"/>
              </a:rPr>
              <a:t>10</a:t>
            </a:r>
            <a:r>
              <a:rPr b="1" lang="en-US" sz="6000" spc="-1" strike="noStrike" baseline="30000">
                <a:solidFill>
                  <a:srgbClr val="ffffff"/>
                </a:solidFill>
                <a:latin typeface="Helsinki"/>
                <a:ea typeface="RockoFLF"/>
              </a:rPr>
              <a:t>th</a:t>
            </a:r>
            <a:r>
              <a:rPr b="1" lang="zh-CN" sz="4400" spc="-1" strike="noStrike">
                <a:solidFill>
                  <a:srgbClr val="ffffff"/>
                </a:solidFill>
                <a:latin typeface="Helsinki"/>
                <a:ea typeface="RockoFLF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Helsinki"/>
                <a:ea typeface="RockoFLF"/>
              </a:rPr>
              <a:t>project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774720" y="515772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omika Parch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3348000" y="5157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omika Parch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5940360" y="5157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omika Parch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0"/>
          <p:cNvSpPr/>
          <p:nvPr/>
        </p:nvSpPr>
        <p:spPr>
          <a:xfrm>
            <a:off x="552240" y="581040"/>
            <a:ext cx="153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Helsinki"/>
                <a:ea typeface="RockoFLF"/>
              </a:rPr>
              <a:t>10</a:t>
            </a:r>
            <a:r>
              <a:rPr b="1" lang="en-US" sz="6000" spc="-1" strike="noStrike" baseline="30000">
                <a:solidFill>
                  <a:srgbClr val="7030a0"/>
                </a:solidFill>
                <a:latin typeface="Helsinki"/>
                <a:ea typeface="RockoFLF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1715760" y="171288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炫彩酷黑背景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" dur="150" autoRev="1" fill="remov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7" dur="150" autoRev="1" fill="remove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8" dur="150" autoRev="1" fill="remove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3"/>
          <p:cNvSpPr/>
          <p:nvPr/>
        </p:nvSpPr>
        <p:spPr>
          <a:xfrm>
            <a:off x="0" y="1895400"/>
            <a:ext cx="9144000" cy="496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19112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8"/>
          <p:cNvSpPr/>
          <p:nvPr/>
        </p:nvSpPr>
        <p:spPr>
          <a:xfrm>
            <a:off x="611280" y="155412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Komika Parch"/>
              </a:rPr>
              <a:t>FLOUTING CLOUD SOFTWARE DEVELOP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539640" y="1981080"/>
            <a:ext cx="71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elsinki"/>
                <a:ea typeface="RockoFLF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3"/>
          <p:cNvSpPr/>
          <p:nvPr/>
        </p:nvSpPr>
        <p:spPr>
          <a:xfrm>
            <a:off x="0" y="1895400"/>
            <a:ext cx="9144000" cy="496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1911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431640" y="2276640"/>
            <a:ext cx="8280720" cy="3960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611280" y="155412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Komika Parch"/>
              </a:rPr>
              <a:t>FLOUTING CLOUD SOFTWARE DEVELOP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611280" y="23716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elsinki"/>
                <a:ea typeface="RockoFLF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900000" y="364500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Helsinki"/>
                <a:ea typeface="RockoFLF"/>
              </a:rPr>
              <a:t>cli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856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0" y="5578560"/>
            <a:ext cx="914400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042920" y="1123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omika Parch"/>
              </a:rPr>
              <a:t>FLOUTING C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774720" y="51577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859b"/>
                </a:solidFill>
                <a:latin typeface="Komika Parch"/>
              </a:rPr>
              <a:t>M</a:t>
            </a:r>
            <a:r>
              <a:rPr b="0" lang="en-US" sz="2800" spc="-1" strike="noStrike">
                <a:solidFill>
                  <a:srgbClr val="f2f2f2"/>
                </a:solidFill>
                <a:latin typeface="Komika Parch"/>
              </a:rPr>
              <a:t>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348000" y="5157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859b"/>
                </a:solidFill>
                <a:latin typeface="Komika Parch"/>
              </a:rPr>
              <a:t>V</a:t>
            </a:r>
            <a:r>
              <a:rPr b="0" lang="en-US" sz="2800" spc="-1" strike="noStrike">
                <a:solidFill>
                  <a:srgbClr val="f2f2f2"/>
                </a:solidFill>
                <a:latin typeface="Komika Parch"/>
              </a:rPr>
              <a:t>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5940360" y="5157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859b"/>
                </a:solidFill>
                <a:latin typeface="Komika Parch"/>
              </a:rPr>
              <a:t>C</a:t>
            </a:r>
            <a:r>
              <a:rPr b="0" lang="en-US" sz="2800" spc="-1" strike="noStrike">
                <a:solidFill>
                  <a:srgbClr val="f2f2f2"/>
                </a:solidFill>
                <a:latin typeface="Komika Parch"/>
              </a:rPr>
              <a:t>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8"/>
          <p:cNvSpPr/>
          <p:nvPr/>
        </p:nvSpPr>
        <p:spPr>
          <a:xfrm>
            <a:off x="900000" y="1700280"/>
            <a:ext cx="74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elsinki"/>
                <a:ea typeface="RockoFLF"/>
              </a:rPr>
              <a:t>mvc</a:t>
            </a:r>
            <a:r>
              <a:rPr b="1" lang="zh-CN" sz="4400" spc="-1" strike="noStrike">
                <a:solidFill>
                  <a:srgbClr val="ffffff"/>
                </a:solidFill>
                <a:latin typeface="Helsinki"/>
                <a:ea typeface="RockoFLF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Helsinki"/>
                <a:ea typeface="RockoFLF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"/>
          <p:cNvSpPr/>
          <p:nvPr/>
        </p:nvSpPr>
        <p:spPr>
          <a:xfrm>
            <a:off x="6300720" y="473040"/>
            <a:ext cx="1371600" cy="1371600"/>
          </a:xfrm>
          <a:prstGeom prst="ellipse">
            <a:avLst/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Komika Parch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9"/>
          <p:cNvSpPr/>
          <p:nvPr/>
        </p:nvSpPr>
        <p:spPr>
          <a:xfrm>
            <a:off x="2760840" y="1905120"/>
            <a:ext cx="267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Helsinki"/>
                <a:ea typeface="RockoFLF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空心弧 2"/>
          <p:cNvSpPr/>
          <p:nvPr/>
        </p:nvSpPr>
        <p:spPr>
          <a:xfrm>
            <a:off x="3809880" y="3213000"/>
            <a:ext cx="1524240" cy="145116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451160"/>
              <a:gd name="textAreaBottom" fmla="*/ 518040 h 1451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空心弧 22"/>
          <p:cNvSpPr/>
          <p:nvPr/>
        </p:nvSpPr>
        <p:spPr>
          <a:xfrm flipV="1">
            <a:off x="3805200" y="3295800"/>
            <a:ext cx="1523880" cy="14522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452240"/>
              <a:gd name="textAreaBottom" fmla="*/ 518400 h 1452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同心圆 21"/>
          <p:cNvSpPr/>
          <p:nvPr/>
        </p:nvSpPr>
        <p:spPr>
          <a:xfrm>
            <a:off x="3798720" y="3213000"/>
            <a:ext cx="1535400" cy="1535040"/>
          </a:xfrm>
          <a:custGeom>
            <a:avLst/>
            <a:gdLst>
              <a:gd name="textAreaLeft" fmla="*/ 224640 w 1535400"/>
              <a:gd name="textAreaRight" fmla="*/ 1310760 w 1535400"/>
              <a:gd name="textAreaTop" fmla="*/ 224640 h 1535040"/>
              <a:gd name="textAreaBottom" fmla="*/ 1310400 h 15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3995640" y="51595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859b"/>
                </a:solidFill>
                <a:latin typeface="Komika Parch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282920" y="5157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859b"/>
                </a:solidFill>
                <a:latin typeface="Komika Parch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4552920" y="515952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859b"/>
                </a:solidFill>
                <a:latin typeface="Komika Parch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remove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" dur="150" autoRev="1" fill="remov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19" dur="150" autoRev="1" fill="remove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20" dur="150" autoRev="1" fill="remove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28307E-006 L -0.26771 -0.00069 E">
                                      <p:cBhvr>
                                        <p:cTn id="2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76596E-006 L 0.27638 2.76596E-006 E">
                                      <p:cBhvr>
                                        <p:cTn id="3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66 3.284E-006 L -3.61111E-006 3.284E-006 E">
                                      <p:cBhvr>
                                        <p:cTn id="3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17 2.01665E-006 L 3.88889E-006 2.01665E-006 E">
                                      <p:cBhvr>
                                        <p:cTn id="3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856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0" y="5578560"/>
            <a:ext cx="914400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1600200" y="2637000"/>
            <a:ext cx="5943600" cy="3816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042920" y="1123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omika Parch"/>
              </a:rPr>
              <a:t>FLOUTING C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900000" y="1700280"/>
            <a:ext cx="74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elsinki"/>
                <a:ea typeface="RockoFLF"/>
              </a:rPr>
              <a:t>mvc</a:t>
            </a:r>
            <a:r>
              <a:rPr b="1" lang="zh-CN" sz="4400" spc="-1" strike="noStrike">
                <a:solidFill>
                  <a:srgbClr val="ffffff"/>
                </a:solidFill>
                <a:latin typeface="Helsinki"/>
                <a:ea typeface="RockoFLF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Helsinki"/>
                <a:ea typeface="RockoFLF"/>
              </a:rPr>
              <a:t>process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"/>
          <p:cNvSpPr/>
          <p:nvPr/>
        </p:nvSpPr>
        <p:spPr>
          <a:xfrm>
            <a:off x="2411280" y="4888080"/>
            <a:ext cx="1349640" cy="1349280"/>
          </a:xfrm>
          <a:prstGeom prst="ellipse">
            <a:avLst/>
          </a:prstGeom>
          <a:solidFill>
            <a:srgbClr val="262626">
              <a:alpha val="41000"/>
            </a:srgbClr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sinki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5364000" y="4888080"/>
            <a:ext cx="1349640" cy="1349280"/>
          </a:xfrm>
          <a:prstGeom prst="ellipse">
            <a:avLst/>
          </a:prstGeom>
          <a:solidFill>
            <a:srgbClr val="262626">
              <a:alpha val="41000"/>
            </a:srgbClr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sinki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8"/>
          <p:cNvSpPr/>
          <p:nvPr/>
        </p:nvSpPr>
        <p:spPr>
          <a:xfrm>
            <a:off x="3876840" y="2781360"/>
            <a:ext cx="1349280" cy="1349280"/>
          </a:xfrm>
          <a:prstGeom prst="ellipse">
            <a:avLst/>
          </a:prstGeom>
          <a:solidFill>
            <a:srgbClr val="262626">
              <a:alpha val="41000"/>
            </a:srgbClr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sinki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直接箭头连接符 9"/>
          <p:cNvCxnSpPr>
            <a:stCxn id="88" idx="7"/>
            <a:endCxn id="90" idx="3"/>
          </p:cNvCxnSpPr>
          <p:nvPr/>
        </p:nvCxnSpPr>
        <p:spPr>
          <a:xfrm flipV="1">
            <a:off x="3564000" y="3931920"/>
            <a:ext cx="511920" cy="1152720"/>
          </a:xfrm>
          <a:prstGeom prst="straightConnector1">
            <a:avLst/>
          </a:prstGeom>
          <a:ln w="38160">
            <a:solidFill>
              <a:srgbClr val="d8d8d8"/>
            </a:solidFill>
            <a:miter/>
            <a:tailEnd len="lg" type="triangle" w="lg"/>
          </a:ln>
        </p:spPr>
      </p:cxnSp>
      <p:cxnSp>
        <p:nvCxnSpPr>
          <p:cNvPr id="92" name="直接箭头连接符 11"/>
          <p:cNvCxnSpPr>
            <a:stCxn id="89" idx="1"/>
            <a:endCxn id="90" idx="5"/>
          </p:cNvCxnSpPr>
          <p:nvPr/>
        </p:nvCxnSpPr>
        <p:spPr>
          <a:xfrm flipH="1" flipV="1">
            <a:off x="5028840" y="3931920"/>
            <a:ext cx="534240" cy="1152720"/>
          </a:xfrm>
          <a:prstGeom prst="straightConnector1">
            <a:avLst/>
          </a:prstGeom>
          <a:ln w="38160">
            <a:solidFill>
              <a:srgbClr val="d8d8d8"/>
            </a:solidFill>
            <a:miter/>
            <a:tailEnd len="lg" type="triangle" w="lg"/>
          </a:ln>
        </p:spPr>
      </p:cxnSp>
      <p:cxnSp>
        <p:nvCxnSpPr>
          <p:cNvPr id="93" name="直接箭头连接符 13"/>
          <p:cNvCxnSpPr>
            <a:stCxn id="89" idx="2"/>
            <a:endCxn id="88" idx="6"/>
          </p:cNvCxnSpPr>
          <p:nvPr/>
        </p:nvCxnSpPr>
        <p:spPr>
          <a:xfrm flipH="1">
            <a:off x="3760200" y="5562360"/>
            <a:ext cx="1603800" cy="1080"/>
          </a:xfrm>
          <a:prstGeom prst="straightConnector1">
            <a:avLst/>
          </a:prstGeom>
          <a:ln w="38160">
            <a:solidFill>
              <a:srgbClr val="d8d8d8"/>
            </a:solidFill>
            <a:miter/>
            <a:tailEnd len="lg" type="triangle" w="lg"/>
          </a:ln>
        </p:spPr>
      </p:cxnSp>
      <p:sp>
        <p:nvSpPr>
          <p:cNvPr id="94" name="椭圆 18"/>
          <p:cNvSpPr/>
          <p:nvPr/>
        </p:nvSpPr>
        <p:spPr>
          <a:xfrm>
            <a:off x="6300720" y="473040"/>
            <a:ext cx="1371600" cy="1371600"/>
          </a:xfrm>
          <a:prstGeom prst="ellipse">
            <a:avLst/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Komika Parch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5094720" y="1914480"/>
            <a:ext cx="312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Helsinki"/>
                <a:ea typeface="RockoFLF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remove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" dur="150" autoRev="1" fill="remov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59" dur="150" autoRev="1" fill="remove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60" dur="150" autoRev="1" fill="remove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8560"/>
          </a:xfrm>
          <a:prstGeom prst="rect">
            <a:avLst/>
          </a:prstGeom>
          <a:ln w="0">
            <a:noFill/>
          </a:ln>
        </p:spPr>
      </p:pic>
      <p:sp>
        <p:nvSpPr>
          <p:cNvPr id="97" name="矩形 4"/>
          <p:cNvSpPr/>
          <p:nvPr/>
        </p:nvSpPr>
        <p:spPr>
          <a:xfrm>
            <a:off x="0" y="5578560"/>
            <a:ext cx="914400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1042920" y="1123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omika Parch"/>
              </a:rPr>
              <a:t>FLOUTING C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0"/>
          <p:cNvSpPr/>
          <p:nvPr/>
        </p:nvSpPr>
        <p:spPr>
          <a:xfrm>
            <a:off x="900000" y="3506760"/>
            <a:ext cx="7344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6091200" y="2855880"/>
            <a:ext cx="2152800" cy="103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900000" y="3506760"/>
            <a:ext cx="2514600" cy="26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4"/>
          <a:stretch/>
        </p:blipFill>
        <p:spPr>
          <a:xfrm>
            <a:off x="3780000" y="2689200"/>
            <a:ext cx="1923840" cy="1390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>
            <a:off x="900000" y="1700280"/>
            <a:ext cx="74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elsinki"/>
                <a:ea typeface="RockoFLF"/>
              </a:rPr>
              <a:t>mvc</a:t>
            </a:r>
            <a:r>
              <a:rPr b="1" lang="zh-CN" sz="4400" spc="-1" strike="noStrike">
                <a:solidFill>
                  <a:srgbClr val="ffffff"/>
                </a:solidFill>
                <a:latin typeface="Helsinki"/>
                <a:ea typeface="RockoFLF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Helsinki"/>
                <a:ea typeface="RockoFLF"/>
              </a:rPr>
              <a:t>inner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3780000" y="2689200"/>
            <a:ext cx="1923840" cy="1019160"/>
          </a:xfrm>
          <a:prstGeom prst="rect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6091200" y="2855880"/>
            <a:ext cx="2152800" cy="852480"/>
          </a:xfrm>
          <a:prstGeom prst="rect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3780000" y="3873600"/>
            <a:ext cx="1920600" cy="206280"/>
          </a:xfrm>
          <a:prstGeom prst="rect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900000" y="3873600"/>
            <a:ext cx="2513160" cy="2233440"/>
          </a:xfrm>
          <a:prstGeom prst="rect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900000" y="3506760"/>
            <a:ext cx="2514600" cy="201600"/>
          </a:xfrm>
          <a:prstGeom prst="rect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5"/>
          <a:srcRect l="-23310" t="-7802" r="-21864" b="0"/>
          <a:stretch/>
        </p:blipFill>
        <p:spPr>
          <a:xfrm>
            <a:off x="900000" y="3873600"/>
            <a:ext cx="7344000" cy="2813040"/>
          </a:xfrm>
          <a:prstGeom prst="rect">
            <a:avLst/>
          </a:prstGeom>
          <a:ln w="0">
            <a:noFill/>
          </a:ln>
        </p:spPr>
      </p:pic>
      <p:sp>
        <p:nvSpPr>
          <p:cNvPr id="110" name="矩形 19"/>
          <p:cNvSpPr/>
          <p:nvPr/>
        </p:nvSpPr>
        <p:spPr>
          <a:xfrm>
            <a:off x="900000" y="2689200"/>
            <a:ext cx="7344000" cy="10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900000" y="306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omika Parch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3780000" y="306864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omika Parch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6091200" y="306864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omika Parch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21"/>
          <p:cNvSpPr/>
          <p:nvPr/>
        </p:nvSpPr>
        <p:spPr>
          <a:xfrm>
            <a:off x="6300720" y="473040"/>
            <a:ext cx="1371600" cy="1371600"/>
          </a:xfrm>
          <a:prstGeom prst="ellipse">
            <a:avLst/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Komika Parch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2"/>
          <p:cNvSpPr/>
          <p:nvPr/>
        </p:nvSpPr>
        <p:spPr>
          <a:xfrm>
            <a:off x="2451600" y="1905120"/>
            <a:ext cx="198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Helsinki"/>
                <a:ea typeface="RockoFLF"/>
              </a:rPr>
              <a:t>I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11280" y="62341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remove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0" dur="1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71" dur="1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72" dur="1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8560"/>
          </a:xfrm>
          <a:prstGeom prst="rect">
            <a:avLst/>
          </a:prstGeom>
          <a:ln w="0">
            <a:noFill/>
          </a:ln>
        </p:spPr>
      </p:pic>
      <p:sp>
        <p:nvSpPr>
          <p:cNvPr id="118" name="矩形 4"/>
          <p:cNvSpPr/>
          <p:nvPr/>
        </p:nvSpPr>
        <p:spPr>
          <a:xfrm>
            <a:off x="0" y="5578560"/>
            <a:ext cx="914400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042920" y="1123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omika Parch"/>
              </a:rPr>
              <a:t>FLOUTING C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900000" y="1700280"/>
            <a:ext cx="7417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elsinki"/>
                <a:ea typeface="RockoFLF"/>
              </a:rPr>
              <a:t>AJAX </a:t>
            </a:r>
            <a:r>
              <a:rPr b="1" lang="en-US" sz="4400" spc="-1" strike="noStrike">
                <a:solidFill>
                  <a:srgbClr val="ffffff"/>
                </a:solidFill>
                <a:latin typeface="Helsinki"/>
                <a:ea typeface="RockoFLF"/>
              </a:rPr>
              <a:t>IMPLEMENTED BY JQU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922320" y="3863880"/>
            <a:ext cx="7321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omika Parch"/>
              </a:rPr>
              <a:t>= </a:t>
            </a:r>
            <a:r>
              <a:rPr b="0" lang="en-US" sz="3200" spc="-1" strike="noStrike">
                <a:solidFill>
                  <a:srgbClr val="92ccdc"/>
                </a:solidFill>
                <a:latin typeface="Komika Parch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Komika Parch"/>
              </a:rPr>
              <a:t>synchronous </a:t>
            </a:r>
            <a:r>
              <a:rPr b="0" lang="en-US" sz="3200" spc="-1" strike="noStrike">
                <a:solidFill>
                  <a:srgbClr val="92ccdc"/>
                </a:solidFill>
                <a:latin typeface="Komika Parch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Komika Parch"/>
              </a:rPr>
              <a:t>avascript </a:t>
            </a:r>
            <a:r>
              <a:rPr b="0" lang="en-US" sz="3200" spc="-1" strike="noStrike">
                <a:solidFill>
                  <a:srgbClr val="92ccdc"/>
                </a:solidFill>
                <a:latin typeface="Komika Parch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Komika Parch"/>
              </a:rPr>
              <a:t>nd </a:t>
            </a:r>
            <a:r>
              <a:rPr b="0" lang="en-US" sz="3200" spc="-1" strike="noStrike">
                <a:solidFill>
                  <a:srgbClr val="92ccdc"/>
                </a:solidFill>
                <a:latin typeface="Komika Parch"/>
              </a:rPr>
              <a:t>xml </a:t>
            </a:r>
            <a:r>
              <a:rPr b="0" lang="en-US" sz="2800" spc="-1" strike="noStrike">
                <a:solidFill>
                  <a:srgbClr val="ffffff"/>
                </a:solidFill>
                <a:latin typeface="Komika Parch"/>
              </a:rPr>
              <a:t>(e</a:t>
            </a:r>
            <a:r>
              <a:rPr b="0" lang="en-US" sz="2800" spc="-1" strike="noStrike">
                <a:solidFill>
                  <a:srgbClr val="92ccdc"/>
                </a:solidFill>
                <a:latin typeface="Komika Parch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Komika Parch"/>
              </a:rPr>
              <a:t>tensible </a:t>
            </a:r>
            <a:r>
              <a:rPr b="0" lang="en-US" sz="2800" spc="-1" strike="noStrike">
                <a:solidFill>
                  <a:srgbClr val="92ccdc"/>
                </a:solidFill>
                <a:latin typeface="Komika Parch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Komika Parch"/>
              </a:rPr>
              <a:t>arkup </a:t>
            </a:r>
            <a:r>
              <a:rPr b="0" lang="en-US" sz="2800" spc="-1" strike="noStrike">
                <a:solidFill>
                  <a:srgbClr val="92ccdc"/>
                </a:solidFill>
                <a:latin typeface="Komika Parch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Komika Parch"/>
              </a:rPr>
              <a:t>angu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0"/>
          <p:cNvSpPr/>
          <p:nvPr/>
        </p:nvSpPr>
        <p:spPr>
          <a:xfrm>
            <a:off x="6300720" y="473040"/>
            <a:ext cx="1371600" cy="1371600"/>
          </a:xfrm>
          <a:prstGeom prst="ellipse">
            <a:avLst/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Komika Parch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914040" y="2631960"/>
            <a:ext cx="22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Helsinki"/>
                <a:ea typeface="RockoFLF"/>
              </a:rPr>
              <a:t>JQU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remove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0" dur="150" autoRev="1" fill="remov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animClr clrSpc="rgb">
                                      <p:cBhvr>
                                        <p:cTn id="121" dur="150" autoRev="1" fill="remov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122" dur="150" autoRev="1" fill="remov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856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0" y="5578560"/>
            <a:ext cx="914400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1042920" y="1123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omika Parch"/>
              </a:rPr>
              <a:t>FLOUTING C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1501920" y="2781360"/>
            <a:ext cx="6140160" cy="20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rcRect l="-13439" t="0" r="-13439" b="0"/>
          <a:stretch/>
        </p:blipFill>
        <p:spPr>
          <a:xfrm>
            <a:off x="1501920" y="3068640"/>
            <a:ext cx="6140160" cy="3672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0"/>
          <p:cNvSpPr/>
          <p:nvPr/>
        </p:nvSpPr>
        <p:spPr>
          <a:xfrm>
            <a:off x="900000" y="1700280"/>
            <a:ext cx="7417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elsinki"/>
                <a:ea typeface="RockoFLF"/>
              </a:rPr>
              <a:t>CALL</a:t>
            </a:r>
            <a:r>
              <a:rPr b="1" lang="zh-CN" sz="4400" spc="-1" strike="noStrike">
                <a:solidFill>
                  <a:srgbClr val="ffffff"/>
                </a:solidFill>
                <a:latin typeface="Helsinki"/>
                <a:ea typeface="RockoFLF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Helsinki"/>
                <a:ea typeface="RockoFLF"/>
              </a:rPr>
              <a:t>SIMULATION PART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1"/>
          <p:cNvSpPr/>
          <p:nvPr/>
        </p:nvSpPr>
        <p:spPr>
          <a:xfrm>
            <a:off x="6300720" y="473040"/>
            <a:ext cx="1371600" cy="1371600"/>
          </a:xfrm>
          <a:prstGeom prst="ellipse">
            <a:avLst/>
          </a:prstGeom>
          <a:noFill/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Komika Parch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8560"/>
          </a:xfrm>
          <a:prstGeom prst="rect">
            <a:avLst/>
          </a:prstGeom>
          <a:ln w="0">
            <a:noFill/>
          </a:ln>
        </p:spPr>
      </p:pic>
      <p:sp>
        <p:nvSpPr>
          <p:cNvPr id="132" name="矩形 4"/>
          <p:cNvSpPr/>
          <p:nvPr/>
        </p:nvSpPr>
        <p:spPr>
          <a:xfrm>
            <a:off x="0" y="5578560"/>
            <a:ext cx="914400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2"/>
          <a:srcRect l="-12923" t="0" r="-13722" b="0"/>
          <a:stretch/>
        </p:blipFill>
        <p:spPr>
          <a:xfrm>
            <a:off x="1495440" y="2789280"/>
            <a:ext cx="6153120" cy="2104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1476360" y="492300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localhost/fcblog/massager/delmsg/mid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900000" y="1700280"/>
            <a:ext cx="7417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elsinki"/>
                <a:ea typeface="RockoFLF"/>
              </a:rPr>
              <a:t>CALL</a:t>
            </a:r>
            <a:r>
              <a:rPr b="1" lang="zh-CN" sz="4400" spc="-1" strike="noStrike">
                <a:solidFill>
                  <a:srgbClr val="ffffff"/>
                </a:solidFill>
                <a:latin typeface="Helsinki"/>
                <a:ea typeface="RockoFLF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Helsinki"/>
                <a:ea typeface="RockoFLF"/>
              </a:rPr>
              <a:t>SIMULATION PART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042920" y="1123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omika Parch"/>
              </a:rPr>
              <a:t>FLOUTING C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005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0" y="4300560"/>
            <a:ext cx="9144000" cy="255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042920" y="1123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omika Parch"/>
              </a:rPr>
              <a:t>FLOUTING C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900000" y="1700280"/>
            <a:ext cx="74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elsinki"/>
                <a:ea typeface="RockoFLF"/>
              </a:rPr>
              <a:t>personal</a:t>
            </a:r>
            <a:r>
              <a:rPr b="1" lang="zh-CN" sz="4400" spc="-1" strike="noStrike">
                <a:solidFill>
                  <a:srgbClr val="ffffff"/>
                </a:solidFill>
                <a:latin typeface="Helsinki"/>
                <a:ea typeface="RockoFLF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Helsinki"/>
                <a:ea typeface="RockoFLF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900000" y="3413160"/>
            <a:ext cx="619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u 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n 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ng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 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07:06:00Z</dcterms:created>
  <dc:creator>User</dc:creator>
  <dc:description/>
  <cp:keywords/>
  <dc:language>en-US</dc:language>
  <cp:lastModifiedBy>王玉清</cp:lastModifiedBy>
  <cp:lastPrinted>1899-12-30T00:00:00Z</cp:lastPrinted>
  <dcterms:modified xsi:type="dcterms:W3CDTF">2016-03-01T07:30:25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