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F99-BA82-4F8C-A902-D81408BB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C67-C9E3-4F6F-9CCD-03D1351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AA8-081B-46F3-B4A3-290A1C66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23D-F635-41EA-A894-F8A1166E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94E-4DBA-40AD-82F0-1331F24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473-471D-4705-BED2-7276C28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C8B-908F-48C1-BB4D-1D50583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D67-D8B5-48F8-ADB1-C18CB95F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DD1-9EF1-4F82-8193-32B0661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261-2DCF-4632-B3B0-7DE6D44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27D-BF8E-4AF6-BD5C-ACD2ADE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07F-8AD9-4B86-9B9D-CC11527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3d81bf"/>
              </a:gs>
              <a:gs pos="100000">
                <a:srgbClr val="b5cf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" name="Freeform 16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ecf3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" name="Freeform 17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6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Freeform 18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8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d81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172200" y="6536880"/>
            <a:ext cx="2819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581280" y="65368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1E6-D51F-4FC6-9B98-9AB0B1FFA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7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" name="Freeform 18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4038480" y="563868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8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d81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d81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560" y="2209320"/>
            <a:ext cx="723924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owerPoint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中国风商务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7240" y="401868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c1d1d3"/>
              </a:solidFill>
              <a:latin typeface="Verdana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d81b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d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6b098"/>
              </a:gs>
              <a:gs pos="100000">
                <a:srgbClr val="e2c8b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d4cd"/>
              </a:gs>
              <a:gs pos="100000">
                <a:srgbClr val="ade1d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35"/>
          <p:cNvGrpSpPr/>
          <p:nvPr/>
        </p:nvGrpSpPr>
        <p:grpSpPr>
          <a:xfrm>
            <a:off x="1219320" y="1219320"/>
            <a:ext cx="5786280" cy="5078160"/>
            <a:chOff x="1219320" y="1219320"/>
            <a:chExt cx="5786280" cy="5078160"/>
          </a:xfrm>
        </p:grpSpPr>
        <p:sp>
          <p:nvSpPr>
            <p:cNvPr id="222" name="Oval 34"/>
            <p:cNvSpPr/>
            <p:nvPr/>
          </p:nvSpPr>
          <p:spPr>
            <a:xfrm>
              <a:off x="5133960" y="2079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3" name="Oval 33"/>
            <p:cNvSpPr/>
            <p:nvPr/>
          </p:nvSpPr>
          <p:spPr>
            <a:xfrm>
              <a:off x="3848040" y="3765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4" name="Oval 32"/>
            <p:cNvSpPr/>
            <p:nvPr/>
          </p:nvSpPr>
          <p:spPr>
            <a:xfrm>
              <a:off x="5181480" y="5791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5" name="Oval 31"/>
            <p:cNvSpPr/>
            <p:nvPr/>
          </p:nvSpPr>
          <p:spPr>
            <a:xfrm>
              <a:off x="1447920" y="4427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 rot="13770000">
              <a:off x="4684320" y="3660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 rot="20856000">
              <a:off x="2695320" y="3208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28" name="Group 9"/>
            <p:cNvGrpSpPr/>
            <p:nvPr/>
          </p:nvGrpSpPr>
          <p:grpSpPr>
            <a:xfrm>
              <a:off x="3633840" y="1902240"/>
              <a:ext cx="1706400" cy="1836360"/>
              <a:chOff x="3633840" y="1902240"/>
              <a:chExt cx="1706400" cy="1836360"/>
            </a:xfrm>
          </p:grpSpPr>
          <p:sp>
            <p:nvSpPr>
              <p:cNvPr id="229" name="Rectangle 10"/>
              <p:cNvSpPr/>
              <p:nvPr/>
            </p:nvSpPr>
            <p:spPr>
              <a:xfrm rot="18394200">
                <a:off x="4810680" y="2115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grpSp>
            <p:nvGrpSpPr>
              <p:cNvPr id="230" name="Group 11"/>
              <p:cNvGrpSpPr/>
              <p:nvPr/>
            </p:nvGrpSpPr>
            <p:grpSpPr>
              <a:xfrm>
                <a:off x="3633840" y="2147760"/>
                <a:ext cx="1609560" cy="1590840"/>
                <a:chOff x="3633840" y="2147760"/>
                <a:chExt cx="1609560" cy="1590840"/>
              </a:xfrm>
            </p:grpSpPr>
            <p:sp>
              <p:nvSpPr>
                <p:cNvPr id="231" name="Oval 12"/>
                <p:cNvSpPr/>
                <p:nvPr/>
              </p:nvSpPr>
              <p:spPr>
                <a:xfrm>
                  <a:off x="3633840" y="2147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202b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3"/>
                <p:cNvSpPr/>
                <p:nvPr/>
              </p:nvSpPr>
              <p:spPr>
                <a:xfrm>
                  <a:off x="3817800" y="2174040"/>
                  <a:ext cx="1241640" cy="60048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600480"/>
                    <a:gd name="textAreaBottom" fmla="*/ 600840 h 600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Text Box 14"/>
              <p:cNvSpPr/>
              <p:nvPr/>
            </p:nvSpPr>
            <p:spPr>
              <a:xfrm>
                <a:off x="3720600" y="2840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5"/>
            <p:cNvGrpSpPr/>
            <p:nvPr/>
          </p:nvGrpSpPr>
          <p:grpSpPr>
            <a:xfrm>
              <a:off x="5043600" y="1219320"/>
              <a:ext cx="891720" cy="861840"/>
              <a:chOff x="5043600" y="1219320"/>
              <a:chExt cx="891720" cy="861840"/>
            </a:xfrm>
          </p:grpSpPr>
          <p:grpSp>
            <p:nvGrpSpPr>
              <p:cNvPr id="235" name="Group 16"/>
              <p:cNvGrpSpPr/>
              <p:nvPr/>
            </p:nvGrpSpPr>
            <p:grpSpPr>
              <a:xfrm>
                <a:off x="5043600" y="1219320"/>
                <a:ext cx="871560" cy="861840"/>
                <a:chOff x="5043600" y="1219320"/>
                <a:chExt cx="871560" cy="861840"/>
              </a:xfrm>
            </p:grpSpPr>
            <p:sp>
              <p:nvSpPr>
                <p:cNvPr id="236" name="Oval 17"/>
                <p:cNvSpPr/>
                <p:nvPr/>
              </p:nvSpPr>
              <p:spPr>
                <a:xfrm>
                  <a:off x="5043600" y="1219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f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8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19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0"/>
            <p:cNvGrpSpPr/>
            <p:nvPr/>
          </p:nvGrpSpPr>
          <p:grpSpPr>
            <a:xfrm>
              <a:off x="1219320" y="2544840"/>
              <a:ext cx="1744560" cy="1790640"/>
              <a:chOff x="1219320" y="2544840"/>
              <a:chExt cx="1744560" cy="1790640"/>
            </a:xfrm>
          </p:grpSpPr>
          <p:grpSp>
            <p:nvGrpSpPr>
              <p:cNvPr id="240" name="Group 21"/>
              <p:cNvGrpSpPr/>
              <p:nvPr/>
            </p:nvGrpSpPr>
            <p:grpSpPr>
              <a:xfrm>
                <a:off x="1219320" y="2544840"/>
                <a:ext cx="1744560" cy="1790640"/>
                <a:chOff x="1219320" y="2544840"/>
                <a:chExt cx="1744560" cy="1790640"/>
              </a:xfrm>
            </p:grpSpPr>
            <p:sp>
              <p:nvSpPr>
                <p:cNvPr id="241" name="Oval 22"/>
                <p:cNvSpPr/>
                <p:nvPr/>
              </p:nvSpPr>
              <p:spPr>
                <a:xfrm>
                  <a:off x="1219320" y="2544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9b80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3"/>
                <p:cNvSpPr/>
                <p:nvPr/>
              </p:nvSpPr>
              <p:spPr>
                <a:xfrm>
                  <a:off x="1418760" y="257436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24"/>
              <p:cNvSpPr/>
              <p:nvPr/>
            </p:nvSpPr>
            <p:spPr>
              <a:xfrm>
                <a:off x="1313280" y="3340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25"/>
            <p:cNvGrpSpPr/>
            <p:nvPr/>
          </p:nvGrpSpPr>
          <p:grpSpPr>
            <a:xfrm>
              <a:off x="4975200" y="3805200"/>
              <a:ext cx="2013120" cy="1989000"/>
              <a:chOff x="4975200" y="3805200"/>
              <a:chExt cx="2013120" cy="1989000"/>
            </a:xfrm>
          </p:grpSpPr>
          <p:grpSp>
            <p:nvGrpSpPr>
              <p:cNvPr id="245" name="Group 26"/>
              <p:cNvGrpSpPr/>
              <p:nvPr/>
            </p:nvGrpSpPr>
            <p:grpSpPr>
              <a:xfrm>
                <a:off x="4975200" y="3805200"/>
                <a:ext cx="2013120" cy="1989000"/>
                <a:chOff x="4975200" y="3805200"/>
                <a:chExt cx="2013120" cy="1989000"/>
              </a:xfrm>
            </p:grpSpPr>
            <p:sp>
              <p:nvSpPr>
                <p:cNvPr id="246" name="Oval 27"/>
                <p:cNvSpPr/>
                <p:nvPr/>
              </p:nvSpPr>
              <p:spPr>
                <a:xfrm>
                  <a:off x="4975200" y="3805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4b74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28"/>
                <p:cNvSpPr/>
                <p:nvPr/>
              </p:nvSpPr>
              <p:spPr>
                <a:xfrm>
                  <a:off x="5205240" y="3837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 Box 29"/>
              <p:cNvSpPr/>
              <p:nvPr/>
            </p:nvSpPr>
            <p:spPr>
              <a:xfrm>
                <a:off x="5263560" y="4667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68ad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5562720" y="3276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3" name="Oval 35"/>
          <p:cNvSpPr/>
          <p:nvPr/>
        </p:nvSpPr>
        <p:spPr>
          <a:xfrm rot="20876400">
            <a:off x="317196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4" name="Oval 36"/>
          <p:cNvSpPr/>
          <p:nvPr/>
        </p:nvSpPr>
        <p:spPr>
          <a:xfrm>
            <a:off x="310356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5" name="Oval 37"/>
          <p:cNvSpPr/>
          <p:nvPr/>
        </p:nvSpPr>
        <p:spPr>
          <a:xfrm>
            <a:off x="312408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6" name="Oval 38"/>
          <p:cNvSpPr/>
          <p:nvPr/>
        </p:nvSpPr>
        <p:spPr>
          <a:xfrm>
            <a:off x="314172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7" name="Oval 39"/>
          <p:cNvSpPr/>
          <p:nvPr/>
        </p:nvSpPr>
        <p:spPr>
          <a:xfrm>
            <a:off x="323388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352116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9" name="Oval 41"/>
          <p:cNvSpPr/>
          <p:nvPr/>
        </p:nvSpPr>
        <p:spPr>
          <a:xfrm rot="20826600">
            <a:off x="132876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260" name="Group 42"/>
          <p:cNvGrpSpPr/>
          <p:nvPr/>
        </p:nvGrpSpPr>
        <p:grpSpPr>
          <a:xfrm>
            <a:off x="1252440" y="3352680"/>
            <a:ext cx="1371240" cy="1441080"/>
            <a:chOff x="1252440" y="3352680"/>
            <a:chExt cx="1371240" cy="1441080"/>
          </a:xfrm>
        </p:grpSpPr>
        <p:sp>
          <p:nvSpPr>
            <p:cNvPr id="261" name="Oval 43"/>
            <p:cNvSpPr/>
            <p:nvPr/>
          </p:nvSpPr>
          <p:spPr>
            <a:xfrm>
              <a:off x="125244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2" name="Oval 44"/>
            <p:cNvSpPr/>
            <p:nvPr/>
          </p:nvSpPr>
          <p:spPr>
            <a:xfrm>
              <a:off x="127008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3" name="Oval 45"/>
            <p:cNvSpPr/>
            <p:nvPr/>
          </p:nvSpPr>
          <p:spPr>
            <a:xfrm>
              <a:off x="128340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4" name="Oval 46"/>
            <p:cNvSpPr/>
            <p:nvPr/>
          </p:nvSpPr>
          <p:spPr>
            <a:xfrm>
              <a:off x="135504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5" name="Text Box 47"/>
            <p:cNvSpPr/>
            <p:nvPr/>
          </p:nvSpPr>
          <p:spPr>
            <a:xfrm>
              <a:off x="153288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66" name="Oval 4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7" name="Oval 4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8" name="Oval 5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9" name="Oval 5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0" name="Oval 52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7" name="Text Box 59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685800" y="1295280"/>
            <a:ext cx="7848360" cy="4404960"/>
            <a:chOff x="685800" y="1295280"/>
            <a:chExt cx="7848360" cy="4404960"/>
          </a:xfrm>
        </p:grpSpPr>
        <p:sp>
          <p:nvSpPr>
            <p:cNvPr id="281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82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283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3d81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285" name="Text Box 8"/>
            <p:cNvSpPr/>
            <p:nvPr/>
          </p:nvSpPr>
          <p:spPr>
            <a:xfrm>
              <a:off x="3913920" y="3705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86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287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288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5b4b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32560"/>
                    <a:gd name="textAreaBottom" fmla="*/ 232920 h 232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Text Box 13"/>
              <p:cNvSpPr/>
              <p:nvPr/>
            </p:nvSpPr>
            <p:spPr>
              <a:xfrm>
                <a:off x="4323600" y="17326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4"/>
            <p:cNvGrpSpPr/>
            <p:nvPr/>
          </p:nvGrpSpPr>
          <p:grpSpPr>
            <a:xfrm>
              <a:off x="3558240" y="4710960"/>
              <a:ext cx="344160" cy="312480"/>
              <a:chOff x="3558240" y="4710960"/>
              <a:chExt cx="344160" cy="312480"/>
            </a:xfrm>
          </p:grpSpPr>
          <p:sp>
            <p:nvSpPr>
              <p:cNvPr id="292" name="Oval 15"/>
              <p:cNvSpPr/>
              <p:nvPr/>
            </p:nvSpPr>
            <p:spPr>
              <a:xfrm rot="18226800">
                <a:off x="3584520" y="487260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875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93" name="Oval 16"/>
              <p:cNvSpPr/>
              <p:nvPr/>
            </p:nvSpPr>
            <p:spPr>
              <a:xfrm rot="18226800">
                <a:off x="3754080" y="473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875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295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296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202b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Text Box 21"/>
              <p:cNvSpPr/>
              <p:nvPr/>
            </p:nvSpPr>
            <p:spPr>
              <a:xfrm>
                <a:off x="3106440" y="51033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00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01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bce6e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>
                    <a:gd name="textAreaLeft" fmla="*/ 0 w 493920"/>
                    <a:gd name="textAreaRight" fmla="*/ 494280 w 493920"/>
                    <a:gd name="textAreaTop" fmla="*/ 0 h 244440"/>
                    <a:gd name="textAreaBottom" fmla="*/ 244800 h 2444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Text Box 26"/>
              <p:cNvSpPr/>
              <p:nvPr/>
            </p:nvSpPr>
            <p:spPr>
              <a:xfrm>
                <a:off x="6236280" y="3009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05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06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85f6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31"/>
              <p:cNvSpPr/>
              <p:nvPr/>
            </p:nvSpPr>
            <p:spPr>
              <a:xfrm>
                <a:off x="5671440" y="5018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10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11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f6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>
                    <a:gd name="textAreaLeft" fmla="*/ 0 w 495720"/>
                    <a:gd name="textAreaRight" fmla="*/ 495720 w 49572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36"/>
              <p:cNvSpPr/>
              <p:nvPr/>
            </p:nvSpPr>
            <p:spPr>
              <a:xfrm>
                <a:off x="2608920" y="29919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14" name="Oval 37"/>
            <p:cNvSpPr/>
            <p:nvPr/>
          </p:nvSpPr>
          <p:spPr>
            <a:xfrm rot="18226800">
              <a:off x="5469120" y="484056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18b8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18b8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16" name="Group 39"/>
            <p:cNvGrpSpPr/>
            <p:nvPr/>
          </p:nvGrpSpPr>
          <p:grpSpPr>
            <a:xfrm>
              <a:off x="3160080" y="3322440"/>
              <a:ext cx="388440" cy="244440"/>
              <a:chOff x="3160080" y="3322440"/>
              <a:chExt cx="388440" cy="244440"/>
            </a:xfrm>
          </p:grpSpPr>
          <p:sp>
            <p:nvSpPr>
              <p:cNvPr id="317" name="Oval 40"/>
              <p:cNvSpPr/>
              <p:nvPr/>
            </p:nvSpPr>
            <p:spPr>
              <a:xfrm rot="18226800">
                <a:off x="3186720" y="334404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c647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18" name="Oval 41"/>
              <p:cNvSpPr/>
              <p:nvPr/>
            </p:nvSpPr>
            <p:spPr>
              <a:xfrm rot="18226800">
                <a:off x="3400560" y="3415680"/>
                <a:ext cx="12096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3546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2"/>
            <p:cNvGrpSpPr/>
            <p:nvPr/>
          </p:nvGrpSpPr>
          <p:grpSpPr>
            <a:xfrm>
              <a:off x="4444200" y="2366640"/>
              <a:ext cx="174960" cy="437040"/>
              <a:chOff x="4444200" y="2366640"/>
              <a:chExt cx="174960" cy="437040"/>
            </a:xfrm>
          </p:grpSpPr>
          <p:sp>
            <p:nvSpPr>
              <p:cNvPr id="320" name="Oval 43"/>
              <p:cNvSpPr/>
              <p:nvPr/>
            </p:nvSpPr>
            <p:spPr>
              <a:xfrm rot="18226800">
                <a:off x="4470840" y="238824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150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 rot="18226800">
                <a:off x="4470840" y="265212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8564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22" name="Oval 45"/>
            <p:cNvSpPr/>
            <p:nvPr/>
          </p:nvSpPr>
          <p:spPr>
            <a:xfrm rot="18226800">
              <a:off x="5844240" y="337032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a6ded9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3" name="Oval 46"/>
            <p:cNvSpPr/>
            <p:nvPr/>
          </p:nvSpPr>
          <p:spPr>
            <a:xfrm rot="18226800">
              <a:off x="5612400" y="348624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a6ded9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4" name="Text Box 47"/>
            <p:cNvSpPr/>
            <p:nvPr/>
          </p:nvSpPr>
          <p:spPr>
            <a:xfrm>
              <a:off x="685800" y="30636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5" name="Text Box 48"/>
            <p:cNvSpPr/>
            <p:nvPr/>
          </p:nvSpPr>
          <p:spPr>
            <a:xfrm>
              <a:off x="3611160" y="1295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6" name="Text Box 49"/>
            <p:cNvSpPr/>
            <p:nvPr/>
          </p:nvSpPr>
          <p:spPr>
            <a:xfrm>
              <a:off x="6750720" y="30765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7" name="Text Box 50"/>
            <p:cNvSpPr/>
            <p:nvPr/>
          </p:nvSpPr>
          <p:spPr>
            <a:xfrm>
              <a:off x="1042200" y="520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6179760" y="520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332" name="AutoShape 4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3" name="AutoShape 5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6" name="AutoShape 8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7" name="AutoShape 9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38" name="Group 10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339" name="Oval 11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0" name="Oval 12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1" name="Oval 13"/>
              <p:cNvSpPr/>
              <p:nvPr/>
            </p:nvSpPr>
            <p:spPr>
              <a:xfrm>
                <a:off x="190188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2" name="Oval 14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3" name="Oval 15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44" name="Text Box 16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347" name="AutoShape 19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3538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9" name="AutoShape 21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0" name="AutoShape 22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4255920" y="1684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3" name="Oval 25"/>
            <p:cNvSpPr/>
            <p:nvPr/>
          </p:nvSpPr>
          <p:spPr>
            <a:xfrm>
              <a:off x="4264200" y="1687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4270320" y="1693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4305240" y="1709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3581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3508200" y="4844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9" name="AutoShape 31"/>
            <p:cNvSpPr/>
            <p:nvPr/>
          </p:nvSpPr>
          <p:spPr>
            <a:xfrm>
              <a:off x="35528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60" name="Group 32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361" name="AutoShape 33"/>
            <p:cNvSpPr/>
            <p:nvPr/>
          </p:nvSpPr>
          <p:spPr>
            <a:xfrm>
              <a:off x="5867280" y="1987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2" name="AutoShape 34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3" name="AutoShape 35"/>
            <p:cNvSpPr/>
            <p:nvPr/>
          </p:nvSpPr>
          <p:spPr>
            <a:xfrm>
              <a:off x="5918040" y="4059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4" name="AutoShape 36"/>
            <p:cNvSpPr/>
            <p:nvPr/>
          </p:nvSpPr>
          <p:spPr>
            <a:xfrm>
              <a:off x="5918040" y="2017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65" name="Group 37"/>
            <p:cNvGrpSpPr/>
            <p:nvPr/>
          </p:nvGrpSpPr>
          <p:grpSpPr>
            <a:xfrm>
              <a:off x="6611760" y="1679400"/>
              <a:ext cx="642960" cy="642960"/>
              <a:chOff x="6611760" y="1679400"/>
              <a:chExt cx="642960" cy="642960"/>
            </a:xfrm>
          </p:grpSpPr>
          <p:sp>
            <p:nvSpPr>
              <p:cNvPr id="366" name="Oval 38"/>
              <p:cNvSpPr/>
              <p:nvPr/>
            </p:nvSpPr>
            <p:spPr>
              <a:xfrm>
                <a:off x="66117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7" name="Oval 39"/>
              <p:cNvSpPr/>
              <p:nvPr/>
            </p:nvSpPr>
            <p:spPr>
              <a:xfrm>
                <a:off x="66182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8" name="Oval 40"/>
              <p:cNvSpPr/>
              <p:nvPr/>
            </p:nvSpPr>
            <p:spPr>
              <a:xfrm>
                <a:off x="662616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9" name="Oval 41"/>
              <p:cNvSpPr/>
              <p:nvPr/>
            </p:nvSpPr>
            <p:spPr>
              <a:xfrm>
                <a:off x="66326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70" name="Oval 42"/>
              <p:cNvSpPr/>
              <p:nvPr/>
            </p:nvSpPr>
            <p:spPr>
              <a:xfrm>
                <a:off x="66664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71" name="Text Box 43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2" name="Text Box 44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3" name="AutoShape 45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4" name="AutoShape 46"/>
            <p:cNvSpPr/>
            <p:nvPr/>
          </p:nvSpPr>
          <p:spPr>
            <a:xfrm>
              <a:off x="5905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4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4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4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4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81b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59" name="Group 85"/>
          <p:cNvGrpSpPr/>
          <p:nvPr/>
        </p:nvGrpSpPr>
        <p:grpSpPr>
          <a:xfrm>
            <a:off x="1098360" y="1828800"/>
            <a:ext cx="6057000" cy="407880"/>
            <a:chOff x="1098360" y="1828800"/>
            <a:chExt cx="6057000" cy="407880"/>
          </a:xfrm>
        </p:grpSpPr>
        <p:sp>
          <p:nvSpPr>
            <p:cNvPr id="460" name="Text Box 86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61" name="Text Box 87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62" name="Text Box 88"/>
            <p:cNvSpPr/>
            <p:nvPr/>
          </p:nvSpPr>
          <p:spPr>
            <a:xfrm>
              <a:off x="4599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63" name="Text Box 89"/>
            <p:cNvSpPr/>
            <p:nvPr/>
          </p:nvSpPr>
          <p:spPr>
            <a:xfrm>
              <a:off x="638928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464" name="AutoShape 90"/>
            <p:cNvCxnSpPr>
              <a:stCxn id="460" idx="3"/>
              <a:endCxn id="461" idx="1"/>
            </p:cNvCxnSpPr>
            <p:nvPr/>
          </p:nvCxnSpPr>
          <p:spPr>
            <a:xfrm>
              <a:off x="1835280" y="2052360"/>
              <a:ext cx="98640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  <p:cxnSp>
          <p:nvCxnSpPr>
            <p:cNvPr id="465" name="AutoShape 91"/>
            <p:cNvCxnSpPr>
              <a:stCxn id="461" idx="3"/>
              <a:endCxn id="462" idx="1"/>
            </p:cNvCxnSpPr>
            <p:nvPr/>
          </p:nvCxnSpPr>
          <p:spPr>
            <a:xfrm>
              <a:off x="3588840" y="2052360"/>
              <a:ext cx="97884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  <p:cxnSp>
          <p:nvCxnSpPr>
            <p:cNvPr id="466" name="AutoShape 92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9" name="Group 3"/>
          <p:cNvGrpSpPr/>
          <p:nvPr/>
        </p:nvGrpSpPr>
        <p:grpSpPr>
          <a:xfrm>
            <a:off x="1295280" y="1905120"/>
            <a:ext cx="6857640" cy="3428640"/>
            <a:chOff x="1295280" y="1905120"/>
            <a:chExt cx="6857640" cy="3428640"/>
          </a:xfrm>
        </p:grpSpPr>
        <p:sp>
          <p:nvSpPr>
            <p:cNvPr id="470" name="AutoShape 4"/>
            <p:cNvSpPr/>
            <p:nvPr/>
          </p:nvSpPr>
          <p:spPr>
            <a:xfrm>
              <a:off x="5590080" y="26748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d6b098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1" name="AutoShape 5"/>
            <p:cNvSpPr/>
            <p:nvPr/>
          </p:nvSpPr>
          <p:spPr>
            <a:xfrm>
              <a:off x="3442680" y="26748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4b09a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2" name="AutoShape 6"/>
            <p:cNvSpPr/>
            <p:nvPr/>
          </p:nvSpPr>
          <p:spPr>
            <a:xfrm>
              <a:off x="1295280" y="26748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68ad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3" name="AutoShape 7"/>
            <p:cNvSpPr/>
            <p:nvPr/>
          </p:nvSpPr>
          <p:spPr>
            <a:xfrm>
              <a:off x="150300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68ad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4" name="AutoShape 8"/>
            <p:cNvSpPr/>
            <p:nvPr/>
          </p:nvSpPr>
          <p:spPr>
            <a:xfrm>
              <a:off x="361152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84b09a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75" name="AutoShape 9"/>
            <p:cNvSpPr/>
            <p:nvPr/>
          </p:nvSpPr>
          <p:spPr>
            <a:xfrm>
              <a:off x="572868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d6b098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5073480" y="9907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5d8d2">
                  <a:alpha val="32156"/>
                </a:srgbClr>
              </a:gs>
              <a:gs pos="100000">
                <a:srgbClr val="8ad4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424320" y="24242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d6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3657600" y="2286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35146"/>
              </a:gs>
              <a:gs pos="50000">
                <a:srgbClr val="d6b098"/>
              </a:gs>
              <a:gs pos="100000">
                <a:srgbClr val="6351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 flipH="1">
            <a:off x="5333400" y="23623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 flipH="1">
            <a:off x="3742560" y="23526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934240" y="19224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ad4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4" name="AutoShape 9"/>
          <p:cNvSpPr/>
          <p:nvPr/>
        </p:nvSpPr>
        <p:spPr>
          <a:xfrm>
            <a:off x="6149880" y="17794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625f"/>
              </a:gs>
              <a:gs pos="5000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5" name="AutoShape 10"/>
          <p:cNvSpPr/>
          <p:nvPr/>
        </p:nvSpPr>
        <p:spPr>
          <a:xfrm flipH="1">
            <a:off x="7835040" y="18511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6" name="AutoShape 11"/>
          <p:cNvSpPr/>
          <p:nvPr/>
        </p:nvSpPr>
        <p:spPr>
          <a:xfrm flipH="1">
            <a:off x="6253200" y="18511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7" name="Freeform 12"/>
          <p:cNvSpPr/>
          <p:nvPr/>
        </p:nvSpPr>
        <p:spPr>
          <a:xfrm>
            <a:off x="2492280" y="14922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8d1c5">
                  <a:alpha val="32156"/>
                </a:srgbClr>
              </a:gs>
              <a:gs pos="100000">
                <a:srgbClr val="84b09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913200" y="22575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6427800" y="1762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490" name="Group 15"/>
          <p:cNvGrpSpPr/>
          <p:nvPr/>
        </p:nvGrpSpPr>
        <p:grpSpPr>
          <a:xfrm>
            <a:off x="914400" y="2685960"/>
            <a:ext cx="2295360" cy="3324240"/>
            <a:chOff x="914400" y="2685960"/>
            <a:chExt cx="2295360" cy="3324240"/>
          </a:xfrm>
        </p:grpSpPr>
        <p:sp>
          <p:nvSpPr>
            <p:cNvPr id="491" name="AutoShape 16"/>
            <p:cNvSpPr/>
            <p:nvPr/>
          </p:nvSpPr>
          <p:spPr>
            <a:xfrm>
              <a:off x="914400" y="28544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2" name="AutoShape 17"/>
            <p:cNvSpPr/>
            <p:nvPr/>
          </p:nvSpPr>
          <p:spPr>
            <a:xfrm>
              <a:off x="1130400" y="27115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3c"/>
                </a:gs>
                <a:gs pos="50000">
                  <a:srgbClr val="84b09a"/>
                </a:gs>
                <a:gs pos="100000">
                  <a:srgbClr val="3344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 flipH="1">
              <a:off x="2813760" y="27828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 flipH="1">
              <a:off x="1231200" y="27828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5" name="Text Box 20"/>
            <p:cNvSpPr/>
            <p:nvPr/>
          </p:nvSpPr>
          <p:spPr>
            <a:xfrm>
              <a:off x="1398600" y="2685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990720" y="31147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497" name="Text Box 22"/>
          <p:cNvSpPr/>
          <p:nvPr/>
        </p:nvSpPr>
        <p:spPr>
          <a:xfrm>
            <a:off x="35053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98" name="Text Box 23"/>
          <p:cNvSpPr/>
          <p:nvPr/>
        </p:nvSpPr>
        <p:spPr>
          <a:xfrm>
            <a:off x="6019920" y="21240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33520" y="190512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b0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ad4c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4b09a"/>
                        </a:gs>
                      </a:gsLst>
                      <a:lin ang="54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3"/>
          <p:cNvSpPr/>
          <p:nvPr/>
        </p:nvSpPr>
        <p:spPr>
          <a:xfrm>
            <a:off x="457200" y="6095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d4c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06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f1faf9"/>
                </a:gs>
              </a:gsLst>
              <a:lin ang="5400000"/>
            </a:gradFill>
            <a:ln w="2556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aphicFrame>
          <p:nvGraphicFramePr>
            <p:cNvPr id="507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625f"/>
                </a:gs>
                <a:gs pos="50000">
                  <a:srgbClr val="8ad4cd"/>
                </a:gs>
                <a:gs pos="100000">
                  <a:srgbClr val="4062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0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6e8f5"/>
                </a:gs>
              </a:gsLst>
              <a:lin ang="5400000"/>
            </a:gradFill>
            <a:ln w="255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aphicFrame>
          <p:nvGraphicFramePr>
            <p:cNvPr id="513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5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05066"/>
                </a:gs>
                <a:gs pos="50000">
                  <a:srgbClr val="68addc"/>
                </a:gs>
                <a:gs pos="100000">
                  <a:srgbClr val="305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6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d8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92" name="Group 153"/>
          <p:cNvGrpSpPr/>
          <p:nvPr/>
        </p:nvGrpSpPr>
        <p:grpSpPr>
          <a:xfrm>
            <a:off x="2438280" y="1981080"/>
            <a:ext cx="4496040" cy="701640"/>
            <a:chOff x="2438280" y="1981080"/>
            <a:chExt cx="4496040" cy="701640"/>
          </a:xfrm>
        </p:grpSpPr>
        <p:sp>
          <p:nvSpPr>
            <p:cNvPr id="93" name="Freeform 154"/>
            <p:cNvSpPr/>
            <p:nvPr/>
          </p:nvSpPr>
          <p:spPr>
            <a:xfrm>
              <a:off x="2438280" y="198108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4" name="Rectangle 155"/>
            <p:cNvSpPr/>
            <p:nvPr/>
          </p:nvSpPr>
          <p:spPr>
            <a:xfrm>
              <a:off x="3045240" y="211464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5" name="Group 156"/>
          <p:cNvGrpSpPr/>
          <p:nvPr/>
        </p:nvGrpSpPr>
        <p:grpSpPr>
          <a:xfrm>
            <a:off x="2438280" y="2819520"/>
            <a:ext cx="4496040" cy="701640"/>
            <a:chOff x="2438280" y="2819520"/>
            <a:chExt cx="4496040" cy="701640"/>
          </a:xfrm>
        </p:grpSpPr>
        <p:sp>
          <p:nvSpPr>
            <p:cNvPr id="96" name="Freeform 157"/>
            <p:cNvSpPr/>
            <p:nvPr/>
          </p:nvSpPr>
          <p:spPr>
            <a:xfrm>
              <a:off x="2438280" y="281952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7" name="Rectangle 158"/>
            <p:cNvSpPr/>
            <p:nvPr/>
          </p:nvSpPr>
          <p:spPr>
            <a:xfrm>
              <a:off x="3045240" y="295308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8" name="Group 159"/>
          <p:cNvGrpSpPr/>
          <p:nvPr/>
        </p:nvGrpSpPr>
        <p:grpSpPr>
          <a:xfrm>
            <a:off x="2438280" y="3657600"/>
            <a:ext cx="4496040" cy="701640"/>
            <a:chOff x="2438280" y="3657600"/>
            <a:chExt cx="4496040" cy="701640"/>
          </a:xfrm>
        </p:grpSpPr>
        <p:sp>
          <p:nvSpPr>
            <p:cNvPr id="99" name="Freeform 160"/>
            <p:cNvSpPr/>
            <p:nvPr/>
          </p:nvSpPr>
          <p:spPr>
            <a:xfrm>
              <a:off x="2438280" y="36576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0" name="Rectangle 161"/>
            <p:cNvSpPr/>
            <p:nvPr/>
          </p:nvSpPr>
          <p:spPr>
            <a:xfrm>
              <a:off x="3045240" y="379116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daeb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101" name="Group 162"/>
          <p:cNvGrpSpPr/>
          <p:nvPr/>
        </p:nvGrpSpPr>
        <p:grpSpPr>
          <a:xfrm>
            <a:off x="2438280" y="4572000"/>
            <a:ext cx="4496040" cy="701640"/>
            <a:chOff x="2438280" y="4572000"/>
            <a:chExt cx="4496040" cy="701640"/>
          </a:xfrm>
        </p:grpSpPr>
        <p:sp>
          <p:nvSpPr>
            <p:cNvPr id="102" name="Freeform 163"/>
            <p:cNvSpPr/>
            <p:nvPr/>
          </p:nvSpPr>
          <p:spPr>
            <a:xfrm>
              <a:off x="2438280" y="45720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3" name="Rectangle 164"/>
            <p:cNvSpPr/>
            <p:nvPr/>
          </p:nvSpPr>
          <p:spPr>
            <a:xfrm>
              <a:off x="3045240" y="470556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e3f5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4"/>
          <p:cNvSpPr txBox="1"/>
          <p:nvPr/>
        </p:nvSpPr>
        <p:spPr>
          <a:xfrm>
            <a:off x="1512720" y="2708280"/>
            <a:ext cx="63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ad4cd"/>
                    </a:gs>
                    <a:gs pos="100000">
                      <a:srgbClr val="68add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ad4cd"/>
                  </a:gs>
                  <a:gs pos="100000">
                    <a:srgbClr val="68addc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047240" y="4018680"/>
            <a:ext cx="7086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c1d1d3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39212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81b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8a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[Master], and then click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68addc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2666880" y="1523880"/>
            <a:ext cx="4114800" cy="10670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68addc"/>
              </a:gs>
              <a:gs pos="100000">
                <a:srgbClr val="b6d7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e5cd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5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daf1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352680" y="1905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57340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reeform 28"/>
          <p:cNvSpPr/>
          <p:nvPr/>
        </p:nvSpPr>
        <p:spPr>
          <a:xfrm>
            <a:off x="6227640" y="20350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26b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1" name="Freeform 29"/>
          <p:cNvSpPr/>
          <p:nvPr/>
        </p:nvSpPr>
        <p:spPr>
          <a:xfrm>
            <a:off x="349236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9c8b8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2" name="Freeform 30"/>
          <p:cNvSpPr/>
          <p:nvPr/>
        </p:nvSpPr>
        <p:spPr>
          <a:xfrm>
            <a:off x="75564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3" name="AutoShape 31"/>
          <p:cNvSpPr/>
          <p:nvPr/>
        </p:nvSpPr>
        <p:spPr>
          <a:xfrm>
            <a:off x="291636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d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565164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8478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358128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7" name="AutoShape 35"/>
          <p:cNvSpPr/>
          <p:nvPr/>
        </p:nvSpPr>
        <p:spPr>
          <a:xfrm>
            <a:off x="63342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7621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9" name="AutoShape 37"/>
          <p:cNvSpPr/>
          <p:nvPr/>
        </p:nvSpPr>
        <p:spPr>
          <a:xfrm>
            <a:off x="35053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30" name="AutoShape 38"/>
          <p:cNvSpPr/>
          <p:nvPr/>
        </p:nvSpPr>
        <p:spPr>
          <a:xfrm>
            <a:off x="632448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34" name="Freeform 4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f1f2">
                    <a:alpha val="36078"/>
                  </a:srgbClr>
                </a:gs>
                <a:gs pos="100000">
                  <a:srgbClr val="c1d1d3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3049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2136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6b098"/>
                </a:gs>
                <a:gs pos="100000">
                  <a:srgbClr val="4c3f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54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4b09a"/>
                </a:gs>
                <a:gs pos="100000">
                  <a:srgbClr val="2e3d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82304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1" name="Text Box 11"/>
            <p:cNvSpPr/>
            <p:nvPr/>
          </p:nvSpPr>
          <p:spPr>
            <a:xfrm>
              <a:off x="412632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73632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514404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26341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d81b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>
              <a:off x="2601720" y="2452680"/>
              <a:ext cx="1626840" cy="1251000"/>
            </a:xfrm>
            <a:prstGeom prst="line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147" name="AutoShape 17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</a:ln>
          </p:spPr>
        </p:cxnSp>
        <p:sp>
          <p:nvSpPr>
            <p:cNvPr id="148" name="Text Box 18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d81b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49" name="Text Box 3"/>
          <p:cNvSpPr/>
          <p:nvPr/>
        </p:nvSpPr>
        <p:spPr>
          <a:xfrm>
            <a:off x="531720" y="6591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d4c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d81b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9616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6162">
                    <a:alpha val="12156"/>
                  </a:srgbClr>
                </a:gs>
                <a:gs pos="100000">
                  <a:srgbClr val="c1d1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5066"/>
                </a:gs>
                <a:gs pos="50000">
                  <a:srgbClr val="68addc"/>
                </a:gs>
                <a:gs pos="100000">
                  <a:srgbClr val="305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8e2e3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0625f"/>
                </a:gs>
                <a:gs pos="50000">
                  <a:srgbClr val="8ad4cd"/>
                </a:gs>
                <a:gs pos="100000">
                  <a:srgbClr val="4062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7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8e2e3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3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905120" y="22096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ad4c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656160" y="28195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5" name="Freeform 32"/>
          <p:cNvSpPr/>
          <p:nvPr/>
        </p:nvSpPr>
        <p:spPr>
          <a:xfrm>
            <a:off x="2666880" y="1295280"/>
            <a:ext cx="4114800" cy="8384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68addc"/>
              </a:gs>
              <a:gs pos="100000">
                <a:srgbClr val="b6d7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3352680" y="15238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7" name="Freeform 34"/>
          <p:cNvSpPr/>
          <p:nvPr/>
        </p:nvSpPr>
        <p:spPr>
          <a:xfrm>
            <a:off x="6316560" y="388296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26b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8" name="Freeform 35"/>
          <p:cNvSpPr/>
          <p:nvPr/>
        </p:nvSpPr>
        <p:spPr>
          <a:xfrm>
            <a:off x="358128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9c8b8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9" name="Freeform 36"/>
          <p:cNvSpPr/>
          <p:nvPr/>
        </p:nvSpPr>
        <p:spPr>
          <a:xfrm>
            <a:off x="84456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406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0" name="AutoShape 37"/>
          <p:cNvSpPr/>
          <p:nvPr/>
        </p:nvSpPr>
        <p:spPr>
          <a:xfrm>
            <a:off x="8510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1" name="AutoShape 38"/>
          <p:cNvSpPr/>
          <p:nvPr/>
        </p:nvSpPr>
        <p:spPr>
          <a:xfrm>
            <a:off x="35942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641340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19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9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35146"/>
                </a:gs>
                <a:gs pos="50000">
                  <a:srgbClr val="d6b098"/>
                </a:gs>
                <a:gs pos="100000">
                  <a:srgbClr val="6351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6b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0625f"/>
                </a:gs>
                <a:gs pos="50000">
                  <a:srgbClr val="8ad4cd"/>
                </a:gs>
                <a:gs pos="100000">
                  <a:srgbClr val="4062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ad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d5147"/>
                </a:gs>
                <a:gs pos="50000">
                  <a:srgbClr val="84b09a"/>
                </a:gs>
                <a:gs pos="100000">
                  <a:srgbClr val="3d51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96162"/>
                </a:gs>
                <a:gs pos="50000">
                  <a:srgbClr val="c1d1d3"/>
                </a:gs>
                <a:gs pos="100000">
                  <a:srgbClr val="5961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1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b806e"/>
                </a:gs>
                <a:gs pos="50000">
                  <a:srgbClr val="d6b098"/>
                </a:gs>
                <a:gs pos="100000">
                  <a:srgbClr val="9b80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49a95"/>
                </a:gs>
                <a:gs pos="50000">
                  <a:srgbClr val="8ad4cd"/>
                </a:gs>
                <a:gs pos="100000">
                  <a:srgbClr val="649a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4b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8070"/>
                </a:gs>
                <a:gs pos="50000">
                  <a:srgbClr val="84b09a"/>
                </a:gs>
                <a:gs pos="100000">
                  <a:srgbClr val="608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c9899"/>
                </a:gs>
                <a:gs pos="50000">
                  <a:srgbClr val="c1d1d3"/>
                </a:gs>
                <a:gs pos="100000">
                  <a:srgbClr val="8c9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2:38:28Z</dcterms:created>
  <dc:creator>ppt宝藏</dc:creator>
  <dc:description/>
  <dc:language>en-US</dc:language>
  <cp:lastModifiedBy>a</cp:lastModifiedBy>
  <dcterms:modified xsi:type="dcterms:W3CDTF">2015-07-25T07:22:15Z</dcterms:modified>
  <cp:revision>15</cp:revision>
  <dc:subject/>
  <dc:title>www.pptbz.com</dc:title>
</cp:coreProperties>
</file>