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Bullet_T-cuber3-1264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C10D-5108-4E97-9DA2-AC0A8E7C1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CF24-0221-4E63-8B0A-20725142A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CFA7-8A31-49A6-BB19-6727943F9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5922-CCF4-44E0-B61F-702652BEB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0843-F215-4E57-87CE-38948A750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056B-1267-4294-9402-F720E0D51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B40E-F572-47DC-8FA5-FD5CDF4BA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E65F-893B-4CDD-9693-D2C5BC53A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2FBB-326B-4AF3-92DE-CFF107CBB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0C77-AA62-450D-83E4-2BFBA271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143C-A4D9-4949-8554-21971B82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AA32-CAB6-48A0-8510-EBE5EE84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A5D29-4F2C-4B91-8914-98AC1C9571D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Bullet_T-cuber3-1264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057480" y="3200400"/>
            <a:ext cx="30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PowerPoint He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5"/>
          <p:cNvSpPr/>
          <p:nvPr/>
        </p:nvSpPr>
        <p:spPr>
          <a:xfrm>
            <a:off x="4267080" y="3124080"/>
            <a:ext cx="609840" cy="609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6"/>
          <p:cNvSpPr/>
          <p:nvPr/>
        </p:nvSpPr>
        <p:spPr>
          <a:xfrm>
            <a:off x="0" y="3200400"/>
            <a:ext cx="3733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7"/>
          <p:cNvSpPr/>
          <p:nvPr/>
        </p:nvSpPr>
        <p:spPr>
          <a:xfrm>
            <a:off x="5486400" y="3657600"/>
            <a:ext cx="3733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105000" y="0"/>
            <a:ext cx="0" cy="3200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6095880" y="3657600"/>
            <a:ext cx="0" cy="3200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>
            <a:off x="2819520" y="32004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>
            <a:off x="6324480" y="30481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3"/>
          <p:cNvSpPr/>
          <p:nvPr/>
        </p:nvSpPr>
        <p:spPr>
          <a:xfrm flipH="1">
            <a:off x="4419360" y="3048120"/>
            <a:ext cx="1904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4"/>
          <p:cNvSpPr/>
          <p:nvPr/>
        </p:nvSpPr>
        <p:spPr>
          <a:xfrm flipH="1">
            <a:off x="2819160" y="3809880"/>
            <a:ext cx="1904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5"/>
          <p:cNvSpPr/>
          <p:nvPr/>
        </p:nvSpPr>
        <p:spPr>
          <a:xfrm flipH="1">
            <a:off x="2285640" y="4267080"/>
            <a:ext cx="3505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6"/>
          <p:cNvSpPr/>
          <p:nvPr/>
        </p:nvSpPr>
        <p:spPr>
          <a:xfrm flipH="1">
            <a:off x="3428640" y="2590920"/>
            <a:ext cx="3505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7"/>
          <p:cNvSpPr/>
          <p:nvPr/>
        </p:nvSpPr>
        <p:spPr>
          <a:xfrm>
            <a:off x="2266920" y="4267080"/>
            <a:ext cx="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8"/>
          <p:cNvSpPr/>
          <p:nvPr/>
        </p:nvSpPr>
        <p:spPr>
          <a:xfrm>
            <a:off x="6934320" y="685800"/>
            <a:ext cx="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0"/>
          <p:cNvSpPr/>
          <p:nvPr/>
        </p:nvSpPr>
        <p:spPr>
          <a:xfrm>
            <a:off x="0" y="3886200"/>
            <a:ext cx="4772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1"/>
          <p:cNvSpPr/>
          <p:nvPr/>
        </p:nvSpPr>
        <p:spPr>
          <a:xfrm>
            <a:off x="4448160" y="4419720"/>
            <a:ext cx="4772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2"/>
          <p:cNvSpPr/>
          <p:nvPr/>
        </p:nvSpPr>
        <p:spPr>
          <a:xfrm>
            <a:off x="2881440" y="3943440"/>
            <a:ext cx="33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he Power to An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3"/>
          <p:cNvSpPr/>
          <p:nvPr/>
        </p:nvSpPr>
        <p:spPr>
          <a:xfrm>
            <a:off x="5334120" y="3886200"/>
            <a:ext cx="3894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7"/>
          <p:cNvSpPr/>
          <p:nvPr/>
        </p:nvSpPr>
        <p:spPr>
          <a:xfrm>
            <a:off x="0" y="4419720"/>
            <a:ext cx="3894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8"/>
          <p:cNvSpPr/>
          <p:nvPr/>
        </p:nvSpPr>
        <p:spPr>
          <a:xfrm>
            <a:off x="9524880" y="65530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29"/>
          <p:cNvSpPr/>
          <p:nvPr/>
        </p:nvSpPr>
        <p:spPr>
          <a:xfrm>
            <a:off x="4267080" y="3556080"/>
            <a:ext cx="609840" cy="609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1"/>
          <p:cNvSpPr/>
          <p:nvPr/>
        </p:nvSpPr>
        <p:spPr>
          <a:xfrm>
            <a:off x="1733040" y="723960"/>
            <a:ext cx="567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炫酷个性白色光斑动态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ullet_T-cuber3-126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2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2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22" presetSubtype="1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5" dur="2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22" presetSubtype="2">
                                  <p:stCondLst>
                                    <p:cond delay="6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8" dur="2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22" presetSubtype="4">
                                  <p:stCondLst>
                                    <p:cond delay="6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4" dur="2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" dur="2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2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22" presetSubtype="8">
                                  <p:stCondLst>
                                    <p:cond delay="8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2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2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2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" dur="2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2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2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58" autoRev="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" dur="300" fill="hold"/>
                                        <p:tgtEl>
                                          <p:spTgt spid="42"/>
                                        </p:tgtEl>
                                      </p:cBhvr>
                                      <p:to x="1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60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" dur="300" fill="hold"/>
                                        <p:tgtEl>
                                          <p:spTgt spid="42"/>
                                        </p:tgtEl>
                                      </p:cBhvr>
                                      <p:to x="25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6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" dur="300" fill="hold"/>
                                        <p:tgtEl>
                                          <p:spTgt spid="42"/>
                                        </p:tgtEl>
                                      </p:cBhvr>
                                      <p:to x="10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300" fill="hold"/>
                                        <p:tgtEl>
                                          <p:spTgt spid="42"/>
                                        </p:tgtEl>
                                      </p:cBhvr>
                                      <p:to x="100000" y="-0"/>
                                    </p:animScale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mph" presetID="35" repeatCount="4000">
                                  <p:stCondLst>
                                    <p:cond delay="4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" dur="1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0" dur="2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22" presetSubtype="1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83" dur="2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22" presetSubtype="4">
                                  <p:stCondLst>
                                    <p:cond delay="6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6" dur="2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22" presetSubtype="1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89" dur="2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22" presetSubtype="2">
                                  <p:stCondLst>
                                    <p:cond delay="8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92" dur="2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2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" dur="2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" dur="2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2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22" presetSubtype="8">
                                  <p:stCondLst>
                                    <p:cond delay="2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2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22" presetSubtype="2">
                                  <p:stCondLst>
                                    <p:cond delay="2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13" dur="2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22" presetSubtype="8">
                                  <p:stCondLst>
                                    <p:cond delay="4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2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22" presetSubtype="2">
                                  <p:stCondLst>
                                    <p:cond delay="4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19" dur="2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22" presetSubtype="2">
                                  <p:stCondLst>
                                    <p:cond delay="6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2" dur="2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22" presetSubtype="8">
                                  <p:stCondLst>
                                    <p:cond delay="6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2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6300"/>
                            </p:stCondLst>
                            <p:childTnLst>
                              <p:par>
                                <p:cTn id="132" autoRev="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3" dur="300" fill="hold"/>
                                        <p:tgtEl>
                                          <p:spTgt spid="61"/>
                                        </p:tgtEl>
                                      </p:cBhvr>
                                      <p:to x="1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134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5" dur="300" fill="hold"/>
                                        <p:tgtEl>
                                          <p:spTgt spid="61"/>
                                        </p:tgtEl>
                                      </p:cBhvr>
                                      <p:to x="25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6900"/>
                            </p:stCondLst>
                            <p:childTnLst>
                              <p:par>
                                <p:cTn id="13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8" dur="300" fill="hold"/>
                                        <p:tgtEl>
                                          <p:spTgt spid="61"/>
                                        </p:tgtEl>
                                      </p:cBhvr>
                                      <p:to x="10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0" dur="300" fill="hold"/>
                                        <p:tgtEl>
                                          <p:spTgt spid="61"/>
                                        </p:tgtEl>
                                      </p:cBhvr>
                                      <p:to x="100000" y="5000"/>
                                    </p:animScale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12" presetSubtype="1">
                                  <p:stCondLst>
                                    <p:cond delay="30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142" dur="3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2" presetSubtype="4">
                                  <p:stCondLst>
                                    <p:cond delay="30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45" dur="3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48" dur="200" fill="hold"/>
                                        <p:tgtEl>
                                          <p:spTgt spid="61"/>
                                        </p:tgtEl>
                                      </p:cBhvr>
                                      <p:to x="12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150" dur="150" fill="hold"/>
                                        <p:tgtEl>
                                          <p:spTgt spid="61"/>
                                        </p:tgtEl>
                                      </p:cBhvr>
                                      <p:to x="-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5T19:18:33Z</dcterms:created>
  <dc:creator>tohlz</dc:creator>
  <dc:description/>
  <dc:language>en-US</dc:language>
  <cp:lastModifiedBy>王玉清</cp:lastModifiedBy>
  <dcterms:modified xsi:type="dcterms:W3CDTF">2016-02-16T09:05:20Z</dcterms:modified>
  <cp:revision>12</cp:revision>
  <dc:subject/>
  <dc:title>Slide 1</dc:title>
</cp:coreProperties>
</file>