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47BE2B-F3F4-4341-BF5E-0F97CCA64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72E16B-1EA7-4ADA-8BB0-7B4E120E0C2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EE50-49BF-479E-AA0D-143FCE150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77172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0359-A3B3-43E1-BDE6-17111BE7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044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064D-EA88-4316-9CB1-56DD0C05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5080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5080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04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BAC1-5988-4CDB-B684-A8966DF13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07BAF-B017-4F95-BE51-943FF5758F2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6702C-B2C4-4C35-9A77-48F1914A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298208-41A1-4953-8A16-E20B00D9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637CA-F3C2-4B82-91A1-CC3619C6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34330-8A36-4EAA-AC81-ACED2026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B586D-D24B-4197-A74F-6F428C859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26564A-7ECF-4A2D-86FD-43DB89F4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7CAC-2E50-4408-A447-5E6C4F40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044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6A714-5712-4A54-8F06-86BA1D19C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696D5E-6A09-46E4-88FF-C0A8A718A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77172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77BF72-C25A-4CE1-9895-D1ED91BF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044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B2A16-40A8-4108-B75F-D899BF05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80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80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44040" y="3771720"/>
            <a:ext cx="266004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67708-E5BA-4968-A16B-C98470EF5A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ABEE-10B9-453D-B8EE-378F19D9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81BE-6C34-4124-A98B-5E45EC2C7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4453-040E-4176-8FD7-E64E4BC5C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2B52-44FC-4BF0-9B30-E33721BF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63C1-6133-4A3C-99B7-2BF6CE1F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0440" y="377172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4E65-CEC3-4387-B3AF-40957275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0440" y="1196640"/>
            <a:ext cx="403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771720"/>
            <a:ext cx="8261280" cy="23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F017-5D76-4FE3-910C-8CB7E0DC8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设计素材\图片\1244126531063.jpg"/>
          <p:cNvPicPr/>
          <p:nvPr/>
        </p:nvPicPr>
        <p:blipFill>
          <a:blip r:embed="rId2"/>
          <a:srcRect l="0" t="-6541" r="0" b="25961"/>
          <a:stretch/>
        </p:blipFill>
        <p:spPr>
          <a:xfrm>
            <a:off x="27000" y="980640"/>
            <a:ext cx="9116640" cy="5877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E:\设计素材\图片\1244126531063.jpg"/>
          <p:cNvPicPr/>
          <p:nvPr/>
        </p:nvPicPr>
        <p:blipFill>
          <a:blip r:embed="rId3"/>
          <a:srcRect l="0" t="-2217" r="0" b="8313"/>
          <a:stretch/>
        </p:blipFill>
        <p:spPr>
          <a:xfrm>
            <a:off x="27000" y="9000"/>
            <a:ext cx="9116640" cy="6848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723018-00E4-413F-9F0F-E14C57DA6EF4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395640" y="1124640"/>
            <a:ext cx="835272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设计素材\图片\1244126531063.jpg"/>
          <p:cNvPicPr/>
          <p:nvPr/>
        </p:nvPicPr>
        <p:blipFill>
          <a:blip r:embed="rId2"/>
          <a:srcRect l="0" t="-6541" r="0" b="25961"/>
          <a:stretch/>
        </p:blipFill>
        <p:spPr>
          <a:xfrm>
            <a:off x="27000" y="980640"/>
            <a:ext cx="9116640" cy="5877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单击此处编辑母版文本样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第二级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第三级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第四级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第五级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A92399-6271-4A37-931F-B1913983C66F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95640" y="1124640"/>
            <a:ext cx="8352720" cy="11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爱情光晕通用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93120" y="2349000"/>
            <a:ext cx="83574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buNone/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612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ffffff"/>
                </a:solidFill>
                <a:latin typeface="Verdana"/>
              </a:rPr>
              <a:t>点击此处添加文本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AEAC61-E7F0-4640-8B23-C36101ECF99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E10047F-AEEF-4EE0-AE89-83B72F466D5F}" type="datetime1">
              <a:rPr lang="en-US"/>
              <a:t>07/28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  <Words>25</Words>
  <Paragraphs>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3T12:51:22Z</dcterms:created>
  <dc:creator>ilovePPT.ORG</dc:creator>
  <dc:description/>
  <cp:keywords>ppt ppt模版 ppt设计</cp:keywords>
  <dc:language>en-US</dc:language>
  <cp:lastModifiedBy>王玉清</cp:lastModifiedBy>
  <dcterms:modified xsi:type="dcterms:W3CDTF">2016-02-20T04:11:42Z</dcterms:modified>
  <cp:revision>3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2</vt:r8>
  </property>
</Properties>
</file>