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E0C-BA0E-4391-952A-85CA1C36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D37-449C-4B27-963A-D4AF5C29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3C1-8C93-46D4-B5A3-A9BC1AD4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446-9B7D-44C4-AD01-DECA4F38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375-D56B-4C3A-81FF-A8BA5666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BC4-8E03-483D-B23A-F8072284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57D-8AE7-413C-B1D9-EDACC45B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FBA-A2D1-4096-AB72-E64E0A2F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66E-9CAF-408C-A309-773B33CD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407-A241-492B-A7B7-F00B003E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ACA-579D-4717-AB35-84E8801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017-7769-4286-8210-6E1946B5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D3F8-B80E-49F1-A46E-DD5613FDA6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爱神之箭通用</a:t>
            </a:r>
            <a:r>
              <a:rPr b="0" i="1" lang="en-US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模板下载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38080" y="2057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5:10:26Z</dcterms:created>
  <dc:creator>keke</dc:creator>
  <dc:description/>
  <dc:language>en-US</dc:language>
  <cp:lastModifiedBy>王玉清</cp:lastModifiedBy>
  <dcterms:modified xsi:type="dcterms:W3CDTF">2016-02-20T04:22:34Z</dcterms:modified>
  <cp:revision>3</cp:revision>
  <dc:subject/>
  <dc:title>站长站素材 SC.chinaz.COM</dc:title>
</cp:coreProperties>
</file>