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4C4-E093-44B3-A518-84C5FA84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2F4-F8D6-4268-B136-DBF97961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07C-6080-4895-BD0F-8778BAB1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68E-C26F-4B1E-A590-3D7F11B2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2E3-ED9E-4EB4-8508-592C88ED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908-833F-44AF-B166-D8C76BE9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095-B28C-42DA-8AC3-72557BD1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6D0-B1DE-4E09-A4AB-534F4CC2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362-CE54-4FC6-8E71-78A0373C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28E-E647-4966-9DF9-215624EA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486-EAD6-4085-AA93-9EA6A8FB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64F-F297-42A9-A3F1-0EB98110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725E-9C5F-40F7-8146-7575E23BB0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爱心通用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完整版下载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0:02:20Z</dcterms:created>
  <dc:creator>雨林木风</dc:creator>
  <dc:description/>
  <dc:language>en-US</dc:language>
  <cp:lastModifiedBy>王玉清</cp:lastModifiedBy>
  <dcterms:modified xsi:type="dcterms:W3CDTF">2016-02-20T04:29:26Z</dcterms:modified>
  <cp:revision>5</cp:revision>
  <dc:subject/>
  <dc:title>Your Title </dc:title>
</cp:coreProperties>
</file>