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38B-B2BC-4C32-B45C-566A4918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B42-70A7-4A6D-B16E-4199BB82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BBA-556A-4A95-BBF7-CE3684A8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7CE-4ABC-4D15-8A68-4AD513CC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74E-3CCB-479E-B112-5DFF6BC3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216-8418-4A24-B05E-DB9C113F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80B-671D-41A6-BA27-5645711E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778-8787-45FA-AE40-395ECB29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714-24A0-433D-924C-84C04F5B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E06-8B7D-43E1-BA01-29BE0C2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E15-D434-4B9B-ACB6-C442D179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8AB-24C2-43BD-B18F-6C21191C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9D43C4-E5BB-431C-8E1D-04713AF612C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429080" y="1123920"/>
            <a:ext cx="4857480" cy="64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4500360" y="162396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"/>
          <p:cNvSpPr/>
          <p:nvPr/>
        </p:nvSpPr>
        <p:spPr>
          <a:xfrm>
            <a:off x="1930680" y="916200"/>
            <a:ext cx="4996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颁奖台通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饼形 11"/>
          <p:cNvSpPr/>
          <p:nvPr/>
        </p:nvSpPr>
        <p:spPr>
          <a:xfrm>
            <a:off x="785880" y="1000080"/>
            <a:ext cx="1052280" cy="10522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2" name="饼形 12"/>
          <p:cNvSpPr/>
          <p:nvPr/>
        </p:nvSpPr>
        <p:spPr>
          <a:xfrm flipH="1">
            <a:off x="6571440" y="1000080"/>
            <a:ext cx="1052280" cy="10522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3" name="饼形 13"/>
          <p:cNvSpPr/>
          <p:nvPr/>
        </p:nvSpPr>
        <p:spPr>
          <a:xfrm flipV="1">
            <a:off x="785880" y="4447440"/>
            <a:ext cx="1052280" cy="10522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4" name="饼形 14"/>
          <p:cNvSpPr/>
          <p:nvPr/>
        </p:nvSpPr>
        <p:spPr>
          <a:xfrm flipH="1" flipV="1">
            <a:off x="6571440" y="4447440"/>
            <a:ext cx="1052280" cy="10522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缺角矩形 10"/>
          <p:cNvSpPr/>
          <p:nvPr/>
        </p:nvSpPr>
        <p:spPr>
          <a:xfrm>
            <a:off x="1285920" y="1500120"/>
            <a:ext cx="5835240" cy="3499920"/>
          </a:xfrm>
          <a:prstGeom prst="plaque">
            <a:avLst>
              <a:gd name="adj" fmla="val 16667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178272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614052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56404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5"/>
          <p:cNvSpPr/>
          <p:nvPr/>
        </p:nvSpPr>
        <p:spPr>
          <a:xfrm>
            <a:off x="135432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流程图: 决策 9"/>
          <p:cNvSpPr/>
          <p:nvPr/>
        </p:nvSpPr>
        <p:spPr>
          <a:xfrm>
            <a:off x="1285920" y="2143080"/>
            <a:ext cx="2142720" cy="1436400"/>
          </a:xfrm>
          <a:prstGeom prst="flowChartDecision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流程图: 决策 10"/>
          <p:cNvSpPr/>
          <p:nvPr/>
        </p:nvSpPr>
        <p:spPr>
          <a:xfrm>
            <a:off x="3643200" y="2143080"/>
            <a:ext cx="2142720" cy="1436400"/>
          </a:xfrm>
          <a:prstGeom prst="flowChartDecision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流程图: 决策 11"/>
          <p:cNvSpPr/>
          <p:nvPr/>
        </p:nvSpPr>
        <p:spPr>
          <a:xfrm>
            <a:off x="6000840" y="2143080"/>
            <a:ext cx="2142720" cy="1436400"/>
          </a:xfrm>
          <a:prstGeom prst="flowChartDecision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284720" y="270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1855800" y="270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65692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流程图: 离页连接符 13"/>
          <p:cNvSpPr/>
          <p:nvPr/>
        </p:nvSpPr>
        <p:spPr>
          <a:xfrm>
            <a:off x="357120" y="2000160"/>
            <a:ext cx="2071440" cy="2071440"/>
          </a:xfrm>
          <a:prstGeom prst="flowChartOffpageConnector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" name="流程图: 离页连接符 14"/>
          <p:cNvSpPr/>
          <p:nvPr/>
        </p:nvSpPr>
        <p:spPr>
          <a:xfrm>
            <a:off x="2500200" y="2000160"/>
            <a:ext cx="2071440" cy="2071440"/>
          </a:xfrm>
          <a:prstGeom prst="flowChartOffpageConnector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" name="流程图: 离页连接符 15"/>
          <p:cNvSpPr/>
          <p:nvPr/>
        </p:nvSpPr>
        <p:spPr>
          <a:xfrm>
            <a:off x="4643280" y="2000160"/>
            <a:ext cx="2071440" cy="2071440"/>
          </a:xfrm>
          <a:prstGeom prst="flowChartOffpageConnector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流程图: 离页连接符 16"/>
          <p:cNvSpPr/>
          <p:nvPr/>
        </p:nvSpPr>
        <p:spPr>
          <a:xfrm>
            <a:off x="6786720" y="2000160"/>
            <a:ext cx="2071440" cy="2071440"/>
          </a:xfrm>
          <a:prstGeom prst="flowChartOffpageConnector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2998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7356600" y="2773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52135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92556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折角形 11"/>
          <p:cNvSpPr/>
          <p:nvPr/>
        </p:nvSpPr>
        <p:spPr>
          <a:xfrm>
            <a:off x="2357280" y="1071720"/>
            <a:ext cx="2428560" cy="2214360"/>
          </a:xfrm>
          <a:prstGeom prst="foldedCorner">
            <a:avLst>
              <a:gd name="adj" fmla="val 39569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折角形 12"/>
          <p:cNvSpPr/>
          <p:nvPr/>
        </p:nvSpPr>
        <p:spPr>
          <a:xfrm flipH="1">
            <a:off x="4786200" y="1071720"/>
            <a:ext cx="2428560" cy="2214360"/>
          </a:xfrm>
          <a:prstGeom prst="foldedCorner">
            <a:avLst>
              <a:gd name="adj" fmla="val 39569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" name="折角形 13"/>
          <p:cNvSpPr/>
          <p:nvPr/>
        </p:nvSpPr>
        <p:spPr>
          <a:xfrm flipH="1" flipV="1">
            <a:off x="4786200" y="3285360"/>
            <a:ext cx="2428560" cy="2214360"/>
          </a:xfrm>
          <a:prstGeom prst="foldedCorner">
            <a:avLst>
              <a:gd name="adj" fmla="val 39569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" name="折角形 14"/>
          <p:cNvSpPr/>
          <p:nvPr/>
        </p:nvSpPr>
        <p:spPr>
          <a:xfrm flipV="1">
            <a:off x="2357280" y="3285360"/>
            <a:ext cx="2428560" cy="2214360"/>
          </a:xfrm>
          <a:prstGeom prst="foldedCorner">
            <a:avLst>
              <a:gd name="adj" fmla="val 39569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9257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571176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314028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564048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空心弧 10"/>
          <p:cNvSpPr/>
          <p:nvPr/>
        </p:nvSpPr>
        <p:spPr>
          <a:xfrm>
            <a:off x="1214280" y="1857240"/>
            <a:ext cx="2714400" cy="2714400"/>
          </a:xfrm>
          <a:prstGeom prst="blockArc">
            <a:avLst>
              <a:gd name="adj1" fmla="val 8047569"/>
              <a:gd name="adj2" fmla="val 0"/>
              <a:gd name="adj3" fmla="val 25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4" name="空心弧 11"/>
          <p:cNvSpPr/>
          <p:nvPr/>
        </p:nvSpPr>
        <p:spPr>
          <a:xfrm>
            <a:off x="4929120" y="1857240"/>
            <a:ext cx="2714400" cy="2714400"/>
          </a:xfrm>
          <a:prstGeom prst="blockArc">
            <a:avLst>
              <a:gd name="adj1" fmla="val 2697740"/>
              <a:gd name="adj2" fmla="val 0"/>
              <a:gd name="adj3" fmla="val 25000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5686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64263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01680" y="607212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十字箭头 10"/>
          <p:cNvSpPr/>
          <p:nvPr/>
        </p:nvSpPr>
        <p:spPr>
          <a:xfrm>
            <a:off x="2786040" y="1285920"/>
            <a:ext cx="3499920" cy="3499920"/>
          </a:xfrm>
          <a:prstGeom prst="quadArrow">
            <a:avLst>
              <a:gd name="adj1" fmla="val 22500"/>
              <a:gd name="adj2" fmla="val 22500"/>
              <a:gd name="adj3" fmla="val 22500"/>
            </a:avLst>
          </a:prstGeom>
          <a:solidFill>
            <a:srgbClr val="80d3f7"/>
          </a:solidFill>
          <a:ln>
            <a:solidFill>
              <a:srgbClr val="11668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406872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671184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4140360" y="928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135432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直角三角形 10"/>
          <p:cNvSpPr/>
          <p:nvPr/>
        </p:nvSpPr>
        <p:spPr>
          <a:xfrm>
            <a:off x="2077920" y="3776760"/>
            <a:ext cx="2198160" cy="2198160"/>
          </a:xfrm>
          <a:prstGeom prst="rtTriangle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直角三角形 11"/>
          <p:cNvSpPr/>
          <p:nvPr/>
        </p:nvSpPr>
        <p:spPr>
          <a:xfrm flipH="1">
            <a:off x="4863960" y="3776760"/>
            <a:ext cx="2198160" cy="2198160"/>
          </a:xfrm>
          <a:prstGeom prst="rtTriangle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5" name="直角三角形 12"/>
          <p:cNvSpPr/>
          <p:nvPr/>
        </p:nvSpPr>
        <p:spPr>
          <a:xfrm flipH="1" flipV="1">
            <a:off x="4873680" y="1000080"/>
            <a:ext cx="2198160" cy="2198160"/>
          </a:xfrm>
          <a:prstGeom prst="rtTriangle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直角三角形 13"/>
          <p:cNvSpPr/>
          <p:nvPr/>
        </p:nvSpPr>
        <p:spPr>
          <a:xfrm flipV="1">
            <a:off x="2087640" y="999720"/>
            <a:ext cx="2198160" cy="2198160"/>
          </a:xfrm>
          <a:prstGeom prst="rtTriangle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235440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57834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578340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23544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 形 13"/>
          <p:cNvSpPr/>
          <p:nvPr/>
        </p:nvSpPr>
        <p:spPr>
          <a:xfrm>
            <a:off x="2214720" y="3254400"/>
            <a:ext cx="2531880" cy="253188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L 形 14"/>
          <p:cNvSpPr/>
          <p:nvPr/>
        </p:nvSpPr>
        <p:spPr>
          <a:xfrm>
            <a:off x="3460680" y="2039760"/>
            <a:ext cx="2531880" cy="253188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L 形 15"/>
          <p:cNvSpPr/>
          <p:nvPr/>
        </p:nvSpPr>
        <p:spPr>
          <a:xfrm>
            <a:off x="4675320" y="793800"/>
            <a:ext cx="2531880" cy="253188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85444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549756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42116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流程图: 延期 10"/>
          <p:cNvSpPr/>
          <p:nvPr/>
        </p:nvSpPr>
        <p:spPr>
          <a:xfrm>
            <a:off x="5357880" y="2500200"/>
            <a:ext cx="1999800" cy="1999800"/>
          </a:xfrm>
          <a:prstGeom prst="flowChartDelay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流程图: 延期 11"/>
          <p:cNvSpPr/>
          <p:nvPr/>
        </p:nvSpPr>
        <p:spPr>
          <a:xfrm flipH="1" rot="5400000">
            <a:off x="3357000" y="500400"/>
            <a:ext cx="1999800" cy="1999800"/>
          </a:xfrm>
          <a:prstGeom prst="flowChartDelay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9" name="流程图: 延期 12"/>
          <p:cNvSpPr/>
          <p:nvPr/>
        </p:nvSpPr>
        <p:spPr>
          <a:xfrm rot="10800000">
            <a:off x="1357920" y="2500920"/>
            <a:ext cx="1999800" cy="1999800"/>
          </a:xfrm>
          <a:prstGeom prst="flowChartDelay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流程图: 延期 13"/>
          <p:cNvSpPr/>
          <p:nvPr/>
        </p:nvSpPr>
        <p:spPr>
          <a:xfrm flipH="1" rot="16200000">
            <a:off x="3357360" y="4500720"/>
            <a:ext cx="1999800" cy="1999800"/>
          </a:xfrm>
          <a:prstGeom prst="flowChartDelay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385452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56404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78288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16398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01680" y="607212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</TotalTime>
  <Application>LibreOffice/7.4.7.2$Linux_X86_64 LibreOffice_project/40$Build-2</Application>
  <AppVersion>15.0000</AppVersion>
  <Words>284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3:41:41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