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AF6-612F-46DE-85B0-EB4A4645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F90-FA17-4378-9404-AEC39433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816-1B3C-4F7C-BD82-B428ED31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64E-B658-4100-80CD-6C68F9D7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D97C-7A8A-44DA-AA0A-8B9C62D5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8242-01B5-4E33-8F2E-E86025CF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36DB-AD36-4D88-A9AF-4F06E47E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E599-B639-4667-A21E-4EADA556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FC98-897E-4AC6-A269-19BDE63B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3E07-9FF2-4F23-B609-2F7CDBE8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2E68-4185-4D4C-8FF3-9F1A682B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7B1-7C53-49F8-A2D3-F8F91B30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D345-808E-4464-B46C-AE62C00A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552D-7F74-448E-9C24-78176244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A1DC-D672-4505-88F0-25A464EF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C9CA-DCC6-45F6-8A44-B90A25E3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F0CC-BCE2-4325-944A-74B38051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3A8E0-C05B-4487-8751-23D615A9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CE5F-508E-4E4B-A556-205D400E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AFBBB-20A4-4606-8AB8-ACB01001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283A2-E9F0-4DF1-BCE6-47C928AC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A27DE-34C4-428A-8939-6A3C5FCF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0E5-142F-4BB6-B5FD-D35E29BD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55AB6-7575-433A-92E2-12A34D99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9259A-4421-4333-BE55-BCB2DA80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9410C-9710-4F74-B826-9D0FD0B2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1058-6365-4F01-9B2E-5A6B210F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5FCAA-1AEB-464C-A871-00530E54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BB84A-C490-4602-826E-D1B600F7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C9BE6-2E36-4DA8-8142-5D054B47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550-347E-4BAF-83A4-6327C578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A23-B8A6-43BB-A501-19B7A1A5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280" y="2349360"/>
            <a:ext cx="51958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A4B-D4BB-4168-83A0-69D91D41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F13-CF17-4780-A3E5-C5BB12E3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E53-70F8-48C9-B741-DCEBE41C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50C8-D69D-48DF-9826-43BC404C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F04E-848A-49DE-BC45-4680BE2A53D5}" type="slidenum">
              <a:rPr b="0" lang="zh-CN" sz="10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2349360"/>
            <a:ext cx="51958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27A1-9069-411F-B17C-4E3D288E9444}" type="slidenum">
              <a:rPr b="0" lang="zh-CN" sz="10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172D-647A-47A2-9E17-37CB34BAFED3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40000" y="4941360"/>
            <a:ext cx="489564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930640" y="4578120"/>
            <a:ext cx="31050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2321280" y="981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长满花瓣的矢量树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0440" y="2419200"/>
            <a:ext cx="51940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谢谢观赏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5:02:56Z</dcterms:created>
  <dc:creator>Administrator</dc:creator>
  <dc:description/>
  <cp:keywords/>
  <dc:language>en-US</dc:language>
  <cp:lastModifiedBy>王玉清</cp:lastModifiedBy>
  <cp:lastPrinted>1899-12-30T00:00:00Z</cp:lastPrinted>
  <dcterms:modified xsi:type="dcterms:W3CDTF">2016-02-24T02:54:4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