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136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34455"/>
              </a:solidFill>
              <a:latin typeface="Eras Medium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250920" y="279360"/>
            <a:ext cx="8642160" cy="6264000"/>
          </a:xfrm>
          <a:prstGeom prst="rect">
            <a:avLst/>
          </a:prstGeom>
          <a:solidFill>
            <a:schemeClr val="accent5">
              <a:alpha val="54000"/>
            </a:schemeClr>
          </a:solidFill>
          <a:ln w="12700">
            <a:solidFill>
              <a:srgbClr val="ffffff"/>
            </a:solidFill>
            <a:round/>
          </a:ln>
          <a:effectLst>
            <a:outerShdw algn="ctr" blurRad="76320" rotWithShape="0" sx="101000" sy="101000">
              <a:srgbClr val="000000">
                <a:alpha val="1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250920" y="1484280"/>
            <a:ext cx="8642160" cy="1944360"/>
          </a:xfrm>
          <a:prstGeom prst="rect">
            <a:avLst/>
          </a:prstGeom>
          <a:solidFill>
            <a:schemeClr val="accent5">
              <a:alpha val="54000"/>
            </a:schemeClr>
          </a:solidFill>
          <a:ln w="12700">
            <a:solidFill>
              <a:srgbClr val="ffffff"/>
            </a:solidFill>
            <a:round/>
          </a:ln>
          <a:effectLst>
            <a:outerShdw algn="ctr" blurRad="76320" rotWithShape="0" sx="101000" sy="101000">
              <a:srgbClr val="000000">
                <a:alpha val="1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484640"/>
            <a:ext cx="813672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TW" sz="4000" spc="-1" strike="noStrike">
                <a:solidFill>
                  <a:srgbClr val="334455"/>
                </a:solidFill>
                <a:latin typeface="Eras Demi ITC"/>
              </a:rPr>
              <a:t>按一下以編輯母片標題樣式</a:t>
            </a:r>
            <a:endParaRPr b="0" lang="en-US" sz="4000" spc="-1" strike="noStrike">
              <a:solidFill>
                <a:srgbClr val="4477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47733"/>
              </a:solidFill>
              <a:latin typeface="Arial"/>
              <a:ea typeface="宋体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135640" cy="10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TW" sz="4000" spc="-1" strike="noStrike">
                <a:solidFill>
                  <a:srgbClr val="334455"/>
                </a:solidFill>
                <a:latin typeface="Eras Demi ITC"/>
                <a:ea typeface="PMingLiU"/>
              </a:rPr>
              <a:t>触摸消息提示通用</a:t>
            </a:r>
            <a:r>
              <a:rPr b="0" lang="en-US" sz="4000" spc="-1" strike="noStrike">
                <a:solidFill>
                  <a:srgbClr val="334455"/>
                </a:solidFill>
                <a:latin typeface="Eras Demi ITC"/>
                <a:ea typeface="PMingLiU"/>
              </a:rPr>
              <a:t>PPT</a:t>
            </a:r>
            <a:r>
              <a:rPr b="0" lang="zh-TW" sz="4000" spc="-1" strike="noStrike">
                <a:solidFill>
                  <a:srgbClr val="334455"/>
                </a:solidFill>
                <a:latin typeface="Eras Demi ITC"/>
                <a:ea typeface="PMingLiU"/>
              </a:rPr>
              <a:t>模板</a:t>
            </a:r>
            <a:endParaRPr b="0" lang="en-US" sz="4000" spc="-1" strike="noStrike">
              <a:solidFill>
                <a:srgbClr val="4477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1356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334455"/>
              </a:solidFill>
              <a:latin typeface="Eras Medium ITC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4773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477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477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Ppro_A_16">
  <a:themeElements>
    <a:clrScheme name="Custom 4">
      <a:dk1>
        <a:srgbClr val="447733"/>
      </a:dk1>
      <a:lt1>
        <a:srgbClr val="dddddd"/>
      </a:lt1>
      <a:dk2>
        <a:srgbClr val="334455"/>
      </a:dk2>
      <a:lt2>
        <a:srgbClr val="727e8f"/>
      </a:lt2>
      <a:accent1>
        <a:srgbClr val="447733"/>
      </a:accent1>
      <a:accent2>
        <a:srgbClr val="8cb09f"/>
      </a:accent2>
      <a:accent3>
        <a:srgbClr val="4b7198"/>
      </a:accent3>
      <a:accent4>
        <a:srgbClr val="d0b787"/>
      </a:accent4>
      <a:accent5>
        <a:srgbClr val="ffffff"/>
      </a:accent5>
      <a:accent6>
        <a:srgbClr val="334455"/>
      </a:accent6>
      <a:hlink>
        <a:srgbClr val="447733"/>
      </a:hlink>
      <a:folHlink>
        <a:srgbClr val="727e8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7:32:12Z</dcterms:created>
  <dc:creator>Your User Name</dc:creator>
  <dc:description/>
  <dc:language>en-US</dc:language>
  <cp:lastModifiedBy>王玉清</cp:lastModifiedBy>
  <dcterms:modified xsi:type="dcterms:W3CDTF">2016-02-24T04:06:11Z</dcterms:modified>
  <cp:revision>4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