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811-2CEE-4DAF-8418-28120B5F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C153-E533-43A5-ADA9-6429EF0C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C5AE-DB37-41DE-8149-028A0991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0D4-B11B-4289-B5AF-4D850C92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AC76-888F-4DAE-BE14-8667D42B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A65-E92C-415D-9EA1-D5A09F31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8CE-F02E-4E1B-B2A2-51018E52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5B3-3413-4D3C-B40A-3B98BAE0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489-EEBF-4D70-B5C4-7A4025D8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453-9DD4-4B21-A12B-A89F8B6A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4F1C-F847-42E0-AE52-7E2D9611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A12-60A4-4B2F-867E-591DFB24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DE13-71C9-45B4-B2D5-02315C567A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彩色家园卡通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21:16:03Z</dcterms:created>
  <dc:creator>jaming1314</dc:creator>
  <dc:description/>
  <cp:keywords/>
  <dc:language>en-US</dc:language>
  <cp:lastModifiedBy>王玉清</cp:lastModifiedBy>
  <cp:lastPrinted>1899-12-30T00:00:00Z</cp:lastPrinted>
  <dcterms:modified xsi:type="dcterms:W3CDTF">2016-02-24T03:16:03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38</vt:lpwstr>
  </property>
</Properties>
</file>