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BE9AB7-1D6E-483F-ACD5-B3A39A7C2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meihua.docer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B816CA-AEDC-40C1-93C2-2610E874C95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E52584-3A6D-45EE-8FA2-1217261A273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6E9277-8FD8-4ADC-8F53-2FA12484A48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来自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ocer.mysoeasy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C59ABF-F31B-4A53-A3AA-7549C058666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6AD6CE-3A9D-4432-9603-82E733A3BDB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D9DF-6964-460E-8BEF-B9202EBD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03B-8E92-4D03-AA0C-7C0B3983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988-0081-48CF-ABB1-6054FDA3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09D-70CF-409D-A8A8-AF98DD62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ED1A-EAE6-45CE-A717-49B834EF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3673-2331-48CC-B114-BC4F66D6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EC85-C003-4FAB-B914-EC100573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D2F0-9999-4BA4-9B41-66C5E91F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A3BD-C639-4E04-B891-D4A45EDA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190F-ADDD-4CA0-8591-C8EA0B84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E3B4-00B4-4919-8460-E38E0C71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E2B-7AEB-41D6-BBA1-4F9A39A9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0F65-AEE5-4453-A49A-BDF16111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B6A3-8644-48E0-8982-906E6E23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D479-D08F-497B-9050-9C92E8FE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5395-ADF6-4BF8-89A5-5298B861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9AB6-81E3-4A7D-9D96-922A1CB7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FAA2-93D6-4556-9898-9804490D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F666-43E5-4B63-A6D3-4E7150D1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AB41-E415-4169-8043-75CF7BB1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B3A-2BF8-4286-A3A3-906C0C20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CE3B-839E-4969-BCBB-22B6E08E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CDB-2AE6-46EB-9611-D667E6CB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A08A-78E1-47F1-BF14-DC089F3C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e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CB933D-8074-4BD4-924D-31746304FB2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e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D74876-DD7B-403C-A213-560D90B7B45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42"/>
          <p:cNvGrpSpPr/>
          <p:nvPr/>
        </p:nvGrpSpPr>
        <p:grpSpPr>
          <a:xfrm>
            <a:off x="2981880" y="4453560"/>
            <a:ext cx="17280" cy="359640"/>
            <a:chOff x="2981880" y="4453560"/>
            <a:chExt cx="17280" cy="359640"/>
          </a:xfrm>
        </p:grpSpPr>
        <p:sp>
          <p:nvSpPr>
            <p:cNvPr id="89" name="矩形 43"/>
            <p:cNvSpPr/>
            <p:nvPr/>
          </p:nvSpPr>
          <p:spPr>
            <a:xfrm>
              <a:off x="2983320" y="4633560"/>
              <a:ext cx="15840" cy="179640"/>
            </a:xfrm>
            <a:prstGeom prst="rect">
              <a:avLst/>
            </a:prstGeom>
            <a:solidFill>
              <a:srgbClr val="ec2c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" name="矩形 44"/>
            <p:cNvSpPr/>
            <p:nvPr/>
          </p:nvSpPr>
          <p:spPr>
            <a:xfrm>
              <a:off x="2981880" y="4453560"/>
              <a:ext cx="15840" cy="179640"/>
            </a:xfrm>
            <a:prstGeom prst="rect">
              <a:avLst/>
            </a:prstGeom>
            <a:solidFill>
              <a:srgbClr val="245e7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1" name="组合 11"/>
          <p:cNvGrpSpPr/>
          <p:nvPr/>
        </p:nvGrpSpPr>
        <p:grpSpPr>
          <a:xfrm>
            <a:off x="4689360" y="4455720"/>
            <a:ext cx="17640" cy="359640"/>
            <a:chOff x="4689360" y="4455720"/>
            <a:chExt cx="17640" cy="359640"/>
          </a:xfrm>
        </p:grpSpPr>
        <p:sp>
          <p:nvSpPr>
            <p:cNvPr id="92" name="矩形 39"/>
            <p:cNvSpPr/>
            <p:nvPr/>
          </p:nvSpPr>
          <p:spPr>
            <a:xfrm>
              <a:off x="4691160" y="4635720"/>
              <a:ext cx="15840" cy="179640"/>
            </a:xfrm>
            <a:prstGeom prst="rect">
              <a:avLst/>
            </a:prstGeom>
            <a:solidFill>
              <a:srgbClr val="ec2c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" name="矩形 40"/>
            <p:cNvSpPr/>
            <p:nvPr/>
          </p:nvSpPr>
          <p:spPr>
            <a:xfrm>
              <a:off x="4689360" y="4455720"/>
              <a:ext cx="15840" cy="179640"/>
            </a:xfrm>
            <a:prstGeom prst="rect">
              <a:avLst/>
            </a:prstGeom>
            <a:solidFill>
              <a:srgbClr val="245e7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4" name="组合 1"/>
          <p:cNvGrpSpPr/>
          <p:nvPr/>
        </p:nvGrpSpPr>
        <p:grpSpPr>
          <a:xfrm>
            <a:off x="2483640" y="1014120"/>
            <a:ext cx="2729160" cy="4069080"/>
            <a:chOff x="2483640" y="1014120"/>
            <a:chExt cx="2729160" cy="4069080"/>
          </a:xfrm>
        </p:grpSpPr>
        <p:grpSp>
          <p:nvGrpSpPr>
            <p:cNvPr id="95" name="组合 46"/>
            <p:cNvGrpSpPr/>
            <p:nvPr/>
          </p:nvGrpSpPr>
          <p:grpSpPr>
            <a:xfrm>
              <a:off x="3354480" y="1014120"/>
              <a:ext cx="1002240" cy="1370160"/>
              <a:chOff x="3354480" y="1014120"/>
              <a:chExt cx="1002240" cy="1370160"/>
            </a:xfrm>
          </p:grpSpPr>
          <p:sp>
            <p:nvSpPr>
              <p:cNvPr id="96" name="圆角矩形 2"/>
              <p:cNvSpPr/>
              <p:nvPr/>
            </p:nvSpPr>
            <p:spPr>
              <a:xfrm>
                <a:off x="3354480" y="1229760"/>
                <a:ext cx="1002240" cy="1078560"/>
              </a:xfrm>
              <a:prstGeom prst="roundRect">
                <a:avLst>
                  <a:gd name="adj" fmla="val 16667"/>
                </a:avLst>
              </a:prstGeom>
              <a:solidFill>
                <a:srgbClr val="ffd47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7" name="梯形 3"/>
              <p:cNvSpPr/>
              <p:nvPr/>
            </p:nvSpPr>
            <p:spPr>
              <a:xfrm rot="10800000">
                <a:off x="3557880" y="1014120"/>
                <a:ext cx="596160" cy="380520"/>
              </a:xfrm>
              <a:prstGeom prst="trapezoid">
                <a:avLst>
                  <a:gd name="adj" fmla="val 25000"/>
                </a:avLst>
              </a:prstGeom>
              <a:solidFill>
                <a:srgbClr val="ffd47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8" name="梯形 4"/>
              <p:cNvSpPr/>
              <p:nvPr/>
            </p:nvSpPr>
            <p:spPr>
              <a:xfrm>
                <a:off x="3557520" y="2003760"/>
                <a:ext cx="596160" cy="380520"/>
              </a:xfrm>
              <a:prstGeom prst="trapezoid">
                <a:avLst>
                  <a:gd name="adj" fmla="val 25000"/>
                </a:avLst>
              </a:prstGeom>
              <a:solidFill>
                <a:srgbClr val="ffd47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99" name="组合 12"/>
            <p:cNvGrpSpPr/>
            <p:nvPr/>
          </p:nvGrpSpPr>
          <p:grpSpPr>
            <a:xfrm>
              <a:off x="2483640" y="2389320"/>
              <a:ext cx="1089720" cy="2025720"/>
              <a:chOff x="2483640" y="2389320"/>
              <a:chExt cx="1089720" cy="2025720"/>
            </a:xfrm>
          </p:grpSpPr>
          <p:sp>
            <p:nvSpPr>
              <p:cNvPr id="100" name="任意多边形 5"/>
              <p:cNvSpPr/>
              <p:nvPr/>
            </p:nvSpPr>
            <p:spPr>
              <a:xfrm>
                <a:off x="2796120" y="2389320"/>
                <a:ext cx="777240" cy="307800"/>
              </a:xfrm>
              <a:custGeom>
                <a:avLst/>
                <a:gdLst>
                  <a:gd name="textAreaLeft" fmla="*/ 0 w 777240"/>
                  <a:gd name="textAreaRight" fmla="*/ 777600 w 777240"/>
                  <a:gd name="textAreaTop" fmla="*/ 0 h 307800"/>
                  <a:gd name="textAreaBottom" fmla="*/ 308160 h 307800"/>
                </a:gdLst>
                <a:ahLst/>
                <a:rect l="textAreaLeft" t="textAreaTop" r="textAreaRight" b="textAreaBottom"/>
                <a:pathLst>
                  <a:path w="583475" h="231351">
                    <a:moveTo>
                      <a:pt x="567524" y="3999"/>
                    </a:moveTo>
                    <a:cubicBezTo>
                      <a:pt x="556094" y="-18861"/>
                      <a:pt x="491324" y="63689"/>
                      <a:pt x="445604" y="64959"/>
                    </a:cubicBezTo>
                    <a:cubicBezTo>
                      <a:pt x="399884" y="66229"/>
                      <a:pt x="366864" y="-12511"/>
                      <a:pt x="293204" y="11619"/>
                    </a:cubicBezTo>
                    <a:cubicBezTo>
                      <a:pt x="219544" y="35749"/>
                      <a:pt x="-33186" y="177989"/>
                      <a:pt x="3644" y="209739"/>
                    </a:cubicBezTo>
                    <a:cubicBezTo>
                      <a:pt x="40474" y="241489"/>
                      <a:pt x="412584" y="237679"/>
                      <a:pt x="514184" y="202119"/>
                    </a:cubicBezTo>
                    <a:cubicBezTo>
                      <a:pt x="615784" y="166559"/>
                      <a:pt x="578954" y="26859"/>
                      <a:pt x="567524" y="3999"/>
                    </a:cubicBezTo>
                    <a:close/>
                  </a:path>
                </a:pathLst>
              </a:custGeom>
              <a:solidFill>
                <a:srgbClr val="ec2c5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1" name="任意多边形 7"/>
              <p:cNvSpPr/>
              <p:nvPr/>
            </p:nvSpPr>
            <p:spPr>
              <a:xfrm>
                <a:off x="2565720" y="2652840"/>
                <a:ext cx="378720" cy="1366200"/>
              </a:xfrm>
              <a:custGeom>
                <a:avLst/>
                <a:gdLst>
                  <a:gd name="textAreaLeft" fmla="*/ 0 w 378720"/>
                  <a:gd name="textAreaRight" fmla="*/ 379080 w 378720"/>
                  <a:gd name="textAreaTop" fmla="*/ 0 h 1366200"/>
                  <a:gd name="textAreaBottom" fmla="*/ 1366560 h 1366200"/>
                </a:gdLst>
                <a:ahLst/>
                <a:rect l="textAreaLeft" t="textAreaTop" r="textAreaRight" b="textAreaBottom"/>
                <a:pathLst>
                  <a:path w="284602" h="1025650">
                    <a:moveTo>
                      <a:pt x="199534" y="12091"/>
                    </a:moveTo>
                    <a:cubicBezTo>
                      <a:pt x="189374" y="-19659"/>
                      <a:pt x="158894" y="12091"/>
                      <a:pt x="130954" y="95911"/>
                    </a:cubicBezTo>
                    <a:cubicBezTo>
                      <a:pt x="103014" y="179731"/>
                      <a:pt x="50944" y="368961"/>
                      <a:pt x="31894" y="515011"/>
                    </a:cubicBezTo>
                    <a:cubicBezTo>
                      <a:pt x="12844" y="661061"/>
                      <a:pt x="-20176" y="897281"/>
                      <a:pt x="16654" y="972211"/>
                    </a:cubicBezTo>
                    <a:cubicBezTo>
                      <a:pt x="53484" y="1047141"/>
                      <a:pt x="209694" y="1042061"/>
                      <a:pt x="252874" y="964591"/>
                    </a:cubicBezTo>
                    <a:cubicBezTo>
                      <a:pt x="296054" y="887121"/>
                      <a:pt x="285894" y="620421"/>
                      <a:pt x="275734" y="507391"/>
                    </a:cubicBezTo>
                    <a:cubicBezTo>
                      <a:pt x="265574" y="394361"/>
                      <a:pt x="207154" y="363881"/>
                      <a:pt x="191914" y="286411"/>
                    </a:cubicBezTo>
                    <a:cubicBezTo>
                      <a:pt x="176674" y="208941"/>
                      <a:pt x="209694" y="43841"/>
                      <a:pt x="199534" y="12091"/>
                    </a:cubicBezTo>
                    <a:close/>
                  </a:path>
                </a:pathLst>
              </a:custGeom>
              <a:solidFill>
                <a:srgbClr val="ffd47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2" name="KSO_Shape"/>
              <p:cNvSpPr/>
              <p:nvPr/>
            </p:nvSpPr>
            <p:spPr>
              <a:xfrm>
                <a:off x="2489760" y="3887640"/>
                <a:ext cx="505800" cy="505800"/>
              </a:xfrm>
              <a:prstGeom prst="donut">
                <a:avLst>
                  <a:gd name="adj" fmla="val 25000"/>
                </a:avLst>
              </a:prstGeom>
              <a:solidFill>
                <a:srgbClr val="ffd47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  <a:scene3d>
                  <a:camera prst="orthographicFront"/>
                  <a:lightRig dir="t" rig="threePt"/>
                </a:scene3d>
                <a:sp3d>
                  <a:contourClr>
                    <a:srgbClr val="ffffff"/>
                  </a:contourClr>
                </a:sp3d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3" name="梯形 10"/>
              <p:cNvSpPr/>
              <p:nvPr/>
            </p:nvSpPr>
            <p:spPr>
              <a:xfrm>
                <a:off x="2483640" y="4172400"/>
                <a:ext cx="485640" cy="242640"/>
              </a:xfrm>
              <a:custGeom>
                <a:avLst/>
                <a:gdLst>
                  <a:gd name="textAreaLeft" fmla="*/ 0 w 485640"/>
                  <a:gd name="textAreaRight" fmla="*/ 486000 w 48564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364862" h="182245">
                    <a:moveTo>
                      <a:pt x="0" y="182245"/>
                    </a:moveTo>
                    <a:lnTo>
                      <a:pt x="125730" y="9525"/>
                    </a:lnTo>
                    <a:lnTo>
                      <a:pt x="251832" y="0"/>
                    </a:lnTo>
                    <a:lnTo>
                      <a:pt x="364862" y="179070"/>
                    </a:lnTo>
                    <a:lnTo>
                      <a:pt x="0" y="182245"/>
                    </a:lnTo>
                    <a:close/>
                  </a:path>
                </a:pathLst>
              </a:custGeom>
              <a:solidFill>
                <a:srgbClr val="245e7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4" name="组合 13"/>
            <p:cNvGrpSpPr/>
            <p:nvPr/>
          </p:nvGrpSpPr>
          <p:grpSpPr>
            <a:xfrm>
              <a:off x="4123080" y="2371680"/>
              <a:ext cx="1089720" cy="2025360"/>
              <a:chOff x="4123080" y="2371680"/>
              <a:chExt cx="1089720" cy="2025360"/>
            </a:xfrm>
          </p:grpSpPr>
          <p:sp>
            <p:nvSpPr>
              <p:cNvPr id="105" name="任意多边形 14"/>
              <p:cNvSpPr/>
              <p:nvPr/>
            </p:nvSpPr>
            <p:spPr>
              <a:xfrm flipH="1">
                <a:off x="4122720" y="2371680"/>
                <a:ext cx="777240" cy="307800"/>
              </a:xfrm>
              <a:custGeom>
                <a:avLst/>
                <a:gdLst>
                  <a:gd name="textAreaLeft" fmla="*/ -360 w 777240"/>
                  <a:gd name="textAreaRight" fmla="*/ 777240 w 777240"/>
                  <a:gd name="textAreaTop" fmla="*/ 0 h 307800"/>
                  <a:gd name="textAreaBottom" fmla="*/ 308160 h 307800"/>
                </a:gdLst>
                <a:ahLst/>
                <a:rect l="textAreaLeft" t="textAreaTop" r="textAreaRight" b="textAreaBottom"/>
                <a:pathLst>
                  <a:path w="583475" h="231351">
                    <a:moveTo>
                      <a:pt x="567524" y="3999"/>
                    </a:moveTo>
                    <a:cubicBezTo>
                      <a:pt x="556094" y="-18861"/>
                      <a:pt x="491324" y="63689"/>
                      <a:pt x="445604" y="64959"/>
                    </a:cubicBezTo>
                    <a:cubicBezTo>
                      <a:pt x="399884" y="66229"/>
                      <a:pt x="366864" y="-12511"/>
                      <a:pt x="293204" y="11619"/>
                    </a:cubicBezTo>
                    <a:cubicBezTo>
                      <a:pt x="219544" y="35749"/>
                      <a:pt x="-33186" y="177989"/>
                      <a:pt x="3644" y="209739"/>
                    </a:cubicBezTo>
                    <a:cubicBezTo>
                      <a:pt x="40474" y="241489"/>
                      <a:pt x="412584" y="237679"/>
                      <a:pt x="514184" y="202119"/>
                    </a:cubicBezTo>
                    <a:cubicBezTo>
                      <a:pt x="615784" y="166559"/>
                      <a:pt x="578954" y="26859"/>
                      <a:pt x="567524" y="3999"/>
                    </a:cubicBezTo>
                    <a:close/>
                  </a:path>
                </a:pathLst>
              </a:custGeom>
              <a:solidFill>
                <a:srgbClr val="ec2c5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6" name="任意多边形 15"/>
              <p:cNvSpPr/>
              <p:nvPr/>
            </p:nvSpPr>
            <p:spPr>
              <a:xfrm flipH="1">
                <a:off x="4752360" y="2634840"/>
                <a:ext cx="378720" cy="1366200"/>
              </a:xfrm>
              <a:custGeom>
                <a:avLst/>
                <a:gdLst>
                  <a:gd name="textAreaLeft" fmla="*/ 360 w 378720"/>
                  <a:gd name="textAreaRight" fmla="*/ 379440 w 378720"/>
                  <a:gd name="textAreaTop" fmla="*/ 0 h 1366200"/>
                  <a:gd name="textAreaBottom" fmla="*/ 1366560 h 1366200"/>
                </a:gdLst>
                <a:ahLst/>
                <a:rect l="textAreaLeft" t="textAreaTop" r="textAreaRight" b="textAreaBottom"/>
                <a:pathLst>
                  <a:path w="284602" h="1025650">
                    <a:moveTo>
                      <a:pt x="199534" y="12091"/>
                    </a:moveTo>
                    <a:cubicBezTo>
                      <a:pt x="189374" y="-19659"/>
                      <a:pt x="158894" y="12091"/>
                      <a:pt x="130954" y="95911"/>
                    </a:cubicBezTo>
                    <a:cubicBezTo>
                      <a:pt x="103014" y="179731"/>
                      <a:pt x="50944" y="368961"/>
                      <a:pt x="31894" y="515011"/>
                    </a:cubicBezTo>
                    <a:cubicBezTo>
                      <a:pt x="12844" y="661061"/>
                      <a:pt x="-20176" y="897281"/>
                      <a:pt x="16654" y="972211"/>
                    </a:cubicBezTo>
                    <a:cubicBezTo>
                      <a:pt x="53484" y="1047141"/>
                      <a:pt x="209694" y="1042061"/>
                      <a:pt x="252874" y="964591"/>
                    </a:cubicBezTo>
                    <a:cubicBezTo>
                      <a:pt x="296054" y="887121"/>
                      <a:pt x="285894" y="620421"/>
                      <a:pt x="275734" y="507391"/>
                    </a:cubicBezTo>
                    <a:cubicBezTo>
                      <a:pt x="265574" y="394361"/>
                      <a:pt x="207154" y="363881"/>
                      <a:pt x="191914" y="286411"/>
                    </a:cubicBezTo>
                    <a:cubicBezTo>
                      <a:pt x="176674" y="208941"/>
                      <a:pt x="209694" y="43841"/>
                      <a:pt x="199534" y="12091"/>
                    </a:cubicBezTo>
                    <a:close/>
                  </a:path>
                </a:pathLst>
              </a:custGeom>
              <a:solidFill>
                <a:srgbClr val="ffd47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7" name="KSO_Shape"/>
              <p:cNvSpPr/>
              <p:nvPr/>
            </p:nvSpPr>
            <p:spPr>
              <a:xfrm flipH="1">
                <a:off x="4700520" y="3870000"/>
                <a:ext cx="505800" cy="505800"/>
              </a:xfrm>
              <a:prstGeom prst="donut">
                <a:avLst>
                  <a:gd name="adj" fmla="val 25000"/>
                </a:avLst>
              </a:prstGeom>
              <a:solidFill>
                <a:srgbClr val="ffd47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  <a:scene3d>
                  <a:camera prst="orthographicFront"/>
                  <a:lightRig dir="t" rig="threePt"/>
                </a:scene3d>
                <a:sp3d>
                  <a:contourClr>
                    <a:srgbClr val="ffffff"/>
                  </a:contourClr>
                </a:sp3d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8" name="梯形 10"/>
              <p:cNvSpPr/>
              <p:nvPr/>
            </p:nvSpPr>
            <p:spPr>
              <a:xfrm flipH="1">
                <a:off x="4726800" y="4154400"/>
                <a:ext cx="485640" cy="242640"/>
              </a:xfrm>
              <a:custGeom>
                <a:avLst/>
                <a:gdLst>
                  <a:gd name="textAreaLeft" fmla="*/ -360 w 485640"/>
                  <a:gd name="textAreaRight" fmla="*/ 485640 w 48564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364862" h="182245">
                    <a:moveTo>
                      <a:pt x="0" y="182245"/>
                    </a:moveTo>
                    <a:lnTo>
                      <a:pt x="125730" y="9525"/>
                    </a:lnTo>
                    <a:lnTo>
                      <a:pt x="251832" y="0"/>
                    </a:lnTo>
                    <a:lnTo>
                      <a:pt x="364862" y="179070"/>
                    </a:lnTo>
                    <a:lnTo>
                      <a:pt x="0" y="182245"/>
                    </a:lnTo>
                    <a:close/>
                  </a:path>
                </a:pathLst>
              </a:custGeom>
              <a:solidFill>
                <a:srgbClr val="245e7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09" name="矩形 18"/>
            <p:cNvSpPr/>
            <p:nvPr/>
          </p:nvSpPr>
          <p:spPr>
            <a:xfrm>
              <a:off x="2979720" y="4123080"/>
              <a:ext cx="1731240" cy="170280"/>
            </a:xfrm>
            <a:prstGeom prst="rect">
              <a:avLst/>
            </a:prstGeom>
            <a:solidFill>
              <a:srgbClr val="ec2c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矩形 19"/>
            <p:cNvSpPr/>
            <p:nvPr/>
          </p:nvSpPr>
          <p:spPr>
            <a:xfrm>
              <a:off x="3828240" y="4275720"/>
              <a:ext cx="72000" cy="807480"/>
            </a:xfrm>
            <a:prstGeom prst="rect">
              <a:avLst/>
            </a:prstGeom>
            <a:solidFill>
              <a:srgbClr val="ec2c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" name="矩形 20"/>
            <p:cNvSpPr/>
            <p:nvPr/>
          </p:nvSpPr>
          <p:spPr>
            <a:xfrm>
              <a:off x="2981520" y="4275720"/>
              <a:ext cx="23760" cy="359640"/>
            </a:xfrm>
            <a:prstGeom prst="rect">
              <a:avLst/>
            </a:prstGeom>
            <a:solidFill>
              <a:srgbClr val="ec2c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2" name="矩形 21"/>
            <p:cNvSpPr/>
            <p:nvPr/>
          </p:nvSpPr>
          <p:spPr>
            <a:xfrm>
              <a:off x="4689000" y="4275720"/>
              <a:ext cx="23760" cy="359640"/>
            </a:xfrm>
            <a:prstGeom prst="rect">
              <a:avLst/>
            </a:prstGeom>
            <a:solidFill>
              <a:srgbClr val="ec2c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3" name="组合 45"/>
            <p:cNvGrpSpPr/>
            <p:nvPr/>
          </p:nvGrpSpPr>
          <p:grpSpPr>
            <a:xfrm>
              <a:off x="3278880" y="2901600"/>
              <a:ext cx="1127160" cy="969840"/>
              <a:chOff x="3278880" y="2901600"/>
              <a:chExt cx="1127160" cy="969840"/>
            </a:xfrm>
          </p:grpSpPr>
          <p:grpSp>
            <p:nvGrpSpPr>
              <p:cNvPr id="114" name="组合 25"/>
              <p:cNvGrpSpPr/>
              <p:nvPr/>
            </p:nvGrpSpPr>
            <p:grpSpPr>
              <a:xfrm>
                <a:off x="3278880" y="2901600"/>
                <a:ext cx="1127160" cy="969840"/>
                <a:chOff x="3278880" y="2901600"/>
                <a:chExt cx="1127160" cy="969840"/>
              </a:xfrm>
            </p:grpSpPr>
            <p:sp>
              <p:nvSpPr>
                <p:cNvPr id="115" name="梯形 23"/>
                <p:cNvSpPr/>
                <p:nvPr/>
              </p:nvSpPr>
              <p:spPr>
                <a:xfrm>
                  <a:off x="3278880" y="2901600"/>
                  <a:ext cx="1126800" cy="309240"/>
                </a:xfrm>
                <a:prstGeom prst="trapezoid">
                  <a:avLst>
                    <a:gd name="adj" fmla="val 67623"/>
                  </a:avLst>
                </a:prstGeom>
                <a:solidFill>
                  <a:srgbClr val="ffd47b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6" name="等腰三角形 24"/>
                <p:cNvSpPr/>
                <p:nvPr/>
              </p:nvSpPr>
              <p:spPr>
                <a:xfrm rot="10800000">
                  <a:off x="3279240" y="3211920"/>
                  <a:ext cx="1126800" cy="659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d47b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7" name="KSO_Shape"/>
              <p:cNvSpPr/>
              <p:nvPr/>
            </p:nvSpPr>
            <p:spPr>
              <a:xfrm>
                <a:off x="3491640" y="2901600"/>
                <a:ext cx="686520" cy="738360"/>
              </a:xfrm>
              <a:custGeom>
                <a:avLst/>
                <a:gdLst>
                  <a:gd name="textAreaLeft" fmla="*/ 0 w 686520"/>
                  <a:gd name="textAreaRight" fmla="*/ 686880 w 686520"/>
                  <a:gd name="textAreaTop" fmla="*/ 0 h 738360"/>
                  <a:gd name="textAreaBottom" fmla="*/ 738720 h 7383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5260" y="0"/>
                    </a:moveTo>
                    <a:lnTo>
                      <a:pt x="5535" y="0"/>
                    </a:lnTo>
                    <a:lnTo>
                      <a:pt x="5821" y="10"/>
                    </a:lnTo>
                    <a:lnTo>
                      <a:pt x="6100" y="25"/>
                    </a:lnTo>
                    <a:lnTo>
                      <a:pt x="6383" y="43"/>
                    </a:lnTo>
                    <a:lnTo>
                      <a:pt x="6662" y="68"/>
                    </a:lnTo>
                    <a:lnTo>
                      <a:pt x="6941" y="96"/>
                    </a:lnTo>
                    <a:lnTo>
                      <a:pt x="7223" y="131"/>
                    </a:lnTo>
                    <a:lnTo>
                      <a:pt x="7503" y="174"/>
                    </a:lnTo>
                    <a:lnTo>
                      <a:pt x="7775" y="216"/>
                    </a:lnTo>
                    <a:lnTo>
                      <a:pt x="8047" y="269"/>
                    </a:lnTo>
                    <a:lnTo>
                      <a:pt x="8304" y="324"/>
                    </a:lnTo>
                    <a:lnTo>
                      <a:pt x="8562" y="377"/>
                    </a:lnTo>
                    <a:lnTo>
                      <a:pt x="8806" y="440"/>
                    </a:lnTo>
                    <a:lnTo>
                      <a:pt x="9043" y="503"/>
                    </a:lnTo>
                    <a:lnTo>
                      <a:pt x="9276" y="573"/>
                    </a:lnTo>
                    <a:lnTo>
                      <a:pt x="9498" y="646"/>
                    </a:lnTo>
                    <a:lnTo>
                      <a:pt x="9498" y="2850"/>
                    </a:lnTo>
                    <a:lnTo>
                      <a:pt x="9219" y="2850"/>
                    </a:lnTo>
                    <a:lnTo>
                      <a:pt x="9036" y="2734"/>
                    </a:lnTo>
                    <a:lnTo>
                      <a:pt x="8848" y="2628"/>
                    </a:lnTo>
                    <a:lnTo>
                      <a:pt x="8651" y="2525"/>
                    </a:lnTo>
                    <a:lnTo>
                      <a:pt x="8438" y="2425"/>
                    </a:lnTo>
                    <a:lnTo>
                      <a:pt x="8216" y="2329"/>
                    </a:lnTo>
                    <a:lnTo>
                      <a:pt x="7993" y="2241"/>
                    </a:lnTo>
                    <a:lnTo>
                      <a:pt x="7746" y="2155"/>
                    </a:lnTo>
                    <a:lnTo>
                      <a:pt x="7503" y="2072"/>
                    </a:lnTo>
                    <a:lnTo>
                      <a:pt x="7245" y="1994"/>
                    </a:lnTo>
                    <a:lnTo>
                      <a:pt x="6987" y="1932"/>
                    </a:lnTo>
                    <a:lnTo>
                      <a:pt x="6729" y="1879"/>
                    </a:lnTo>
                    <a:lnTo>
                      <a:pt x="6471" y="1836"/>
                    </a:lnTo>
                    <a:lnTo>
                      <a:pt x="6213" y="1796"/>
                    </a:lnTo>
                    <a:lnTo>
                      <a:pt x="5948" y="1773"/>
                    </a:lnTo>
                    <a:lnTo>
                      <a:pt x="5687" y="1758"/>
                    </a:lnTo>
                    <a:lnTo>
                      <a:pt x="5422" y="1753"/>
                    </a:lnTo>
                    <a:lnTo>
                      <a:pt x="5217" y="1758"/>
                    </a:lnTo>
                    <a:lnTo>
                      <a:pt x="5019" y="1763"/>
                    </a:lnTo>
                    <a:lnTo>
                      <a:pt x="4843" y="1778"/>
                    </a:lnTo>
                    <a:lnTo>
                      <a:pt x="4666" y="1796"/>
                    </a:lnTo>
                    <a:lnTo>
                      <a:pt x="4503" y="1826"/>
                    </a:lnTo>
                    <a:lnTo>
                      <a:pt x="4327" y="1864"/>
                    </a:lnTo>
                    <a:lnTo>
                      <a:pt x="4151" y="1914"/>
                    </a:lnTo>
                    <a:lnTo>
                      <a:pt x="3977" y="1977"/>
                    </a:lnTo>
                    <a:lnTo>
                      <a:pt x="3832" y="2035"/>
                    </a:lnTo>
                    <a:cubicBezTo>
                      <a:pt x="3788" y="2057"/>
                      <a:pt x="3743" y="2078"/>
                      <a:pt x="3698" y="2100"/>
                    </a:cubicBezTo>
                    <a:lnTo>
                      <a:pt x="3574" y="2188"/>
                    </a:lnTo>
                    <a:lnTo>
                      <a:pt x="3462" y="2281"/>
                    </a:lnTo>
                    <a:cubicBezTo>
                      <a:pt x="3429" y="2316"/>
                      <a:pt x="3398" y="2352"/>
                      <a:pt x="3366" y="2387"/>
                    </a:cubicBezTo>
                    <a:cubicBezTo>
                      <a:pt x="3344" y="2424"/>
                      <a:pt x="3322" y="2460"/>
                      <a:pt x="3299" y="2497"/>
                    </a:cubicBezTo>
                    <a:cubicBezTo>
                      <a:pt x="3285" y="2537"/>
                      <a:pt x="3270" y="2578"/>
                      <a:pt x="3256" y="2618"/>
                    </a:cubicBezTo>
                    <a:cubicBezTo>
                      <a:pt x="3251" y="2658"/>
                      <a:pt x="3247" y="2699"/>
                      <a:pt x="3242" y="2739"/>
                    </a:cubicBezTo>
                    <a:cubicBezTo>
                      <a:pt x="3244" y="2769"/>
                      <a:pt x="3247" y="2799"/>
                      <a:pt x="3249" y="2829"/>
                    </a:cubicBezTo>
                    <a:cubicBezTo>
                      <a:pt x="3256" y="2857"/>
                      <a:pt x="3263" y="2884"/>
                      <a:pt x="3270" y="2912"/>
                    </a:cubicBezTo>
                    <a:cubicBezTo>
                      <a:pt x="3277" y="2940"/>
                      <a:pt x="3285" y="2967"/>
                      <a:pt x="3292" y="2995"/>
                    </a:cubicBezTo>
                    <a:lnTo>
                      <a:pt x="3331" y="3073"/>
                    </a:lnTo>
                    <a:cubicBezTo>
                      <a:pt x="3347" y="3095"/>
                      <a:pt x="3364" y="3117"/>
                      <a:pt x="3380" y="3139"/>
                    </a:cubicBezTo>
                    <a:cubicBezTo>
                      <a:pt x="3400" y="3162"/>
                      <a:pt x="3420" y="3184"/>
                      <a:pt x="3440" y="3207"/>
                    </a:cubicBezTo>
                    <a:cubicBezTo>
                      <a:pt x="3462" y="3228"/>
                      <a:pt x="3485" y="3249"/>
                      <a:pt x="3507" y="3270"/>
                    </a:cubicBezTo>
                    <a:cubicBezTo>
                      <a:pt x="3534" y="3287"/>
                      <a:pt x="3561" y="3305"/>
                      <a:pt x="3589" y="3322"/>
                    </a:cubicBezTo>
                    <a:cubicBezTo>
                      <a:pt x="3621" y="3341"/>
                      <a:pt x="3652" y="3361"/>
                      <a:pt x="3684" y="3380"/>
                    </a:cubicBezTo>
                    <a:lnTo>
                      <a:pt x="3800" y="3431"/>
                    </a:lnTo>
                    <a:lnTo>
                      <a:pt x="3935" y="3483"/>
                    </a:lnTo>
                    <a:lnTo>
                      <a:pt x="4090" y="3531"/>
                    </a:lnTo>
                    <a:lnTo>
                      <a:pt x="4267" y="3579"/>
                    </a:lnTo>
                    <a:lnTo>
                      <a:pt x="4465" y="3627"/>
                    </a:lnTo>
                    <a:lnTo>
                      <a:pt x="4680" y="3672"/>
                    </a:lnTo>
                    <a:lnTo>
                      <a:pt x="4920" y="3720"/>
                    </a:lnTo>
                    <a:lnTo>
                      <a:pt x="5542" y="3825"/>
                    </a:lnTo>
                    <a:lnTo>
                      <a:pt x="6139" y="3931"/>
                    </a:lnTo>
                    <a:lnTo>
                      <a:pt x="6447" y="3989"/>
                    </a:lnTo>
                    <a:lnTo>
                      <a:pt x="6750" y="4052"/>
                    </a:lnTo>
                    <a:lnTo>
                      <a:pt x="7075" y="4130"/>
                    </a:lnTo>
                    <a:lnTo>
                      <a:pt x="7400" y="4218"/>
                    </a:lnTo>
                    <a:lnTo>
                      <a:pt x="7721" y="4313"/>
                    </a:lnTo>
                    <a:lnTo>
                      <a:pt x="8018" y="4416"/>
                    </a:lnTo>
                    <a:lnTo>
                      <a:pt x="8297" y="4527"/>
                    </a:lnTo>
                    <a:lnTo>
                      <a:pt x="8548" y="4643"/>
                    </a:lnTo>
                    <a:lnTo>
                      <a:pt x="8785" y="4769"/>
                    </a:lnTo>
                    <a:lnTo>
                      <a:pt x="8997" y="4904"/>
                    </a:lnTo>
                    <a:lnTo>
                      <a:pt x="9188" y="5043"/>
                    </a:lnTo>
                    <a:lnTo>
                      <a:pt x="9360" y="5194"/>
                    </a:lnTo>
                    <a:cubicBezTo>
                      <a:pt x="9411" y="5247"/>
                      <a:pt x="9462" y="5299"/>
                      <a:pt x="9512" y="5352"/>
                    </a:cubicBezTo>
                    <a:lnTo>
                      <a:pt x="9639" y="5521"/>
                    </a:lnTo>
                    <a:cubicBezTo>
                      <a:pt x="9676" y="5582"/>
                      <a:pt x="9713" y="5643"/>
                      <a:pt x="9749" y="5704"/>
                    </a:cubicBezTo>
                    <a:cubicBezTo>
                      <a:pt x="9778" y="5770"/>
                      <a:pt x="9809" y="5837"/>
                      <a:pt x="9838" y="5903"/>
                    </a:cubicBezTo>
                    <a:cubicBezTo>
                      <a:pt x="9862" y="5973"/>
                      <a:pt x="9887" y="6042"/>
                      <a:pt x="9911" y="6112"/>
                    </a:cubicBezTo>
                    <a:cubicBezTo>
                      <a:pt x="9926" y="6186"/>
                      <a:pt x="9943" y="6259"/>
                      <a:pt x="9958" y="6333"/>
                    </a:cubicBezTo>
                    <a:cubicBezTo>
                      <a:pt x="9970" y="6410"/>
                      <a:pt x="9981" y="6487"/>
                      <a:pt x="9993" y="6564"/>
                    </a:cubicBezTo>
                    <a:cubicBezTo>
                      <a:pt x="9995" y="6646"/>
                      <a:pt x="9998" y="6729"/>
                      <a:pt x="10000" y="6811"/>
                    </a:cubicBezTo>
                    <a:cubicBezTo>
                      <a:pt x="9998" y="6869"/>
                      <a:pt x="9995" y="6926"/>
                      <a:pt x="9993" y="6984"/>
                    </a:cubicBezTo>
                    <a:cubicBezTo>
                      <a:pt x="9988" y="7043"/>
                      <a:pt x="9984" y="7101"/>
                      <a:pt x="9979" y="7160"/>
                    </a:cubicBezTo>
                    <a:cubicBezTo>
                      <a:pt x="9968" y="7216"/>
                      <a:pt x="9958" y="7273"/>
                      <a:pt x="9947" y="7329"/>
                    </a:cubicBezTo>
                    <a:cubicBezTo>
                      <a:pt x="9933" y="7383"/>
                      <a:pt x="9918" y="7438"/>
                      <a:pt x="9904" y="7492"/>
                    </a:cubicBezTo>
                    <a:lnTo>
                      <a:pt x="9859" y="7651"/>
                    </a:lnTo>
                    <a:cubicBezTo>
                      <a:pt x="9836" y="7705"/>
                      <a:pt x="9812" y="7758"/>
                      <a:pt x="9788" y="7812"/>
                    </a:cubicBezTo>
                    <a:cubicBezTo>
                      <a:pt x="9763" y="7861"/>
                      <a:pt x="9739" y="7911"/>
                      <a:pt x="9714" y="7960"/>
                    </a:cubicBezTo>
                    <a:cubicBezTo>
                      <a:pt x="9687" y="8009"/>
                      <a:pt x="9659" y="8057"/>
                      <a:pt x="9632" y="8106"/>
                    </a:cubicBezTo>
                    <a:lnTo>
                      <a:pt x="9531" y="8252"/>
                    </a:lnTo>
                    <a:cubicBezTo>
                      <a:pt x="9495" y="8296"/>
                      <a:pt x="9460" y="8341"/>
                      <a:pt x="9424" y="8385"/>
                    </a:cubicBezTo>
                    <a:cubicBezTo>
                      <a:pt x="9382" y="8430"/>
                      <a:pt x="9342" y="8476"/>
                      <a:pt x="9301" y="8521"/>
                    </a:cubicBezTo>
                    <a:cubicBezTo>
                      <a:pt x="9256" y="8565"/>
                      <a:pt x="9211" y="8608"/>
                      <a:pt x="9167" y="8652"/>
                    </a:cubicBezTo>
                    <a:lnTo>
                      <a:pt x="9022" y="8773"/>
                    </a:lnTo>
                    <a:lnTo>
                      <a:pt x="8866" y="8893"/>
                    </a:lnTo>
                    <a:lnTo>
                      <a:pt x="8696" y="9009"/>
                    </a:lnTo>
                    <a:lnTo>
                      <a:pt x="8520" y="9120"/>
                    </a:lnTo>
                    <a:lnTo>
                      <a:pt x="8333" y="9228"/>
                    </a:lnTo>
                    <a:lnTo>
                      <a:pt x="8135" y="9328"/>
                    </a:lnTo>
                    <a:lnTo>
                      <a:pt x="7930" y="9419"/>
                    </a:lnTo>
                    <a:lnTo>
                      <a:pt x="7714" y="9507"/>
                    </a:lnTo>
                    <a:lnTo>
                      <a:pt x="7488" y="9585"/>
                    </a:lnTo>
                    <a:lnTo>
                      <a:pt x="7266" y="9658"/>
                    </a:lnTo>
                    <a:lnTo>
                      <a:pt x="7022" y="9721"/>
                    </a:lnTo>
                    <a:lnTo>
                      <a:pt x="6778" y="9779"/>
                    </a:lnTo>
                    <a:lnTo>
                      <a:pt x="6527" y="9831"/>
                    </a:lnTo>
                    <a:lnTo>
                      <a:pt x="6262" y="9874"/>
                    </a:lnTo>
                    <a:lnTo>
                      <a:pt x="5990" y="9912"/>
                    </a:lnTo>
                    <a:lnTo>
                      <a:pt x="5711" y="9942"/>
                    </a:lnTo>
                    <a:lnTo>
                      <a:pt x="5429" y="9965"/>
                    </a:lnTo>
                    <a:lnTo>
                      <a:pt x="5129" y="9985"/>
                    </a:lnTo>
                    <a:lnTo>
                      <a:pt x="4832" y="9995"/>
                    </a:lnTo>
                    <a:lnTo>
                      <a:pt x="4517" y="10000"/>
                    </a:lnTo>
                    <a:lnTo>
                      <a:pt x="4158" y="9995"/>
                    </a:lnTo>
                    <a:lnTo>
                      <a:pt x="3811" y="9985"/>
                    </a:lnTo>
                    <a:lnTo>
                      <a:pt x="3479" y="9965"/>
                    </a:lnTo>
                    <a:lnTo>
                      <a:pt x="3154" y="9947"/>
                    </a:lnTo>
                    <a:lnTo>
                      <a:pt x="2843" y="9912"/>
                    </a:lnTo>
                    <a:lnTo>
                      <a:pt x="2536" y="9879"/>
                    </a:lnTo>
                    <a:lnTo>
                      <a:pt x="2247" y="9837"/>
                    </a:lnTo>
                    <a:lnTo>
                      <a:pt x="1968" y="9781"/>
                    </a:lnTo>
                    <a:cubicBezTo>
                      <a:pt x="1988" y="9126"/>
                      <a:pt x="2007" y="8472"/>
                      <a:pt x="2027" y="7817"/>
                    </a:cubicBezTo>
                    <a:lnTo>
                      <a:pt x="2313" y="7902"/>
                    </a:lnTo>
                    <a:lnTo>
                      <a:pt x="2599" y="7980"/>
                    </a:lnTo>
                    <a:lnTo>
                      <a:pt x="2882" y="8048"/>
                    </a:lnTo>
                    <a:lnTo>
                      <a:pt x="3161" y="8106"/>
                    </a:lnTo>
                    <a:lnTo>
                      <a:pt x="3440" y="8154"/>
                    </a:lnTo>
                    <a:lnTo>
                      <a:pt x="3720" y="8189"/>
                    </a:lnTo>
                    <a:lnTo>
                      <a:pt x="3988" y="8212"/>
                    </a:lnTo>
                    <a:lnTo>
                      <a:pt x="4267" y="8232"/>
                    </a:lnTo>
                    <a:lnTo>
                      <a:pt x="4532" y="8237"/>
                    </a:lnTo>
                    <a:lnTo>
                      <a:pt x="4680" y="8232"/>
                    </a:lnTo>
                    <a:lnTo>
                      <a:pt x="4850" y="8222"/>
                    </a:lnTo>
                    <a:lnTo>
                      <a:pt x="5040" y="8207"/>
                    </a:lnTo>
                    <a:lnTo>
                      <a:pt x="5253" y="8189"/>
                    </a:lnTo>
                    <a:lnTo>
                      <a:pt x="5460" y="8164"/>
                    </a:lnTo>
                    <a:lnTo>
                      <a:pt x="5652" y="8131"/>
                    </a:lnTo>
                    <a:lnTo>
                      <a:pt x="5821" y="8091"/>
                    </a:lnTo>
                    <a:lnTo>
                      <a:pt x="5969" y="8048"/>
                    </a:lnTo>
                    <a:lnTo>
                      <a:pt x="6125" y="7985"/>
                    </a:lnTo>
                    <a:lnTo>
                      <a:pt x="6276" y="7912"/>
                    </a:lnTo>
                    <a:lnTo>
                      <a:pt x="6411" y="7829"/>
                    </a:lnTo>
                    <a:lnTo>
                      <a:pt x="6527" y="7739"/>
                    </a:lnTo>
                    <a:cubicBezTo>
                      <a:pt x="6545" y="7721"/>
                      <a:pt x="6563" y="7704"/>
                      <a:pt x="6581" y="7686"/>
                    </a:cubicBezTo>
                    <a:cubicBezTo>
                      <a:pt x="6596" y="7668"/>
                      <a:pt x="6611" y="7651"/>
                      <a:pt x="6626" y="7633"/>
                    </a:cubicBezTo>
                    <a:lnTo>
                      <a:pt x="6669" y="7575"/>
                    </a:lnTo>
                    <a:cubicBezTo>
                      <a:pt x="6681" y="7554"/>
                      <a:pt x="6693" y="7534"/>
                      <a:pt x="6705" y="7513"/>
                    </a:cubicBezTo>
                    <a:cubicBezTo>
                      <a:pt x="6711" y="7490"/>
                      <a:pt x="6716" y="7468"/>
                      <a:pt x="6722" y="7445"/>
                    </a:cubicBezTo>
                    <a:cubicBezTo>
                      <a:pt x="6729" y="7421"/>
                      <a:pt x="6736" y="7396"/>
                      <a:pt x="6743" y="7372"/>
                    </a:cubicBezTo>
                    <a:cubicBezTo>
                      <a:pt x="6748" y="7346"/>
                      <a:pt x="6752" y="7320"/>
                      <a:pt x="6757" y="7294"/>
                    </a:cubicBezTo>
                    <a:lnTo>
                      <a:pt x="6757" y="7218"/>
                    </a:lnTo>
                    <a:cubicBezTo>
                      <a:pt x="6755" y="7189"/>
                      <a:pt x="6752" y="7159"/>
                      <a:pt x="6750" y="7130"/>
                    </a:cubicBezTo>
                    <a:cubicBezTo>
                      <a:pt x="6745" y="7101"/>
                      <a:pt x="6741" y="7071"/>
                      <a:pt x="6736" y="7042"/>
                    </a:cubicBezTo>
                    <a:cubicBezTo>
                      <a:pt x="6726" y="7017"/>
                      <a:pt x="6715" y="6992"/>
                      <a:pt x="6705" y="6967"/>
                    </a:cubicBezTo>
                    <a:cubicBezTo>
                      <a:pt x="6691" y="6941"/>
                      <a:pt x="6676" y="6915"/>
                      <a:pt x="6662" y="6889"/>
                    </a:cubicBezTo>
                    <a:cubicBezTo>
                      <a:pt x="6647" y="6865"/>
                      <a:pt x="6631" y="6840"/>
                      <a:pt x="6616" y="6816"/>
                    </a:cubicBezTo>
                    <a:cubicBezTo>
                      <a:pt x="6593" y="6793"/>
                      <a:pt x="6569" y="6771"/>
                      <a:pt x="6545" y="6748"/>
                    </a:cubicBezTo>
                    <a:cubicBezTo>
                      <a:pt x="6520" y="6727"/>
                      <a:pt x="6496" y="6706"/>
                      <a:pt x="6471" y="6685"/>
                    </a:cubicBezTo>
                    <a:lnTo>
                      <a:pt x="6383" y="6627"/>
                    </a:lnTo>
                    <a:lnTo>
                      <a:pt x="6189" y="6522"/>
                    </a:lnTo>
                    <a:lnTo>
                      <a:pt x="5976" y="6429"/>
                    </a:lnTo>
                    <a:lnTo>
                      <a:pt x="5747" y="6358"/>
                    </a:lnTo>
                    <a:lnTo>
                      <a:pt x="5496" y="6300"/>
                    </a:lnTo>
                    <a:lnTo>
                      <a:pt x="5164" y="6232"/>
                    </a:lnTo>
                    <a:lnTo>
                      <a:pt x="4825" y="6170"/>
                    </a:lnTo>
                    <a:lnTo>
                      <a:pt x="4479" y="6112"/>
                    </a:lnTo>
                    <a:lnTo>
                      <a:pt x="4111" y="6054"/>
                    </a:lnTo>
                    <a:lnTo>
                      <a:pt x="3751" y="5991"/>
                    </a:lnTo>
                    <a:lnTo>
                      <a:pt x="3405" y="5923"/>
                    </a:lnTo>
                    <a:lnTo>
                      <a:pt x="3066" y="5845"/>
                    </a:lnTo>
                    <a:lnTo>
                      <a:pt x="2741" y="5767"/>
                    </a:lnTo>
                    <a:lnTo>
                      <a:pt x="2388" y="5661"/>
                    </a:lnTo>
                    <a:lnTo>
                      <a:pt x="2062" y="5551"/>
                    </a:lnTo>
                    <a:lnTo>
                      <a:pt x="1759" y="5430"/>
                    </a:lnTo>
                    <a:lnTo>
                      <a:pt x="1487" y="5304"/>
                    </a:lnTo>
                    <a:lnTo>
                      <a:pt x="1236" y="5163"/>
                    </a:lnTo>
                    <a:lnTo>
                      <a:pt x="1009" y="5020"/>
                    </a:lnTo>
                    <a:lnTo>
                      <a:pt x="816" y="4864"/>
                    </a:lnTo>
                    <a:lnTo>
                      <a:pt x="639" y="4706"/>
                    </a:lnTo>
                    <a:lnTo>
                      <a:pt x="488" y="4532"/>
                    </a:lnTo>
                    <a:cubicBezTo>
                      <a:pt x="445" y="4471"/>
                      <a:pt x="402" y="4410"/>
                      <a:pt x="360" y="4349"/>
                    </a:cubicBezTo>
                    <a:cubicBezTo>
                      <a:pt x="324" y="4284"/>
                      <a:pt x="287" y="4220"/>
                      <a:pt x="251" y="4155"/>
                    </a:cubicBezTo>
                    <a:cubicBezTo>
                      <a:pt x="222" y="4087"/>
                      <a:pt x="191" y="4019"/>
                      <a:pt x="162" y="3951"/>
                    </a:cubicBezTo>
                    <a:cubicBezTo>
                      <a:pt x="140" y="3881"/>
                      <a:pt x="117" y="3810"/>
                      <a:pt x="95" y="3740"/>
                    </a:cubicBezTo>
                    <a:cubicBezTo>
                      <a:pt x="78" y="3664"/>
                      <a:pt x="59" y="3587"/>
                      <a:pt x="42" y="3511"/>
                    </a:cubicBezTo>
                    <a:cubicBezTo>
                      <a:pt x="33" y="3432"/>
                      <a:pt x="23" y="3354"/>
                      <a:pt x="14" y="3275"/>
                    </a:cubicBezTo>
                    <a:cubicBezTo>
                      <a:pt x="9" y="3193"/>
                      <a:pt x="5" y="3110"/>
                      <a:pt x="0" y="3028"/>
                    </a:cubicBezTo>
                    <a:cubicBezTo>
                      <a:pt x="2" y="2974"/>
                      <a:pt x="5" y="2919"/>
                      <a:pt x="7" y="2865"/>
                    </a:cubicBezTo>
                    <a:cubicBezTo>
                      <a:pt x="14" y="2810"/>
                      <a:pt x="21" y="2756"/>
                      <a:pt x="28" y="2701"/>
                    </a:cubicBezTo>
                    <a:cubicBezTo>
                      <a:pt x="36" y="2647"/>
                      <a:pt x="44" y="2594"/>
                      <a:pt x="52" y="2540"/>
                    </a:cubicBezTo>
                    <a:cubicBezTo>
                      <a:pt x="66" y="2489"/>
                      <a:pt x="81" y="2438"/>
                      <a:pt x="95" y="2387"/>
                    </a:cubicBezTo>
                    <a:cubicBezTo>
                      <a:pt x="113" y="2337"/>
                      <a:pt x="130" y="2286"/>
                      <a:pt x="148" y="2236"/>
                    </a:cubicBezTo>
                    <a:cubicBezTo>
                      <a:pt x="171" y="2187"/>
                      <a:pt x="195" y="2137"/>
                      <a:pt x="219" y="2088"/>
                    </a:cubicBezTo>
                    <a:cubicBezTo>
                      <a:pt x="244" y="2039"/>
                      <a:pt x="268" y="1991"/>
                      <a:pt x="293" y="1942"/>
                    </a:cubicBezTo>
                    <a:lnTo>
                      <a:pt x="381" y="1806"/>
                    </a:lnTo>
                    <a:cubicBezTo>
                      <a:pt x="413" y="1762"/>
                      <a:pt x="444" y="1717"/>
                      <a:pt x="477" y="1673"/>
                    </a:cubicBezTo>
                    <a:cubicBezTo>
                      <a:pt x="514" y="1629"/>
                      <a:pt x="552" y="1586"/>
                      <a:pt x="589" y="1542"/>
                    </a:cubicBezTo>
                    <a:cubicBezTo>
                      <a:pt x="630" y="1498"/>
                      <a:pt x="672" y="1455"/>
                      <a:pt x="713" y="1411"/>
                    </a:cubicBezTo>
                    <a:cubicBezTo>
                      <a:pt x="758" y="1371"/>
                      <a:pt x="802" y="1330"/>
                      <a:pt x="847" y="1290"/>
                    </a:cubicBezTo>
                    <a:lnTo>
                      <a:pt x="995" y="1170"/>
                    </a:lnTo>
                    <a:cubicBezTo>
                      <a:pt x="1048" y="1131"/>
                      <a:pt x="1102" y="1093"/>
                      <a:pt x="1155" y="1054"/>
                    </a:cubicBezTo>
                    <a:lnTo>
                      <a:pt x="1324" y="941"/>
                    </a:lnTo>
                    <a:lnTo>
                      <a:pt x="1504" y="835"/>
                    </a:lnTo>
                    <a:lnTo>
                      <a:pt x="1696" y="734"/>
                    </a:lnTo>
                    <a:lnTo>
                      <a:pt x="1893" y="641"/>
                    </a:lnTo>
                    <a:lnTo>
                      <a:pt x="2098" y="551"/>
                    </a:lnTo>
                    <a:lnTo>
                      <a:pt x="2299" y="468"/>
                    </a:lnTo>
                    <a:lnTo>
                      <a:pt x="2519" y="395"/>
                    </a:lnTo>
                    <a:lnTo>
                      <a:pt x="2734" y="324"/>
                    </a:lnTo>
                    <a:lnTo>
                      <a:pt x="2963" y="267"/>
                    </a:lnTo>
                    <a:lnTo>
                      <a:pt x="3197" y="209"/>
                    </a:lnTo>
                    <a:lnTo>
                      <a:pt x="3433" y="158"/>
                    </a:lnTo>
                    <a:lnTo>
                      <a:pt x="3677" y="116"/>
                    </a:lnTo>
                    <a:lnTo>
                      <a:pt x="3921" y="83"/>
                    </a:lnTo>
                    <a:lnTo>
                      <a:pt x="4179" y="48"/>
                    </a:lnTo>
                    <a:lnTo>
                      <a:pt x="4437" y="28"/>
                    </a:lnTo>
                    <a:lnTo>
                      <a:pt x="4709" y="10"/>
                    </a:lnTo>
                    <a:lnTo>
                      <a:pt x="4981" y="0"/>
                    </a:lnTo>
                    <a:lnTo>
                      <a:pt x="5260" y="0"/>
                    </a:lnTo>
                    <a:close/>
                  </a:path>
                </a:pathLst>
              </a:custGeom>
              <a:solidFill>
                <a:srgbClr val="ec2c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18" name="直接连接符 29"/>
              <p:cNvCxnSpPr/>
              <p:nvPr/>
            </p:nvCxnSpPr>
            <p:spPr>
              <a:xfrm flipH="1">
                <a:off x="3491280" y="2901600"/>
                <a:ext cx="702360" cy="360"/>
              </a:xfrm>
              <a:prstGeom prst="straightConnector1">
                <a:avLst/>
              </a:prstGeom>
              <a:ln>
                <a:solidFill>
                  <a:srgbClr val="ec2c5e"/>
                </a:solidFill>
              </a:ln>
            </p:spPr>
          </p:cxnSp>
          <p:cxnSp>
            <p:nvCxnSpPr>
              <p:cNvPr id="119" name="直接连接符 31"/>
              <p:cNvCxnSpPr/>
              <p:nvPr/>
            </p:nvCxnSpPr>
            <p:spPr>
              <a:xfrm flipH="1">
                <a:off x="3278880" y="2901600"/>
                <a:ext cx="212760" cy="309960"/>
              </a:xfrm>
              <a:prstGeom prst="straightConnector1">
                <a:avLst/>
              </a:prstGeom>
              <a:ln>
                <a:solidFill>
                  <a:srgbClr val="ec2c5e"/>
                </a:solidFill>
              </a:ln>
            </p:spPr>
          </p:cxnSp>
          <p:cxnSp>
            <p:nvCxnSpPr>
              <p:cNvPr id="120" name="直接连接符 34"/>
              <p:cNvCxnSpPr/>
              <p:nvPr/>
            </p:nvCxnSpPr>
            <p:spPr>
              <a:xfrm>
                <a:off x="3278880" y="3211200"/>
                <a:ext cx="563760" cy="660240"/>
              </a:xfrm>
              <a:prstGeom prst="straightConnector1">
                <a:avLst/>
              </a:prstGeom>
              <a:ln>
                <a:solidFill>
                  <a:srgbClr val="ec2c5e"/>
                </a:solidFill>
              </a:ln>
            </p:spPr>
          </p:cxnSp>
          <p:cxnSp>
            <p:nvCxnSpPr>
              <p:cNvPr id="121" name="直接连接符 36"/>
              <p:cNvCxnSpPr/>
              <p:nvPr/>
            </p:nvCxnSpPr>
            <p:spPr>
              <a:xfrm flipV="1">
                <a:off x="3842280" y="3211200"/>
                <a:ext cx="563760" cy="660240"/>
              </a:xfrm>
              <a:prstGeom prst="straightConnector1">
                <a:avLst/>
              </a:prstGeom>
              <a:ln>
                <a:solidFill>
                  <a:srgbClr val="ec2c5e"/>
                </a:solidFill>
              </a:ln>
            </p:spPr>
          </p:cxnSp>
          <p:cxnSp>
            <p:nvCxnSpPr>
              <p:cNvPr id="122" name="直接连接符 38"/>
              <p:cNvCxnSpPr/>
              <p:nvPr/>
            </p:nvCxnSpPr>
            <p:spPr>
              <a:xfrm flipH="1" flipV="1">
                <a:off x="4193280" y="2901600"/>
                <a:ext cx="212760" cy="309960"/>
              </a:xfrm>
              <a:prstGeom prst="straightConnector1">
                <a:avLst/>
              </a:prstGeom>
              <a:ln>
                <a:solidFill>
                  <a:srgbClr val="ec2c5e"/>
                </a:solidFill>
              </a:ln>
            </p:spPr>
          </p:cxnSp>
        </p:grpSp>
      </p:grpSp>
      <p:sp>
        <p:nvSpPr>
          <p:cNvPr id="123" name="文本框 48"/>
          <p:cNvSpPr/>
          <p:nvPr/>
        </p:nvSpPr>
        <p:spPr>
          <a:xfrm>
            <a:off x="5710680" y="2259720"/>
            <a:ext cx="204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9"/>
          <p:cNvSpPr/>
          <p:nvPr/>
        </p:nvSpPr>
        <p:spPr>
          <a:xfrm>
            <a:off x="5894640" y="2520720"/>
            <a:ext cx="3392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52"/>
          <p:cNvSpPr/>
          <p:nvPr/>
        </p:nvSpPr>
        <p:spPr>
          <a:xfrm>
            <a:off x="7008840" y="3093480"/>
            <a:ext cx="1177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54"/>
          <p:cNvSpPr/>
          <p:nvPr/>
        </p:nvSpPr>
        <p:spPr>
          <a:xfrm>
            <a:off x="6160320" y="3229200"/>
            <a:ext cx="1079640" cy="1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7000" bIns="-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矩形 55"/>
          <p:cNvSpPr/>
          <p:nvPr/>
        </p:nvSpPr>
        <p:spPr>
          <a:xfrm>
            <a:off x="7941600" y="3238200"/>
            <a:ext cx="1079640" cy="1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7000" bIns="-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矩形 56"/>
          <p:cNvSpPr/>
          <p:nvPr/>
        </p:nvSpPr>
        <p:spPr>
          <a:xfrm>
            <a:off x="6152760" y="3504960"/>
            <a:ext cx="2883960" cy="214920"/>
          </a:xfrm>
          <a:prstGeom prst="rect">
            <a:avLst/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245e76"/>
                </a:solidFill>
                <a:latin typeface="Calibri"/>
              </a:rPr>
              <a:t>ADD YOUR T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组合 8"/>
          <p:cNvGrpSpPr/>
          <p:nvPr/>
        </p:nvGrpSpPr>
        <p:grpSpPr>
          <a:xfrm>
            <a:off x="3813840" y="4325760"/>
            <a:ext cx="82440" cy="1437120"/>
            <a:chOff x="3813840" y="4325760"/>
            <a:chExt cx="82440" cy="1437120"/>
          </a:xfrm>
        </p:grpSpPr>
        <p:sp>
          <p:nvSpPr>
            <p:cNvPr id="130" name="矩形 6"/>
            <p:cNvSpPr/>
            <p:nvPr/>
          </p:nvSpPr>
          <p:spPr>
            <a:xfrm>
              <a:off x="3841200" y="5043240"/>
              <a:ext cx="51840" cy="719640"/>
            </a:xfrm>
            <a:prstGeom prst="rect">
              <a:avLst/>
            </a:prstGeom>
            <a:solidFill>
              <a:srgbClr val="ec2c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1" name="矩形 37"/>
            <p:cNvSpPr/>
            <p:nvPr/>
          </p:nvSpPr>
          <p:spPr>
            <a:xfrm>
              <a:off x="3813840" y="4325760"/>
              <a:ext cx="82440" cy="71964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2" name="矩形 26"/>
          <p:cNvSpPr/>
          <p:nvPr/>
        </p:nvSpPr>
        <p:spPr>
          <a:xfrm>
            <a:off x="3269520" y="264240"/>
            <a:ext cx="576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创意配色简约扁平化设计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1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1"/>
          <p:cNvGrpSpPr/>
          <p:nvPr/>
        </p:nvGrpSpPr>
        <p:grpSpPr>
          <a:xfrm>
            <a:off x="3579120" y="2097000"/>
            <a:ext cx="6588000" cy="752400"/>
            <a:chOff x="3579120" y="2097000"/>
            <a:chExt cx="6588000" cy="752400"/>
          </a:xfrm>
        </p:grpSpPr>
        <p:sp>
          <p:nvSpPr>
            <p:cNvPr id="135" name="任意多边形 2"/>
            <p:cNvSpPr/>
            <p:nvPr/>
          </p:nvSpPr>
          <p:spPr>
            <a:xfrm>
              <a:off x="3579120" y="2097000"/>
              <a:ext cx="526320" cy="752400"/>
            </a:xfrm>
            <a:custGeom>
              <a:avLst/>
              <a:gdLst>
                <a:gd name="textAreaLeft" fmla="*/ 0 w 526320"/>
                <a:gd name="textAreaRight" fmla="*/ 526680 w 526320"/>
                <a:gd name="textAreaTop" fmla="*/ 0 h 752400"/>
                <a:gd name="textAreaBottom" fmla="*/ 752760 h 752400"/>
              </a:gdLst>
              <a:ahLst/>
              <a:rect l="textAreaLeft" t="textAreaTop" r="textAreaRight" b="textAreaBottom"/>
              <a:pathLst>
                <a:path w="752590" h="526813">
                  <a:moveTo>
                    <a:pt x="752589" y="0"/>
                  </a:moveTo>
                  <a:lnTo>
                    <a:pt x="752589" y="342429"/>
                  </a:lnTo>
                  <a:lnTo>
                    <a:pt x="376294" y="526813"/>
                  </a:lnTo>
                  <a:lnTo>
                    <a:pt x="1" y="342429"/>
                  </a:lnTo>
                  <a:lnTo>
                    <a:pt x="1" y="0"/>
                  </a:lnTo>
                  <a:lnTo>
                    <a:pt x="376294" y="184385"/>
                  </a:lnTo>
                  <a:lnTo>
                    <a:pt x="752589" y="0"/>
                  </a:lnTo>
                  <a:close/>
                </a:path>
              </a:pathLst>
            </a:custGeom>
            <a:solidFill>
              <a:srgbClr val="245e76"/>
            </a:solidFill>
            <a:ln>
              <a:solidFill>
                <a:srgbClr val="245e76"/>
              </a:solidFill>
            </a:ln>
            <a:scene3d>
              <a:camera prst="orthographicFront"/>
              <a:lightRig rig="threePt" dir="t"/>
            </a:scene3d>
            <a:sp3d extrusionH="381000" contourW="38100" prstMaterial="matte">
              <a:contourClr>
                <a:schemeClr val="lt1"/>
              </a:contourClr>
            </a:sp3d>
          </p:spPr>
          <p:style>
            <a:lnRef idx="1"/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2600" rIns="12600" tIns="276120" bIns="27612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en-US" sz="2000" spc="-1" strike="noStrike">
                  <a:solidFill>
                    <a:srgbClr val="ec2c5e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3"/>
            <p:cNvSpPr/>
            <p:nvPr/>
          </p:nvSpPr>
          <p:spPr>
            <a:xfrm>
              <a:off x="4106160" y="2097000"/>
              <a:ext cx="6060960" cy="489240"/>
            </a:xfrm>
            <a:custGeom>
              <a:avLst/>
              <a:gdLst>
                <a:gd name="textAreaLeft" fmla="*/ 0 w 6060960"/>
                <a:gd name="textAreaRight" fmla="*/ 6061320 w 606096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489441" h="6061311">
                  <a:moveTo>
                    <a:pt x="489441" y="1010241"/>
                  </a:moveTo>
                  <a:lnTo>
                    <a:pt x="489441" y="5051070"/>
                  </a:lnTo>
                  <a:cubicBezTo>
                    <a:pt x="489441" y="5609012"/>
                    <a:pt x="486492" y="6061305"/>
                    <a:pt x="482854" y="6061305"/>
                  </a:cubicBezTo>
                  <a:lnTo>
                    <a:pt x="0" y="6061305"/>
                  </a:lnTo>
                  <a:lnTo>
                    <a:pt x="0" y="6061305"/>
                  </a:lnTo>
                  <a:lnTo>
                    <a:pt x="0" y="6"/>
                  </a:lnTo>
                  <a:lnTo>
                    <a:pt x="0" y="6"/>
                  </a:lnTo>
                  <a:lnTo>
                    <a:pt x="482854" y="6"/>
                  </a:lnTo>
                  <a:cubicBezTo>
                    <a:pt x="486492" y="6"/>
                    <a:pt x="489441" y="452299"/>
                    <a:pt x="489441" y="1010241"/>
                  </a:cubicBez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ffd47b"/>
              </a:solidFill>
            </a:ln>
            <a:scene3d>
              <a:camera prst="orthographicFront"/>
              <a:lightRig rig="threePt" dir="t"/>
            </a:scene3d>
            <a:sp3d extrusionH="63500" z="-60000" prstMaterial="matte"/>
          </p:spPr>
          <p:style>
            <a:lnRef idx="1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42200" rIns="36720" tIns="36720" bIns="3672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245e76"/>
                </a:buClr>
                <a:buFont typeface="Symbol" charset="2"/>
                <a:buChar char=""/>
              </a:pPr>
              <a:r>
                <a:rPr b="0" lang="en-US" sz="2000" spc="-1" strike="noStrike">
                  <a:solidFill>
                    <a:srgbClr val="245e76"/>
                  </a:solidFill>
                  <a:latin typeface="微软雅黑"/>
                  <a:ea typeface="微软雅黑"/>
                </a:rPr>
                <a:t>Add someth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4"/>
          <p:cNvGrpSpPr/>
          <p:nvPr/>
        </p:nvGrpSpPr>
        <p:grpSpPr>
          <a:xfrm>
            <a:off x="3579120" y="2949480"/>
            <a:ext cx="6588000" cy="750600"/>
            <a:chOff x="3579120" y="2949480"/>
            <a:chExt cx="6588000" cy="750600"/>
          </a:xfrm>
        </p:grpSpPr>
        <p:sp>
          <p:nvSpPr>
            <p:cNvPr id="138" name="任意多边形 5"/>
            <p:cNvSpPr/>
            <p:nvPr/>
          </p:nvSpPr>
          <p:spPr>
            <a:xfrm>
              <a:off x="3579120" y="2949480"/>
              <a:ext cx="525240" cy="75060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751006" h="525704">
                  <a:moveTo>
                    <a:pt x="751006" y="0"/>
                  </a:moveTo>
                  <a:lnTo>
                    <a:pt x="751006" y="341708"/>
                  </a:lnTo>
                  <a:lnTo>
                    <a:pt x="375503" y="525704"/>
                  </a:lnTo>
                  <a:lnTo>
                    <a:pt x="0" y="341708"/>
                  </a:lnTo>
                  <a:lnTo>
                    <a:pt x="0" y="0"/>
                  </a:lnTo>
                  <a:lnTo>
                    <a:pt x="375503" y="183996"/>
                  </a:lnTo>
                  <a:lnTo>
                    <a:pt x="751006" y="0"/>
                  </a:lnTo>
                  <a:close/>
                </a:path>
              </a:pathLst>
            </a:custGeom>
            <a:solidFill>
              <a:srgbClr val="245e76"/>
            </a:solidFill>
            <a:ln>
              <a:solidFill>
                <a:srgbClr val="245e76"/>
              </a:solidFill>
            </a:ln>
            <a:scene3d>
              <a:camera prst="orthographicFront"/>
              <a:lightRig rig="threePt" dir="t"/>
            </a:scene3d>
            <a:sp3d extrusionH="381000" contourW="38100" prstMaterial="matte">
              <a:contourClr>
                <a:schemeClr val="lt1"/>
              </a:contourClr>
            </a:sp3d>
          </p:spPr>
          <p:style>
            <a:lnRef idx="1"/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2600" rIns="12600" tIns="275400" bIns="27540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en-US" sz="2000" spc="-1" strike="noStrike">
                  <a:solidFill>
                    <a:srgbClr val="ec2c5e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 6"/>
            <p:cNvSpPr/>
            <p:nvPr/>
          </p:nvSpPr>
          <p:spPr>
            <a:xfrm>
              <a:off x="4105080" y="2949480"/>
              <a:ext cx="6062040" cy="488160"/>
            </a:xfrm>
            <a:custGeom>
              <a:avLst/>
              <a:gdLst>
                <a:gd name="textAreaLeft" fmla="*/ 0 w 6062040"/>
                <a:gd name="textAreaRight" fmla="*/ 6062400 w 606204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88410" h="6062420">
                  <a:moveTo>
                    <a:pt x="488410" y="1010424"/>
                  </a:moveTo>
                  <a:lnTo>
                    <a:pt x="488410" y="5051996"/>
                  </a:lnTo>
                  <a:cubicBezTo>
                    <a:pt x="488410" y="5610039"/>
                    <a:pt x="485474" y="6062414"/>
                    <a:pt x="481852" y="6062414"/>
                  </a:cubicBezTo>
                  <a:lnTo>
                    <a:pt x="0" y="6062414"/>
                  </a:lnTo>
                  <a:lnTo>
                    <a:pt x="0" y="6062414"/>
                  </a:lnTo>
                  <a:lnTo>
                    <a:pt x="0" y="6"/>
                  </a:lnTo>
                  <a:lnTo>
                    <a:pt x="0" y="6"/>
                  </a:lnTo>
                  <a:lnTo>
                    <a:pt x="481852" y="6"/>
                  </a:lnTo>
                  <a:cubicBezTo>
                    <a:pt x="485474" y="6"/>
                    <a:pt x="488410" y="452381"/>
                    <a:pt x="488410" y="1010424"/>
                  </a:cubicBez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ffd47b"/>
              </a:solidFill>
            </a:ln>
            <a:scene3d>
              <a:camera prst="orthographicFront"/>
              <a:lightRig rig="threePt" dir="t"/>
            </a:scene3d>
            <a:sp3d extrusionH="63500" z="-60000" prstMaterial="matte"/>
          </p:spPr>
          <p:style>
            <a:lnRef idx="1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42200" rIns="36720" tIns="36720" bIns="3672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245e76"/>
                </a:buClr>
                <a:buFont typeface="Symbol" charset="2"/>
                <a:buChar char=""/>
              </a:pPr>
              <a:r>
                <a:rPr b="0" lang="en-US" sz="2000" spc="-1" strike="noStrike">
                  <a:solidFill>
                    <a:srgbClr val="245e76"/>
                  </a:solidFill>
                  <a:latin typeface="微软雅黑"/>
                  <a:ea typeface="微软雅黑"/>
                </a:rPr>
                <a:t>Add someth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7"/>
          <p:cNvGrpSpPr/>
          <p:nvPr/>
        </p:nvGrpSpPr>
        <p:grpSpPr>
          <a:xfrm>
            <a:off x="3579120" y="3800160"/>
            <a:ext cx="6588000" cy="750600"/>
            <a:chOff x="3579120" y="3800160"/>
            <a:chExt cx="6588000" cy="750600"/>
          </a:xfrm>
        </p:grpSpPr>
        <p:sp>
          <p:nvSpPr>
            <p:cNvPr id="141" name="任意多边形 8"/>
            <p:cNvSpPr/>
            <p:nvPr/>
          </p:nvSpPr>
          <p:spPr>
            <a:xfrm>
              <a:off x="3579120" y="3800160"/>
              <a:ext cx="525240" cy="75060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751006" h="525704">
                  <a:moveTo>
                    <a:pt x="751006" y="0"/>
                  </a:moveTo>
                  <a:lnTo>
                    <a:pt x="751006" y="341708"/>
                  </a:lnTo>
                  <a:lnTo>
                    <a:pt x="375503" y="525704"/>
                  </a:lnTo>
                  <a:lnTo>
                    <a:pt x="0" y="341708"/>
                  </a:lnTo>
                  <a:lnTo>
                    <a:pt x="0" y="0"/>
                  </a:lnTo>
                  <a:lnTo>
                    <a:pt x="375503" y="183996"/>
                  </a:lnTo>
                  <a:lnTo>
                    <a:pt x="751006" y="0"/>
                  </a:lnTo>
                  <a:close/>
                </a:path>
              </a:pathLst>
            </a:custGeom>
            <a:solidFill>
              <a:srgbClr val="245e76"/>
            </a:solidFill>
            <a:ln>
              <a:solidFill>
                <a:srgbClr val="245e76"/>
              </a:solidFill>
            </a:ln>
            <a:scene3d>
              <a:camera prst="orthographicFront"/>
              <a:lightRig rig="threePt" dir="t"/>
            </a:scene3d>
            <a:sp3d extrusionH="381000" contourW="38100" prstMaterial="matte">
              <a:contourClr>
                <a:schemeClr val="lt1"/>
              </a:contourClr>
            </a:sp3d>
          </p:spPr>
          <p:style>
            <a:lnRef idx="1"/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2600" rIns="12600" tIns="275400" bIns="27540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en-US" sz="2000" spc="-1" strike="noStrike">
                  <a:solidFill>
                    <a:srgbClr val="ec2c5e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9"/>
            <p:cNvSpPr/>
            <p:nvPr/>
          </p:nvSpPr>
          <p:spPr>
            <a:xfrm>
              <a:off x="4105080" y="3800160"/>
              <a:ext cx="6062040" cy="488160"/>
            </a:xfrm>
            <a:custGeom>
              <a:avLst/>
              <a:gdLst>
                <a:gd name="textAreaLeft" fmla="*/ 0 w 6062040"/>
                <a:gd name="textAreaRight" fmla="*/ 6062400 w 606204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88410" h="6062420">
                  <a:moveTo>
                    <a:pt x="488410" y="1010424"/>
                  </a:moveTo>
                  <a:lnTo>
                    <a:pt x="488410" y="5051996"/>
                  </a:lnTo>
                  <a:cubicBezTo>
                    <a:pt x="488410" y="5610039"/>
                    <a:pt x="485474" y="6062414"/>
                    <a:pt x="481852" y="6062414"/>
                  </a:cubicBezTo>
                  <a:lnTo>
                    <a:pt x="0" y="6062414"/>
                  </a:lnTo>
                  <a:lnTo>
                    <a:pt x="0" y="6062414"/>
                  </a:lnTo>
                  <a:lnTo>
                    <a:pt x="0" y="6"/>
                  </a:lnTo>
                  <a:lnTo>
                    <a:pt x="0" y="6"/>
                  </a:lnTo>
                  <a:lnTo>
                    <a:pt x="481852" y="6"/>
                  </a:lnTo>
                  <a:cubicBezTo>
                    <a:pt x="485474" y="6"/>
                    <a:pt x="488410" y="452381"/>
                    <a:pt x="488410" y="1010424"/>
                  </a:cubicBez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ffd47b"/>
              </a:solidFill>
            </a:ln>
            <a:scene3d>
              <a:camera prst="orthographicFront"/>
              <a:lightRig rig="threePt" dir="t"/>
            </a:scene3d>
            <a:sp3d extrusionH="63500" z="-60000" prstMaterial="matte"/>
          </p:spPr>
          <p:style>
            <a:lnRef idx="1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42200" rIns="36720" tIns="36720" bIns="3672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245e76"/>
                </a:buClr>
                <a:buFont typeface="Symbol" charset="2"/>
                <a:buChar char=""/>
              </a:pPr>
              <a:r>
                <a:rPr b="0" lang="en-US" sz="2000" spc="-1" strike="noStrike">
                  <a:solidFill>
                    <a:srgbClr val="245e76"/>
                  </a:solidFill>
                  <a:latin typeface="微软雅黑"/>
                  <a:ea typeface="微软雅黑"/>
                </a:rPr>
                <a:t>Add someth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59"/>
          <p:cNvGrpSpPr/>
          <p:nvPr/>
        </p:nvGrpSpPr>
        <p:grpSpPr>
          <a:xfrm>
            <a:off x="1505520" y="830520"/>
            <a:ext cx="2194200" cy="2021760"/>
            <a:chOff x="1505520" y="830520"/>
            <a:chExt cx="2194200" cy="2021760"/>
          </a:xfrm>
        </p:grpSpPr>
        <p:sp>
          <p:nvSpPr>
            <p:cNvPr id="144" name="任意多边形 27"/>
            <p:cNvSpPr/>
            <p:nvPr/>
          </p:nvSpPr>
          <p:spPr>
            <a:xfrm>
              <a:off x="1505520" y="830520"/>
              <a:ext cx="2194200" cy="1378800"/>
            </a:xfrm>
            <a:custGeom>
              <a:avLst/>
              <a:gdLst>
                <a:gd name="textAreaLeft" fmla="*/ 0 w 2194200"/>
                <a:gd name="textAreaRight" fmla="*/ 2194560 w 2194200"/>
                <a:gd name="textAreaTop" fmla="*/ 0 h 1378800"/>
                <a:gd name="textAreaBottom" fmla="*/ 1379160 h 1378800"/>
              </a:gdLst>
              <a:ahLst/>
              <a:rect l="textAreaLeft" t="textAreaTop" r="textAreaRight" b="textAreaBottom"/>
              <a:pathLst>
                <a:path w="2194560" h="1379220">
                  <a:moveTo>
                    <a:pt x="754380" y="1379220"/>
                  </a:moveTo>
                  <a:lnTo>
                    <a:pt x="0" y="106680"/>
                  </a:lnTo>
                  <a:lnTo>
                    <a:pt x="1188720" y="236220"/>
                  </a:lnTo>
                  <a:lnTo>
                    <a:pt x="2194560" y="0"/>
                  </a:lnTo>
                  <a:lnTo>
                    <a:pt x="1752600" y="1325880"/>
                  </a:lnTo>
                  <a:lnTo>
                    <a:pt x="754380" y="137922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5" name="圆角矩形 15"/>
            <p:cNvSpPr/>
            <p:nvPr/>
          </p:nvSpPr>
          <p:spPr>
            <a:xfrm>
              <a:off x="2234520" y="1584720"/>
              <a:ext cx="1025280" cy="1020600"/>
            </a:xfrm>
            <a:prstGeom prst="roundRect">
              <a:avLst>
                <a:gd name="adj" fmla="val 16667"/>
              </a:avLst>
            </a:prstGeom>
            <a:solidFill>
              <a:srgbClr val="245e7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6" name="流程图: 资料带 29"/>
            <p:cNvSpPr/>
            <p:nvPr/>
          </p:nvSpPr>
          <p:spPr>
            <a:xfrm>
              <a:off x="2234520" y="1779480"/>
              <a:ext cx="1027440" cy="299160"/>
            </a:xfrm>
            <a:custGeom>
              <a:avLst/>
              <a:gdLst>
                <a:gd name="textAreaLeft" fmla="*/ 0 w 1027440"/>
                <a:gd name="textAreaRight" fmla="*/ 1027800 w 102744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10023" h="10355">
                  <a:moveTo>
                    <a:pt x="0" y="3266"/>
                  </a:moveTo>
                  <a:cubicBezTo>
                    <a:pt x="0" y="3865"/>
                    <a:pt x="1902" y="3296"/>
                    <a:pt x="3569" y="2788"/>
                  </a:cubicBezTo>
                  <a:cubicBezTo>
                    <a:pt x="5236" y="2280"/>
                    <a:pt x="8812" y="-842"/>
                    <a:pt x="10000" y="219"/>
                  </a:cubicBezTo>
                  <a:cubicBezTo>
                    <a:pt x="10008" y="3364"/>
                    <a:pt x="10015" y="6509"/>
                    <a:pt x="10023" y="9654"/>
                  </a:cubicBezTo>
                  <a:cubicBezTo>
                    <a:pt x="10023" y="9055"/>
                    <a:pt x="8940" y="10293"/>
                    <a:pt x="7686" y="10351"/>
                  </a:cubicBezTo>
                  <a:cubicBezTo>
                    <a:pt x="6432" y="10409"/>
                    <a:pt x="3750" y="9819"/>
                    <a:pt x="2500" y="10000"/>
                  </a:cubicBezTo>
                  <a:cubicBezTo>
                    <a:pt x="1119" y="10000"/>
                    <a:pt x="0" y="9513"/>
                    <a:pt x="0" y="8913"/>
                  </a:cubicBezTo>
                  <a:lnTo>
                    <a:pt x="0" y="3266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7" name="流程图: 联系 30"/>
            <p:cNvSpPr/>
            <p:nvPr/>
          </p:nvSpPr>
          <p:spPr>
            <a:xfrm>
              <a:off x="2513520" y="1943280"/>
              <a:ext cx="79560" cy="79560"/>
            </a:xfrm>
            <a:prstGeom prst="flowChartConnector">
              <a:avLst/>
            </a:prstGeom>
            <a:solidFill>
              <a:srgbClr val="245e7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1520" bIns="11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8" name="流程图: 联系 31"/>
            <p:cNvSpPr/>
            <p:nvPr/>
          </p:nvSpPr>
          <p:spPr>
            <a:xfrm>
              <a:off x="2856240" y="1936080"/>
              <a:ext cx="84600" cy="93960"/>
            </a:xfrm>
            <a:prstGeom prst="flowChartConnector">
              <a:avLst/>
            </a:prstGeom>
            <a:solidFill>
              <a:srgbClr val="245e7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49" name="组合 37"/>
            <p:cNvGrpSpPr/>
            <p:nvPr/>
          </p:nvGrpSpPr>
          <p:grpSpPr>
            <a:xfrm>
              <a:off x="1888920" y="2255400"/>
              <a:ext cx="344520" cy="221760"/>
              <a:chOff x="1888920" y="2255400"/>
              <a:chExt cx="344520" cy="221760"/>
            </a:xfrm>
          </p:grpSpPr>
          <p:sp>
            <p:nvSpPr>
              <p:cNvPr id="150" name="流程图: 可选过程 36"/>
              <p:cNvSpPr/>
              <p:nvPr/>
            </p:nvSpPr>
            <p:spPr>
              <a:xfrm>
                <a:off x="2138400" y="2309400"/>
                <a:ext cx="95040" cy="140040"/>
              </a:xfrm>
              <a:prstGeom prst="flowChartAlternateProcess">
                <a:avLst/>
              </a:prstGeom>
              <a:solidFill>
                <a:schemeClr val="bg1"/>
              </a:solidFill>
              <a:ln>
                <a:solidFill>
                  <a:srgbClr val="245e7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1" name="流程图: 可选过程 33"/>
              <p:cNvSpPr/>
              <p:nvPr/>
            </p:nvSpPr>
            <p:spPr>
              <a:xfrm>
                <a:off x="1888920" y="2272680"/>
                <a:ext cx="95040" cy="194760"/>
              </a:xfrm>
              <a:prstGeom prst="flowChartAlternateProcess">
                <a:avLst/>
              </a:prstGeom>
              <a:solidFill>
                <a:schemeClr val="bg1"/>
              </a:solidFill>
              <a:ln>
                <a:solidFill>
                  <a:srgbClr val="245e7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2" name="流程图: 可选过程 35"/>
              <p:cNvSpPr/>
              <p:nvPr/>
            </p:nvSpPr>
            <p:spPr>
              <a:xfrm>
                <a:off x="2068560" y="2268720"/>
                <a:ext cx="95040" cy="194760"/>
              </a:xfrm>
              <a:prstGeom prst="flowChartAlternateProcess">
                <a:avLst/>
              </a:prstGeom>
              <a:solidFill>
                <a:schemeClr val="bg1"/>
              </a:solidFill>
              <a:ln>
                <a:solidFill>
                  <a:srgbClr val="245e7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3" name="流程图: 可选过程 34"/>
              <p:cNvSpPr/>
              <p:nvPr/>
            </p:nvSpPr>
            <p:spPr>
              <a:xfrm>
                <a:off x="1968480" y="2255400"/>
                <a:ext cx="120240" cy="221760"/>
              </a:xfrm>
              <a:prstGeom prst="flowChartAlternateProcess">
                <a:avLst/>
              </a:prstGeom>
              <a:solidFill>
                <a:schemeClr val="bg1"/>
              </a:solidFill>
              <a:ln>
                <a:solidFill>
                  <a:srgbClr val="245e7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54" name="组合 38"/>
            <p:cNvGrpSpPr/>
            <p:nvPr/>
          </p:nvGrpSpPr>
          <p:grpSpPr>
            <a:xfrm>
              <a:off x="3296160" y="2259000"/>
              <a:ext cx="344520" cy="221760"/>
              <a:chOff x="3296160" y="2259000"/>
              <a:chExt cx="344520" cy="221760"/>
            </a:xfrm>
          </p:grpSpPr>
          <p:sp>
            <p:nvSpPr>
              <p:cNvPr id="155" name="流程图: 可选过程 39"/>
              <p:cNvSpPr/>
              <p:nvPr/>
            </p:nvSpPr>
            <p:spPr>
              <a:xfrm flipH="1">
                <a:off x="3296160" y="2313000"/>
                <a:ext cx="95040" cy="140040"/>
              </a:xfrm>
              <a:prstGeom prst="flowChartAlternateProcess">
                <a:avLst/>
              </a:prstGeom>
              <a:solidFill>
                <a:schemeClr val="bg1"/>
              </a:solidFill>
              <a:ln>
                <a:solidFill>
                  <a:srgbClr val="245e7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6" name="流程图: 可选过程 40"/>
              <p:cNvSpPr/>
              <p:nvPr/>
            </p:nvSpPr>
            <p:spPr>
              <a:xfrm flipH="1">
                <a:off x="3545640" y="2276640"/>
                <a:ext cx="95040" cy="194760"/>
              </a:xfrm>
              <a:prstGeom prst="flowChartAlternateProcess">
                <a:avLst/>
              </a:prstGeom>
              <a:solidFill>
                <a:schemeClr val="bg1"/>
              </a:solidFill>
              <a:ln>
                <a:solidFill>
                  <a:srgbClr val="245e7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7" name="流程图: 可选过程 41"/>
              <p:cNvSpPr/>
              <p:nvPr/>
            </p:nvSpPr>
            <p:spPr>
              <a:xfrm flipH="1">
                <a:off x="3366360" y="2272680"/>
                <a:ext cx="95040" cy="194760"/>
              </a:xfrm>
              <a:prstGeom prst="flowChartAlternateProcess">
                <a:avLst/>
              </a:prstGeom>
              <a:solidFill>
                <a:schemeClr val="bg1"/>
              </a:solidFill>
              <a:ln>
                <a:solidFill>
                  <a:srgbClr val="245e7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8" name="流程图: 可选过程 42"/>
              <p:cNvSpPr/>
              <p:nvPr/>
            </p:nvSpPr>
            <p:spPr>
              <a:xfrm flipH="1">
                <a:off x="3440880" y="2259000"/>
                <a:ext cx="120240" cy="221760"/>
              </a:xfrm>
              <a:prstGeom prst="flowChartAlternateProcess">
                <a:avLst/>
              </a:prstGeom>
              <a:solidFill>
                <a:schemeClr val="bg1"/>
              </a:solidFill>
              <a:ln>
                <a:solidFill>
                  <a:srgbClr val="245e7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159" name="直接连接符 44"/>
            <p:cNvCxnSpPr/>
            <p:nvPr/>
          </p:nvCxnSpPr>
          <p:spPr>
            <a:xfrm flipV="1">
              <a:off x="2258640" y="2250720"/>
              <a:ext cx="968760" cy="114480"/>
            </a:xfrm>
            <a:prstGeom prst="straightConnector1">
              <a:avLst/>
            </a:prstGeom>
            <a:ln w="15875">
              <a:solidFill>
                <a:srgbClr val="ffffff"/>
              </a:solidFill>
            </a:ln>
          </p:spPr>
        </p:cxnSp>
        <p:cxnSp>
          <p:nvCxnSpPr>
            <p:cNvPr id="160" name="直接连接符 45"/>
            <p:cNvCxnSpPr/>
            <p:nvPr/>
          </p:nvCxnSpPr>
          <p:spPr>
            <a:xfrm flipV="1">
              <a:off x="2258640" y="2672640"/>
              <a:ext cx="968760" cy="114840"/>
            </a:xfrm>
            <a:prstGeom prst="straightConnector1">
              <a:avLst/>
            </a:prstGeom>
            <a:ln w="15875">
              <a:solidFill>
                <a:srgbClr val="ffffff"/>
              </a:solidFill>
            </a:ln>
          </p:spPr>
        </p:cxnSp>
        <p:sp>
          <p:nvSpPr>
            <p:cNvPr id="161" name="文本框 47"/>
            <p:cNvSpPr/>
            <p:nvPr/>
          </p:nvSpPr>
          <p:spPr>
            <a:xfrm rot="21163200">
              <a:off x="2192040" y="2269080"/>
              <a:ext cx="10954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10"/>
          <p:cNvGrpSpPr/>
          <p:nvPr/>
        </p:nvGrpSpPr>
        <p:grpSpPr>
          <a:xfrm>
            <a:off x="3567960" y="4646160"/>
            <a:ext cx="6587640" cy="750600"/>
            <a:chOff x="3567960" y="4646160"/>
            <a:chExt cx="6587640" cy="750600"/>
          </a:xfrm>
        </p:grpSpPr>
        <p:sp>
          <p:nvSpPr>
            <p:cNvPr id="163" name="任意多边形 11"/>
            <p:cNvSpPr/>
            <p:nvPr/>
          </p:nvSpPr>
          <p:spPr>
            <a:xfrm>
              <a:off x="3567960" y="4646160"/>
              <a:ext cx="525240" cy="75060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751006" h="525704">
                  <a:moveTo>
                    <a:pt x="751006" y="0"/>
                  </a:moveTo>
                  <a:lnTo>
                    <a:pt x="751006" y="341708"/>
                  </a:lnTo>
                  <a:lnTo>
                    <a:pt x="375503" y="525704"/>
                  </a:lnTo>
                  <a:lnTo>
                    <a:pt x="0" y="341708"/>
                  </a:lnTo>
                  <a:lnTo>
                    <a:pt x="0" y="0"/>
                  </a:lnTo>
                  <a:lnTo>
                    <a:pt x="375503" y="183996"/>
                  </a:lnTo>
                  <a:lnTo>
                    <a:pt x="751006" y="0"/>
                  </a:lnTo>
                  <a:close/>
                </a:path>
              </a:pathLst>
            </a:custGeom>
            <a:solidFill>
              <a:srgbClr val="245e76"/>
            </a:solidFill>
            <a:ln>
              <a:solidFill>
                <a:srgbClr val="245e76"/>
              </a:solidFill>
            </a:ln>
            <a:scene3d>
              <a:camera prst="orthographicFront"/>
              <a:lightRig rig="threePt" dir="t"/>
            </a:scene3d>
            <a:sp3d extrusionH="381000" contourW="38100" prstMaterial="matte">
              <a:contourClr>
                <a:schemeClr val="lt1"/>
              </a:contourClr>
            </a:sp3d>
          </p:spPr>
          <p:style>
            <a:lnRef idx="1"/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2600" rIns="12600" tIns="275400" bIns="27540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en-US" sz="2000" spc="-1" strike="noStrike">
                  <a:solidFill>
                    <a:srgbClr val="ec2c5e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任意多边形 12"/>
            <p:cNvSpPr/>
            <p:nvPr/>
          </p:nvSpPr>
          <p:spPr>
            <a:xfrm>
              <a:off x="4093560" y="4646160"/>
              <a:ext cx="6062040" cy="488160"/>
            </a:xfrm>
            <a:custGeom>
              <a:avLst/>
              <a:gdLst>
                <a:gd name="textAreaLeft" fmla="*/ 0 w 6062040"/>
                <a:gd name="textAreaRight" fmla="*/ 6062400 w 606204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88410" h="6062420">
                  <a:moveTo>
                    <a:pt x="488410" y="1010424"/>
                  </a:moveTo>
                  <a:lnTo>
                    <a:pt x="488410" y="5051996"/>
                  </a:lnTo>
                  <a:cubicBezTo>
                    <a:pt x="488410" y="5610039"/>
                    <a:pt x="485474" y="6062414"/>
                    <a:pt x="481852" y="6062414"/>
                  </a:cubicBezTo>
                  <a:lnTo>
                    <a:pt x="0" y="6062414"/>
                  </a:lnTo>
                  <a:lnTo>
                    <a:pt x="0" y="6062414"/>
                  </a:lnTo>
                  <a:lnTo>
                    <a:pt x="0" y="6"/>
                  </a:lnTo>
                  <a:lnTo>
                    <a:pt x="0" y="6"/>
                  </a:lnTo>
                  <a:lnTo>
                    <a:pt x="481852" y="6"/>
                  </a:lnTo>
                  <a:cubicBezTo>
                    <a:pt x="485474" y="6"/>
                    <a:pt x="488410" y="452381"/>
                    <a:pt x="488410" y="1010424"/>
                  </a:cubicBez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ffd47b"/>
              </a:solidFill>
            </a:ln>
            <a:scene3d>
              <a:camera prst="orthographicFront"/>
              <a:lightRig rig="threePt" dir="t"/>
            </a:scene3d>
            <a:sp3d extrusionH="63500" z="-60000" prstMaterial="matte"/>
          </p:spPr>
          <p:style>
            <a:lnRef idx="1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42200" rIns="36720" tIns="36720" bIns="3672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245e76"/>
                </a:buClr>
                <a:buFont typeface="Symbol" charset="2"/>
                <a:buChar char=""/>
              </a:pPr>
              <a:r>
                <a:rPr b="0" lang="en-US" sz="2000" spc="-1" strike="noStrike">
                  <a:solidFill>
                    <a:srgbClr val="245e76"/>
                  </a:solidFill>
                  <a:latin typeface="微软雅黑"/>
                  <a:ea typeface="微软雅黑"/>
                </a:rPr>
                <a:t>Add someth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MH_Text_1"/>
          <p:cNvSpPr/>
          <p:nvPr/>
        </p:nvSpPr>
        <p:spPr>
          <a:xfrm>
            <a:off x="2138760" y="2453760"/>
            <a:ext cx="234432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algn="r">
              <a:lnSpc>
                <a:spcPct val="14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RITE SOMETHING HERE WHATEVER YOUR W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MH_SubTitle_1"/>
          <p:cNvSpPr/>
          <p:nvPr/>
        </p:nvSpPr>
        <p:spPr>
          <a:xfrm>
            <a:off x="2333520" y="1995120"/>
            <a:ext cx="2104560" cy="4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noAutofit/>
          </a:bodyPr>
          <a:p>
            <a:pPr algn="r">
              <a:lnSpc>
                <a:spcPct val="13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MH_Other_1"/>
          <p:cNvSpPr/>
          <p:nvPr/>
        </p:nvSpPr>
        <p:spPr>
          <a:xfrm>
            <a:off x="4483440" y="1848960"/>
            <a:ext cx="2712960" cy="78012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780120"/>
              <a:gd name="textAreaBottom" fmla="*/ 780480 h 780120"/>
            </a:gdLst>
            <a:ahLst/>
            <a:rect l="textAreaLeft" t="textAreaTop" r="textAreaRight" b="textAreaBottom"/>
            <a:pathLst>
              <a:path w="2687800" h="772903">
                <a:moveTo>
                  <a:pt x="1241306" y="389"/>
                </a:moveTo>
                <a:cubicBezTo>
                  <a:pt x="1806378" y="-10775"/>
                  <a:pt x="2344496" y="217062"/>
                  <a:pt x="2687800" y="772903"/>
                </a:cubicBezTo>
                <a:cubicBezTo>
                  <a:pt x="2113249" y="71843"/>
                  <a:pt x="1244639" y="61776"/>
                  <a:pt x="409637" y="522265"/>
                </a:cubicBezTo>
                <a:lnTo>
                  <a:pt x="468629" y="601318"/>
                </a:lnTo>
                <a:lnTo>
                  <a:pt x="0" y="626696"/>
                </a:lnTo>
                <a:lnTo>
                  <a:pt x="185028" y="182706"/>
                </a:lnTo>
                <a:lnTo>
                  <a:pt x="231325" y="259381"/>
                </a:lnTo>
                <a:cubicBezTo>
                  <a:pt x="553517" y="99826"/>
                  <a:pt x="902263" y="7087"/>
                  <a:pt x="1241306" y="389"/>
                </a:cubicBezTo>
                <a:close/>
              </a:path>
            </a:pathLst>
          </a:custGeom>
          <a:gradFill rotWithShape="0">
            <a:gsLst>
              <a:gs pos="0">
                <a:srgbClr val="ec2c5e"/>
              </a:gs>
              <a:gs pos="100000">
                <a:srgbClr val="f9bfce"/>
              </a:gs>
            </a:gsLst>
            <a:lin ang="0"/>
          </a:gra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20000"/>
              </a:lnSpc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8" name="MH_Other_2"/>
          <p:cNvSpPr/>
          <p:nvPr/>
        </p:nvSpPr>
        <p:spPr>
          <a:xfrm>
            <a:off x="5141880" y="4143240"/>
            <a:ext cx="2715120" cy="780120"/>
          </a:xfrm>
          <a:custGeom>
            <a:avLst/>
            <a:gdLst>
              <a:gd name="textAreaLeft" fmla="*/ 0 w 2715120"/>
              <a:gd name="textAreaRight" fmla="*/ 2715480 w 2715120"/>
              <a:gd name="textAreaTop" fmla="*/ 0 h 780120"/>
              <a:gd name="textAreaBottom" fmla="*/ 780480 h 780120"/>
            </a:gdLst>
            <a:ahLst/>
            <a:rect l="textAreaLeft" t="textAreaTop" r="textAreaRight" b="textAreaBottom"/>
            <a:pathLst>
              <a:path w="2687800" h="772904">
                <a:moveTo>
                  <a:pt x="0" y="0"/>
                </a:moveTo>
                <a:cubicBezTo>
                  <a:pt x="574551" y="701060"/>
                  <a:pt x="1443161" y="711127"/>
                  <a:pt x="2278163" y="250638"/>
                </a:cubicBezTo>
                <a:lnTo>
                  <a:pt x="2219171" y="171585"/>
                </a:lnTo>
                <a:lnTo>
                  <a:pt x="2687800" y="146207"/>
                </a:lnTo>
                <a:lnTo>
                  <a:pt x="2502772" y="590197"/>
                </a:lnTo>
                <a:lnTo>
                  <a:pt x="2456475" y="513522"/>
                </a:lnTo>
                <a:cubicBezTo>
                  <a:pt x="1597297" y="939002"/>
                  <a:pt x="549287" y="889345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ec2c5e"/>
              </a:gs>
              <a:gs pos="100000">
                <a:srgbClr val="f9bfce"/>
              </a:gs>
            </a:gsLst>
            <a:lin ang="10800000"/>
          </a:gra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20000"/>
              </a:lnSpc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9" name="MH_PageTitle"/>
          <p:cNvSpPr/>
          <p:nvPr/>
        </p:nvSpPr>
        <p:spPr>
          <a:xfrm>
            <a:off x="4908960" y="2129040"/>
            <a:ext cx="2539800" cy="2539800"/>
          </a:xfrm>
          <a:prstGeom prst="ellipse">
            <a:avLst/>
          </a:prstGeom>
          <a:gradFill rotWithShape="0">
            <a:gsLst>
              <a:gs pos="0">
                <a:srgbClr val="f9bfce"/>
              </a:gs>
              <a:gs pos="100000">
                <a:srgbClr val="ec2c5e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MH_Other_3"/>
          <p:cNvCxnSpPr/>
          <p:nvPr/>
        </p:nvCxnSpPr>
        <p:spPr>
          <a:xfrm>
            <a:off x="2333520" y="2496600"/>
            <a:ext cx="2094120" cy="360"/>
          </a:xfrm>
          <a:prstGeom prst="straightConnector1">
            <a:avLst/>
          </a:prstGeom>
          <a:ln w="25400">
            <a:solidFill>
              <a:srgbClr val="ffd47b"/>
            </a:solidFill>
            <a:prstDash val="dash"/>
          </a:ln>
        </p:spPr>
      </p:cxnSp>
      <p:sp>
        <p:nvSpPr>
          <p:cNvPr id="171" name="MH_SubTitle_2"/>
          <p:cNvSpPr/>
          <p:nvPr/>
        </p:nvSpPr>
        <p:spPr>
          <a:xfrm>
            <a:off x="7796520" y="4336560"/>
            <a:ext cx="2104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lnSpc>
                <a:spcPct val="13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MH_Other_5"/>
          <p:cNvCxnSpPr/>
          <p:nvPr/>
        </p:nvCxnSpPr>
        <p:spPr>
          <a:xfrm>
            <a:off x="7880040" y="4295160"/>
            <a:ext cx="2094480" cy="360"/>
          </a:xfrm>
          <a:prstGeom prst="straightConnector1">
            <a:avLst/>
          </a:prstGeom>
          <a:ln w="25400">
            <a:solidFill>
              <a:srgbClr val="ffd47b"/>
            </a:solidFill>
            <a:prstDash val="dash"/>
          </a:ln>
        </p:spPr>
      </p:cxnSp>
      <p:sp>
        <p:nvSpPr>
          <p:cNvPr id="173" name="MH_Text_2"/>
          <p:cNvSpPr/>
          <p:nvPr/>
        </p:nvSpPr>
        <p:spPr>
          <a:xfrm>
            <a:off x="7601760" y="2447280"/>
            <a:ext cx="234432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spAutoFit/>
          </a:bodyPr>
          <a:p>
            <a:pPr algn="r">
              <a:lnSpc>
                <a:spcPct val="14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RITE SOMETHING HERE WHATEVER YOUR W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32"/>
          <p:cNvGrpSpPr/>
          <p:nvPr/>
        </p:nvGrpSpPr>
        <p:grpSpPr>
          <a:xfrm>
            <a:off x="915480" y="401760"/>
            <a:ext cx="880200" cy="1593000"/>
            <a:chOff x="915480" y="401760"/>
            <a:chExt cx="880200" cy="1593000"/>
          </a:xfrm>
        </p:grpSpPr>
        <p:grpSp>
          <p:nvGrpSpPr>
            <p:cNvPr id="175" name="组合 16"/>
            <p:cNvGrpSpPr/>
            <p:nvPr/>
          </p:nvGrpSpPr>
          <p:grpSpPr>
            <a:xfrm>
              <a:off x="915480" y="401760"/>
              <a:ext cx="880200" cy="1254600"/>
              <a:chOff x="915480" y="401760"/>
              <a:chExt cx="880200" cy="1254600"/>
            </a:xfrm>
          </p:grpSpPr>
          <p:sp>
            <p:nvSpPr>
              <p:cNvPr id="176" name="KSO_Shape"/>
              <p:cNvSpPr/>
              <p:nvPr/>
            </p:nvSpPr>
            <p:spPr>
              <a:xfrm>
                <a:off x="915480" y="401760"/>
                <a:ext cx="880200" cy="1254240"/>
              </a:xfrm>
              <a:custGeom>
                <a:avLst/>
                <a:gdLst>
                  <a:gd name="textAreaLeft" fmla="*/ 0 w 880200"/>
                  <a:gd name="textAreaRight" fmla="*/ 880560 w 88020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1173161" h="1672438">
                    <a:moveTo>
                      <a:pt x="586581" y="0"/>
                    </a:moveTo>
                    <a:cubicBezTo>
                      <a:pt x="736700" y="0"/>
                      <a:pt x="886819" y="57269"/>
                      <a:pt x="1001356" y="171806"/>
                    </a:cubicBezTo>
                    <a:cubicBezTo>
                      <a:pt x="1230430" y="400880"/>
                      <a:pt x="1230430" y="772282"/>
                      <a:pt x="1001356" y="1001357"/>
                    </a:cubicBezTo>
                    <a:cubicBezTo>
                      <a:pt x="820380" y="1182333"/>
                      <a:pt x="682121" y="1406027"/>
                      <a:pt x="586581" y="1672438"/>
                    </a:cubicBezTo>
                    <a:cubicBezTo>
                      <a:pt x="491040" y="1406027"/>
                      <a:pt x="352782" y="1182333"/>
                      <a:pt x="171805" y="1001357"/>
                    </a:cubicBezTo>
                    <a:cubicBezTo>
                      <a:pt x="-57269" y="772282"/>
                      <a:pt x="-57269" y="400880"/>
                      <a:pt x="171805" y="171806"/>
                    </a:cubicBezTo>
                    <a:cubicBezTo>
                      <a:pt x="286343" y="57269"/>
                      <a:pt x="436462" y="0"/>
                      <a:pt x="586581" y="0"/>
                    </a:cubicBezTo>
                    <a:close/>
                  </a:path>
                </a:pathLst>
              </a:custGeom>
              <a:solidFill>
                <a:srgbClr val="ffd47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576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77" name="矩形 15"/>
              <p:cNvSpPr/>
              <p:nvPr/>
            </p:nvSpPr>
            <p:spPr>
              <a:xfrm>
                <a:off x="1205280" y="1465920"/>
                <a:ext cx="300600" cy="190440"/>
              </a:xfrm>
              <a:prstGeom prst="rect">
                <a:avLst/>
              </a:prstGeom>
              <a:solidFill>
                <a:srgbClr val="245e7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78" name="圆角矩形 17"/>
            <p:cNvSpPr/>
            <p:nvPr/>
          </p:nvSpPr>
          <p:spPr>
            <a:xfrm>
              <a:off x="1169280" y="1713600"/>
              <a:ext cx="390600" cy="281160"/>
            </a:xfrm>
            <a:prstGeom prst="roundRect">
              <a:avLst>
                <a:gd name="adj" fmla="val 16667"/>
              </a:avLst>
            </a:prstGeom>
            <a:solidFill>
              <a:srgbClr val="ec2c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9" name="矩形 18"/>
            <p:cNvSpPr/>
            <p:nvPr/>
          </p:nvSpPr>
          <p:spPr>
            <a:xfrm>
              <a:off x="1134720" y="1703880"/>
              <a:ext cx="451800" cy="45000"/>
            </a:xfrm>
            <a:prstGeom prst="rect">
              <a:avLst/>
            </a:prstGeom>
            <a:solidFill>
              <a:srgbClr val="ffd47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80" name="直接连接符 20"/>
            <p:cNvCxnSpPr/>
            <p:nvPr/>
          </p:nvCxnSpPr>
          <p:spPr>
            <a:xfrm flipH="1">
              <a:off x="1143720" y="1460520"/>
              <a:ext cx="131040" cy="253080"/>
            </a:xfrm>
            <a:prstGeom prst="straightConnector1">
              <a:avLst/>
            </a:prstGeom>
            <a:ln>
              <a:solidFill>
                <a:srgbClr val="ec2c5e"/>
              </a:solidFill>
            </a:ln>
          </p:spPr>
        </p:cxnSp>
        <p:cxnSp>
          <p:nvCxnSpPr>
            <p:cNvPr id="181" name="直接连接符 25"/>
            <p:cNvCxnSpPr/>
            <p:nvPr/>
          </p:nvCxnSpPr>
          <p:spPr>
            <a:xfrm>
              <a:off x="1437120" y="1464840"/>
              <a:ext cx="139680" cy="250560"/>
            </a:xfrm>
            <a:prstGeom prst="straightConnector1">
              <a:avLst/>
            </a:prstGeom>
            <a:ln>
              <a:solidFill>
                <a:srgbClr val="ec2c5e"/>
              </a:solidFill>
            </a:ln>
          </p:spPr>
        </p:cxnSp>
        <p:cxnSp>
          <p:nvCxnSpPr>
            <p:cNvPr id="182" name="直接连接符 31"/>
            <p:cNvCxnSpPr>
              <a:stCxn id="177" idx="0"/>
              <a:endCxn id="179" idx="0"/>
            </p:cNvCxnSpPr>
            <p:nvPr/>
          </p:nvCxnSpPr>
          <p:spPr>
            <a:xfrm>
              <a:off x="1355760" y="1465920"/>
              <a:ext cx="5400" cy="238320"/>
            </a:xfrm>
            <a:prstGeom prst="straightConnector1">
              <a:avLst/>
            </a:prstGeom>
            <a:ln>
              <a:solidFill>
                <a:srgbClr val="ec2c5e"/>
              </a:solidFill>
            </a:ln>
          </p:spPr>
        </p:cxnSp>
      </p:grpSp>
      <p:sp>
        <p:nvSpPr>
          <p:cNvPr id="183" name="矩形 33"/>
          <p:cNvSpPr/>
          <p:nvPr/>
        </p:nvSpPr>
        <p:spPr>
          <a:xfrm>
            <a:off x="1095840" y="470880"/>
            <a:ext cx="501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ec2c5e"/>
                </a:solidFill>
                <a:latin typeface="微软雅黑"/>
                <a:ea typeface="微软雅黑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13"/>
          <p:cNvGrpSpPr/>
          <p:nvPr/>
        </p:nvGrpSpPr>
        <p:grpSpPr>
          <a:xfrm>
            <a:off x="915480" y="401760"/>
            <a:ext cx="880200" cy="1593000"/>
            <a:chOff x="915480" y="401760"/>
            <a:chExt cx="880200" cy="1593000"/>
          </a:xfrm>
        </p:grpSpPr>
        <p:grpSp>
          <p:nvGrpSpPr>
            <p:cNvPr id="185" name="组合 14"/>
            <p:cNvGrpSpPr/>
            <p:nvPr/>
          </p:nvGrpSpPr>
          <p:grpSpPr>
            <a:xfrm>
              <a:off x="915480" y="401760"/>
              <a:ext cx="880200" cy="1254600"/>
              <a:chOff x="915480" y="401760"/>
              <a:chExt cx="880200" cy="1254600"/>
            </a:xfrm>
          </p:grpSpPr>
          <p:sp>
            <p:nvSpPr>
              <p:cNvPr id="186" name="KSO_Shape"/>
              <p:cNvSpPr/>
              <p:nvPr/>
            </p:nvSpPr>
            <p:spPr>
              <a:xfrm>
                <a:off x="915480" y="401760"/>
                <a:ext cx="880200" cy="1254240"/>
              </a:xfrm>
              <a:custGeom>
                <a:avLst/>
                <a:gdLst>
                  <a:gd name="textAreaLeft" fmla="*/ 0 w 880200"/>
                  <a:gd name="textAreaRight" fmla="*/ 880560 w 88020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1173161" h="1672438">
                    <a:moveTo>
                      <a:pt x="586581" y="0"/>
                    </a:moveTo>
                    <a:cubicBezTo>
                      <a:pt x="736700" y="0"/>
                      <a:pt x="886819" y="57269"/>
                      <a:pt x="1001356" y="171806"/>
                    </a:cubicBezTo>
                    <a:cubicBezTo>
                      <a:pt x="1230430" y="400880"/>
                      <a:pt x="1230430" y="772282"/>
                      <a:pt x="1001356" y="1001357"/>
                    </a:cubicBezTo>
                    <a:cubicBezTo>
                      <a:pt x="820380" y="1182333"/>
                      <a:pt x="682121" y="1406027"/>
                      <a:pt x="586581" y="1672438"/>
                    </a:cubicBezTo>
                    <a:cubicBezTo>
                      <a:pt x="491040" y="1406027"/>
                      <a:pt x="352782" y="1182333"/>
                      <a:pt x="171805" y="1001357"/>
                    </a:cubicBezTo>
                    <a:cubicBezTo>
                      <a:pt x="-57269" y="772282"/>
                      <a:pt x="-57269" y="400880"/>
                      <a:pt x="171805" y="171806"/>
                    </a:cubicBezTo>
                    <a:cubicBezTo>
                      <a:pt x="286343" y="57269"/>
                      <a:pt x="436462" y="0"/>
                      <a:pt x="586581" y="0"/>
                    </a:cubicBezTo>
                    <a:close/>
                  </a:path>
                </a:pathLst>
              </a:custGeom>
              <a:solidFill>
                <a:srgbClr val="ffd47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576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87" name="矩形 21"/>
              <p:cNvSpPr/>
              <p:nvPr/>
            </p:nvSpPr>
            <p:spPr>
              <a:xfrm>
                <a:off x="1205280" y="1465920"/>
                <a:ext cx="300600" cy="190440"/>
              </a:xfrm>
              <a:prstGeom prst="rect">
                <a:avLst/>
              </a:prstGeom>
              <a:solidFill>
                <a:srgbClr val="245e7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88" name="圆角矩形 15"/>
            <p:cNvSpPr/>
            <p:nvPr/>
          </p:nvSpPr>
          <p:spPr>
            <a:xfrm>
              <a:off x="1169280" y="1713600"/>
              <a:ext cx="390600" cy="281160"/>
            </a:xfrm>
            <a:prstGeom prst="roundRect">
              <a:avLst>
                <a:gd name="adj" fmla="val 16667"/>
              </a:avLst>
            </a:prstGeom>
            <a:solidFill>
              <a:srgbClr val="ec2c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9" name="矩形 16"/>
            <p:cNvSpPr/>
            <p:nvPr/>
          </p:nvSpPr>
          <p:spPr>
            <a:xfrm>
              <a:off x="1134720" y="1703880"/>
              <a:ext cx="451800" cy="45000"/>
            </a:xfrm>
            <a:prstGeom prst="rect">
              <a:avLst/>
            </a:prstGeom>
            <a:solidFill>
              <a:srgbClr val="ffd47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90" name="直接连接符 17"/>
            <p:cNvCxnSpPr/>
            <p:nvPr/>
          </p:nvCxnSpPr>
          <p:spPr>
            <a:xfrm flipH="1">
              <a:off x="1143720" y="1460520"/>
              <a:ext cx="131040" cy="253080"/>
            </a:xfrm>
            <a:prstGeom prst="straightConnector1">
              <a:avLst/>
            </a:prstGeom>
            <a:ln>
              <a:solidFill>
                <a:srgbClr val="ec2c5e"/>
              </a:solidFill>
            </a:ln>
          </p:spPr>
        </p:cxnSp>
        <p:cxnSp>
          <p:nvCxnSpPr>
            <p:cNvPr id="191" name="直接连接符 18"/>
            <p:cNvCxnSpPr/>
            <p:nvPr/>
          </p:nvCxnSpPr>
          <p:spPr>
            <a:xfrm>
              <a:off x="1437120" y="1464840"/>
              <a:ext cx="139680" cy="250560"/>
            </a:xfrm>
            <a:prstGeom prst="straightConnector1">
              <a:avLst/>
            </a:prstGeom>
            <a:ln>
              <a:solidFill>
                <a:srgbClr val="ec2c5e"/>
              </a:solidFill>
            </a:ln>
          </p:spPr>
        </p:cxnSp>
        <p:cxnSp>
          <p:nvCxnSpPr>
            <p:cNvPr id="192" name="直接连接符 19"/>
            <p:cNvCxnSpPr>
              <a:stCxn id="187" idx="0"/>
              <a:endCxn id="189" idx="0"/>
            </p:cNvCxnSpPr>
            <p:nvPr/>
          </p:nvCxnSpPr>
          <p:spPr>
            <a:xfrm>
              <a:off x="1355760" y="1465920"/>
              <a:ext cx="5400" cy="238320"/>
            </a:xfrm>
            <a:prstGeom prst="straightConnector1">
              <a:avLst/>
            </a:prstGeom>
            <a:ln>
              <a:solidFill>
                <a:srgbClr val="ec2c5e"/>
              </a:solidFill>
            </a:ln>
          </p:spPr>
        </p:cxnSp>
      </p:grpSp>
      <p:sp>
        <p:nvSpPr>
          <p:cNvPr id="193" name="矩形 22"/>
          <p:cNvSpPr/>
          <p:nvPr/>
        </p:nvSpPr>
        <p:spPr>
          <a:xfrm>
            <a:off x="1095840" y="470880"/>
            <a:ext cx="501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ec2c5e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任意多边形 107"/>
          <p:cNvSpPr/>
          <p:nvPr/>
        </p:nvSpPr>
        <p:spPr>
          <a:xfrm>
            <a:off x="1397160" y="1648080"/>
            <a:ext cx="10654920" cy="4635720"/>
          </a:xfrm>
          <a:custGeom>
            <a:avLst/>
            <a:gdLst>
              <a:gd name="textAreaLeft" fmla="*/ 0 w 10654920"/>
              <a:gd name="textAreaRight" fmla="*/ 10655280 w 10654920"/>
              <a:gd name="textAreaTop" fmla="*/ 0 h 4635720"/>
              <a:gd name="textAreaBottom" fmla="*/ 4636080 h 4635720"/>
            </a:gdLst>
            <a:ahLst/>
            <a:rect l="textAreaLeft" t="textAreaTop" r="textAreaRight" b="textAreaBottom"/>
            <a:pathLst>
              <a:path w="10655300" h="4636190">
                <a:moveTo>
                  <a:pt x="0" y="72659"/>
                </a:moveTo>
                <a:cubicBezTo>
                  <a:pt x="195792" y="-110962"/>
                  <a:pt x="506942" y="36041"/>
                  <a:pt x="603250" y="714009"/>
                </a:cubicBezTo>
                <a:cubicBezTo>
                  <a:pt x="699558" y="1391977"/>
                  <a:pt x="65617" y="3502294"/>
                  <a:pt x="577850" y="4140469"/>
                </a:cubicBezTo>
                <a:cubicBezTo>
                  <a:pt x="1090083" y="4778644"/>
                  <a:pt x="2672292" y="4661169"/>
                  <a:pt x="3676650" y="4543059"/>
                </a:cubicBezTo>
                <a:cubicBezTo>
                  <a:pt x="4681008" y="4424949"/>
                  <a:pt x="5680075" y="3456151"/>
                  <a:pt x="6604000" y="3431809"/>
                </a:cubicBezTo>
                <a:cubicBezTo>
                  <a:pt x="7527925" y="3407467"/>
                  <a:pt x="8544983" y="4291176"/>
                  <a:pt x="9220200" y="4397009"/>
                </a:cubicBezTo>
                <a:cubicBezTo>
                  <a:pt x="9895417" y="4502842"/>
                  <a:pt x="10276416" y="4128192"/>
                  <a:pt x="10655300" y="4066809"/>
                </a:cubicBezTo>
              </a:path>
            </a:pathLst>
          </a:custGeom>
          <a:noFill/>
          <a:ln w="25400">
            <a:solidFill>
              <a:srgbClr val="ffd47b"/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95" name="组合 110"/>
          <p:cNvGrpSpPr/>
          <p:nvPr/>
        </p:nvGrpSpPr>
        <p:grpSpPr>
          <a:xfrm>
            <a:off x="1902600" y="1992960"/>
            <a:ext cx="4133520" cy="3589920"/>
            <a:chOff x="1902600" y="1992960"/>
            <a:chExt cx="4133520" cy="3589920"/>
          </a:xfrm>
        </p:grpSpPr>
        <p:sp>
          <p:nvSpPr>
            <p:cNvPr id="196" name="等腰三角形 108"/>
            <p:cNvSpPr/>
            <p:nvPr/>
          </p:nvSpPr>
          <p:spPr>
            <a:xfrm rot="16820400">
              <a:off x="2012400" y="2023920"/>
              <a:ext cx="821160" cy="908280"/>
            </a:xfrm>
            <a:custGeom>
              <a:avLst/>
              <a:gdLst>
                <a:gd name="textAreaLeft" fmla="*/ 0 w 821160"/>
                <a:gd name="textAreaRight" fmla="*/ 821520 w 82116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821510" h="908795">
                  <a:moveTo>
                    <a:pt x="0" y="626042"/>
                  </a:moveTo>
                  <a:lnTo>
                    <a:pt x="427786" y="0"/>
                  </a:lnTo>
                  <a:lnTo>
                    <a:pt x="821510" y="908795"/>
                  </a:lnTo>
                  <a:lnTo>
                    <a:pt x="0" y="626042"/>
                  </a:lnTo>
                  <a:close/>
                </a:path>
              </a:pathLst>
            </a:custGeom>
            <a:gradFill rotWithShape="0">
              <a:gsLst>
                <a:gs pos="0">
                  <a:srgbClr val="ffeecd">
                    <a:alpha val="6274"/>
                  </a:srgbClr>
                </a:gs>
                <a:gs pos="100000">
                  <a:srgbClr val="ffd47b"/>
                </a:gs>
              </a:gsLst>
              <a:lin ang="11418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7" name="圆角矩形 105"/>
            <p:cNvSpPr/>
            <p:nvPr/>
          </p:nvSpPr>
          <p:spPr>
            <a:xfrm>
              <a:off x="2484000" y="2142000"/>
              <a:ext cx="3552120" cy="3440880"/>
            </a:xfrm>
            <a:prstGeom prst="roundRect">
              <a:avLst>
                <a:gd name="adj" fmla="val 16667"/>
              </a:avLst>
            </a:prstGeom>
            <a:solidFill>
              <a:srgbClr val="245e76"/>
            </a:solidFill>
            <a:ln w="25400">
              <a:solidFill>
                <a:srgbClr val="ec2c5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"/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</a:rPr>
                <a:t>Say something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"/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</a:rPr>
                <a:t>Say something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"/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</a:rPr>
                <a:t>Say something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"/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</a:rPr>
                <a:t>Say something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84"/>
            <p:cNvSpPr/>
            <p:nvPr/>
          </p:nvSpPr>
          <p:spPr>
            <a:xfrm>
              <a:off x="1919160" y="2272320"/>
              <a:ext cx="175320" cy="175320"/>
            </a:xfrm>
            <a:prstGeom prst="ellipse">
              <a:avLst/>
            </a:prstGeom>
            <a:solidFill>
              <a:srgbClr val="245e76"/>
            </a:solidFill>
            <a:ln w="25400">
              <a:solidFill>
                <a:srgbClr val="ec2c5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99" name="组合 111"/>
          <p:cNvGrpSpPr/>
          <p:nvPr/>
        </p:nvGrpSpPr>
        <p:grpSpPr>
          <a:xfrm>
            <a:off x="7805880" y="1240560"/>
            <a:ext cx="3760200" cy="4011480"/>
            <a:chOff x="7805880" y="1240560"/>
            <a:chExt cx="3760200" cy="4011480"/>
          </a:xfrm>
        </p:grpSpPr>
        <p:sp>
          <p:nvSpPr>
            <p:cNvPr id="200" name="等腰三角形 108"/>
            <p:cNvSpPr/>
            <p:nvPr/>
          </p:nvSpPr>
          <p:spPr>
            <a:xfrm rot="11609400">
              <a:off x="7903080" y="4220640"/>
              <a:ext cx="882360" cy="94140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882654" h="941758">
                  <a:moveTo>
                    <a:pt x="0" y="602360"/>
                  </a:moveTo>
                  <a:lnTo>
                    <a:pt x="667133" y="0"/>
                  </a:lnTo>
                  <a:lnTo>
                    <a:pt x="882654" y="941758"/>
                  </a:lnTo>
                  <a:lnTo>
                    <a:pt x="0" y="602360"/>
                  </a:lnTo>
                  <a:close/>
                </a:path>
              </a:pathLst>
            </a:custGeom>
            <a:gradFill rotWithShape="0">
              <a:gsLst>
                <a:gs pos="0">
                  <a:srgbClr val="ffeecd">
                    <a:alpha val="6274"/>
                  </a:srgbClr>
                </a:gs>
                <a:gs pos="100000">
                  <a:srgbClr val="ffd47b">
                    <a:alpha val="91372"/>
                  </a:srgbClr>
                </a:gs>
              </a:gsLst>
              <a:lin ang="6204000"/>
            </a:gra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1" name="椭圆 112"/>
            <p:cNvSpPr/>
            <p:nvPr/>
          </p:nvSpPr>
          <p:spPr>
            <a:xfrm>
              <a:off x="7926120" y="4964400"/>
              <a:ext cx="175320" cy="175320"/>
            </a:xfrm>
            <a:prstGeom prst="ellipse">
              <a:avLst/>
            </a:prstGeom>
            <a:solidFill>
              <a:srgbClr val="245e76"/>
            </a:solidFill>
            <a:ln w="25400">
              <a:solidFill>
                <a:srgbClr val="ec2c5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2" name="圆角矩形 113"/>
            <p:cNvSpPr/>
            <p:nvPr/>
          </p:nvSpPr>
          <p:spPr>
            <a:xfrm>
              <a:off x="8013960" y="1240560"/>
              <a:ext cx="3552120" cy="3440880"/>
            </a:xfrm>
            <a:prstGeom prst="roundRect">
              <a:avLst>
                <a:gd name="adj" fmla="val 16667"/>
              </a:avLst>
            </a:prstGeom>
            <a:solidFill>
              <a:srgbClr val="245e76"/>
            </a:solidFill>
            <a:ln w="25400">
              <a:solidFill>
                <a:srgbClr val="ec2c5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"/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</a:rPr>
                <a:t>Say something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"/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</a:rPr>
                <a:t>Say something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"/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</a:rPr>
                <a:t>Say something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"/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</a:rPr>
                <a:t>Say something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109"/>
          <p:cNvSpPr/>
          <p:nvPr/>
        </p:nvSpPr>
        <p:spPr>
          <a:xfrm rot="470400">
            <a:off x="1287000" y="2837160"/>
            <a:ext cx="73836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MH_Title_1"/>
          <p:cNvSpPr/>
          <p:nvPr/>
        </p:nvSpPr>
        <p:spPr>
          <a:xfrm rot="20014200">
            <a:off x="5163120" y="2591280"/>
            <a:ext cx="1921320" cy="1929240"/>
          </a:xfrm>
          <a:prstGeom prst="rect">
            <a:avLst/>
          </a:prstGeom>
          <a:solidFill>
            <a:srgbClr val="ec2c5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MH_Other_1"/>
          <p:cNvSpPr/>
          <p:nvPr/>
        </p:nvSpPr>
        <p:spPr>
          <a:xfrm>
            <a:off x="4480200" y="2415960"/>
            <a:ext cx="326520" cy="326520"/>
          </a:xfrm>
          <a:prstGeom prst="rect">
            <a:avLst/>
          </a:prstGeom>
          <a:solidFill>
            <a:srgbClr val="245e76"/>
          </a:solidFill>
          <a:ln w="25400">
            <a:solidFill>
              <a:srgbClr val="ffd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MH_Other_2"/>
          <p:cNvSpPr/>
          <p:nvPr/>
        </p:nvSpPr>
        <p:spPr>
          <a:xfrm>
            <a:off x="6892200" y="1892160"/>
            <a:ext cx="326520" cy="326520"/>
          </a:xfrm>
          <a:prstGeom prst="rect">
            <a:avLst/>
          </a:prstGeom>
          <a:solidFill>
            <a:srgbClr val="245e76"/>
          </a:solidFill>
          <a:ln w="25400">
            <a:solidFill>
              <a:srgbClr val="ffd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MH_Other_3"/>
          <p:cNvSpPr/>
          <p:nvPr/>
        </p:nvSpPr>
        <p:spPr>
          <a:xfrm>
            <a:off x="7431480" y="4333680"/>
            <a:ext cx="326520" cy="326520"/>
          </a:xfrm>
          <a:prstGeom prst="rect">
            <a:avLst/>
          </a:prstGeom>
          <a:solidFill>
            <a:srgbClr val="245e76"/>
          </a:solidFill>
          <a:ln w="25400">
            <a:solidFill>
              <a:srgbClr val="ffd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MH_Other_4"/>
          <p:cNvSpPr/>
          <p:nvPr/>
        </p:nvSpPr>
        <p:spPr>
          <a:xfrm>
            <a:off x="4976280" y="4885200"/>
            <a:ext cx="326520" cy="328320"/>
          </a:xfrm>
          <a:prstGeom prst="rect">
            <a:avLst/>
          </a:prstGeom>
          <a:solidFill>
            <a:srgbClr val="245e76"/>
          </a:solidFill>
          <a:ln w="25400">
            <a:solidFill>
              <a:srgbClr val="ffd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MH_Other_5"/>
          <p:cNvSpPr/>
          <p:nvPr/>
        </p:nvSpPr>
        <p:spPr>
          <a:xfrm rot="9198000">
            <a:off x="6197400" y="4451760"/>
            <a:ext cx="2190960" cy="2405880"/>
          </a:xfrm>
          <a:custGeom>
            <a:avLst/>
            <a:gdLst>
              <a:gd name="textAreaLeft" fmla="*/ 0 w 2190960"/>
              <a:gd name="textAreaRight" fmla="*/ 2191320 w 2190960"/>
              <a:gd name="textAreaTop" fmla="*/ 0 h 2405880"/>
              <a:gd name="textAreaBottom" fmla="*/ 2406240 h 2405880"/>
            </a:gdLst>
            <a:ahLst/>
            <a:rect l="textAreaLeft" t="textAreaTop" r="textAreaRight" b="textAreaBottom"/>
            <a:pathLst>
              <a:path w="820" h="819">
                <a:moveTo>
                  <a:pt x="0" y="0"/>
                </a:moveTo>
                <a:lnTo>
                  <a:pt x="0" y="819"/>
                </a:lnTo>
                <a:lnTo>
                  <a:pt x="820" y="819"/>
                </a:lnTo>
              </a:path>
            </a:pathLst>
          </a:custGeom>
          <a:noFill/>
          <a:ln w="22225">
            <a:solidFill>
              <a:srgbClr val="ffd47b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</a:pPr>
            <a:endParaRPr b="1" lang="en-US" sz="98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MH_Other_6"/>
          <p:cNvSpPr/>
          <p:nvPr/>
        </p:nvSpPr>
        <p:spPr>
          <a:xfrm rot="14598000">
            <a:off x="2917440" y="3529800"/>
            <a:ext cx="2193120" cy="2403720"/>
          </a:xfrm>
          <a:custGeom>
            <a:avLst/>
            <a:gdLst>
              <a:gd name="textAreaLeft" fmla="*/ 0 w 2193120"/>
              <a:gd name="textAreaRight" fmla="*/ 2193480 w 2193120"/>
              <a:gd name="textAreaTop" fmla="*/ 0 h 2403720"/>
              <a:gd name="textAreaBottom" fmla="*/ 2404080 h 2403720"/>
            </a:gdLst>
            <a:ahLst/>
            <a:rect l="textAreaLeft" t="textAreaTop" r="textAreaRight" b="textAreaBottom"/>
            <a:pathLst>
              <a:path w="820" h="819">
                <a:moveTo>
                  <a:pt x="0" y="0"/>
                </a:moveTo>
                <a:lnTo>
                  <a:pt x="0" y="819"/>
                </a:lnTo>
                <a:lnTo>
                  <a:pt x="820" y="819"/>
                </a:lnTo>
              </a:path>
            </a:pathLst>
          </a:custGeom>
          <a:noFill/>
          <a:ln w="22225">
            <a:solidFill>
              <a:srgbClr val="ffd47b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</a:pPr>
            <a:endParaRPr b="1" lang="en-US" sz="98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MH_Other_7"/>
          <p:cNvSpPr/>
          <p:nvPr/>
        </p:nvSpPr>
        <p:spPr>
          <a:xfrm flipH="1" rot="3798000">
            <a:off x="3726720" y="365760"/>
            <a:ext cx="2407680" cy="2173320"/>
          </a:xfrm>
          <a:custGeom>
            <a:avLst/>
            <a:gdLst>
              <a:gd name="textAreaLeft" fmla="*/ 360 w 2407680"/>
              <a:gd name="textAreaRight" fmla="*/ 2408400 w 2407680"/>
              <a:gd name="textAreaTop" fmla="*/ 0 h 2173320"/>
              <a:gd name="textAreaBottom" fmla="*/ 2173680 h 2173320"/>
            </a:gdLst>
            <a:ahLst/>
            <a:rect l="textAreaLeft" t="textAreaTop" r="textAreaRight" b="textAreaBottom"/>
            <a:pathLst>
              <a:path w="820" h="819">
                <a:moveTo>
                  <a:pt x="0" y="0"/>
                </a:moveTo>
                <a:lnTo>
                  <a:pt x="0" y="819"/>
                </a:lnTo>
                <a:lnTo>
                  <a:pt x="820" y="819"/>
                </a:lnTo>
              </a:path>
            </a:pathLst>
          </a:custGeom>
          <a:noFill/>
          <a:ln w="22225">
            <a:solidFill>
              <a:srgbClr val="ffd47b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</a:pPr>
            <a:endParaRPr b="1" lang="en-US" sz="98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MH_Other_8"/>
          <p:cNvSpPr/>
          <p:nvPr/>
        </p:nvSpPr>
        <p:spPr>
          <a:xfrm flipH="1" flipV="1" rot="14598000">
            <a:off x="7115040" y="1172520"/>
            <a:ext cx="2187000" cy="2406240"/>
          </a:xfrm>
          <a:custGeom>
            <a:avLst/>
            <a:gdLst>
              <a:gd name="textAreaLeft" fmla="*/ -360 w 2187000"/>
              <a:gd name="textAreaRight" fmla="*/ 2187000 w 2187000"/>
              <a:gd name="textAreaTop" fmla="*/ 360 h 2406240"/>
              <a:gd name="textAreaBottom" fmla="*/ 2406960 h 2406240"/>
            </a:gdLst>
            <a:ahLst/>
            <a:rect l="textAreaLeft" t="textAreaTop" r="textAreaRight" b="textAreaBottom"/>
            <a:pathLst>
              <a:path w="820" h="819">
                <a:moveTo>
                  <a:pt x="0" y="0"/>
                </a:moveTo>
                <a:lnTo>
                  <a:pt x="0" y="819"/>
                </a:lnTo>
                <a:lnTo>
                  <a:pt x="820" y="819"/>
                </a:lnTo>
              </a:path>
            </a:pathLst>
          </a:custGeom>
          <a:noFill/>
          <a:ln w="22225">
            <a:solidFill>
              <a:srgbClr val="ffd47b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</a:pPr>
            <a:endParaRPr b="1" lang="en-US" sz="98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MH_SubTitle_2"/>
          <p:cNvSpPr/>
          <p:nvPr/>
        </p:nvSpPr>
        <p:spPr>
          <a:xfrm>
            <a:off x="7384320" y="1713240"/>
            <a:ext cx="286452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MH_SubTitle_1"/>
          <p:cNvSpPr/>
          <p:nvPr/>
        </p:nvSpPr>
        <p:spPr>
          <a:xfrm>
            <a:off x="4086360" y="1035720"/>
            <a:ext cx="25239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MH_SubTitle_3"/>
          <p:cNvSpPr/>
          <p:nvPr/>
        </p:nvSpPr>
        <p:spPr>
          <a:xfrm>
            <a:off x="5850360" y="5123160"/>
            <a:ext cx="23878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MH_SubTitle_4"/>
          <p:cNvSpPr/>
          <p:nvPr/>
        </p:nvSpPr>
        <p:spPr>
          <a:xfrm>
            <a:off x="1969560" y="4186080"/>
            <a:ext cx="293148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16"/>
          <p:cNvGrpSpPr/>
          <p:nvPr/>
        </p:nvGrpSpPr>
        <p:grpSpPr>
          <a:xfrm>
            <a:off x="915480" y="401760"/>
            <a:ext cx="880200" cy="1593000"/>
            <a:chOff x="915480" y="401760"/>
            <a:chExt cx="880200" cy="1593000"/>
          </a:xfrm>
        </p:grpSpPr>
        <p:grpSp>
          <p:nvGrpSpPr>
            <p:cNvPr id="218" name="组合 17"/>
            <p:cNvGrpSpPr/>
            <p:nvPr/>
          </p:nvGrpSpPr>
          <p:grpSpPr>
            <a:xfrm>
              <a:off x="915480" y="401760"/>
              <a:ext cx="880200" cy="1254600"/>
              <a:chOff x="915480" y="401760"/>
              <a:chExt cx="880200" cy="1254600"/>
            </a:xfrm>
          </p:grpSpPr>
          <p:sp>
            <p:nvSpPr>
              <p:cNvPr id="219" name="KSO_Shape"/>
              <p:cNvSpPr/>
              <p:nvPr/>
            </p:nvSpPr>
            <p:spPr>
              <a:xfrm>
                <a:off x="915480" y="401760"/>
                <a:ext cx="880200" cy="1254240"/>
              </a:xfrm>
              <a:custGeom>
                <a:avLst/>
                <a:gdLst>
                  <a:gd name="textAreaLeft" fmla="*/ 0 w 880200"/>
                  <a:gd name="textAreaRight" fmla="*/ 880560 w 88020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1173161" h="1672438">
                    <a:moveTo>
                      <a:pt x="586581" y="0"/>
                    </a:moveTo>
                    <a:cubicBezTo>
                      <a:pt x="736700" y="0"/>
                      <a:pt x="886819" y="57269"/>
                      <a:pt x="1001356" y="171806"/>
                    </a:cubicBezTo>
                    <a:cubicBezTo>
                      <a:pt x="1230430" y="400880"/>
                      <a:pt x="1230430" y="772282"/>
                      <a:pt x="1001356" y="1001357"/>
                    </a:cubicBezTo>
                    <a:cubicBezTo>
                      <a:pt x="820380" y="1182333"/>
                      <a:pt x="682121" y="1406027"/>
                      <a:pt x="586581" y="1672438"/>
                    </a:cubicBezTo>
                    <a:cubicBezTo>
                      <a:pt x="491040" y="1406027"/>
                      <a:pt x="352782" y="1182333"/>
                      <a:pt x="171805" y="1001357"/>
                    </a:cubicBezTo>
                    <a:cubicBezTo>
                      <a:pt x="-57269" y="772282"/>
                      <a:pt x="-57269" y="400880"/>
                      <a:pt x="171805" y="171806"/>
                    </a:cubicBezTo>
                    <a:cubicBezTo>
                      <a:pt x="286343" y="57269"/>
                      <a:pt x="436462" y="0"/>
                      <a:pt x="586581" y="0"/>
                    </a:cubicBezTo>
                    <a:close/>
                  </a:path>
                </a:pathLst>
              </a:custGeom>
              <a:solidFill>
                <a:srgbClr val="ffd47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576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20" name="矩形 24"/>
              <p:cNvSpPr/>
              <p:nvPr/>
            </p:nvSpPr>
            <p:spPr>
              <a:xfrm>
                <a:off x="1205280" y="1465920"/>
                <a:ext cx="300600" cy="190440"/>
              </a:xfrm>
              <a:prstGeom prst="rect">
                <a:avLst/>
              </a:prstGeom>
              <a:solidFill>
                <a:srgbClr val="245e7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21" name="圆角矩形 18"/>
            <p:cNvSpPr/>
            <p:nvPr/>
          </p:nvSpPr>
          <p:spPr>
            <a:xfrm>
              <a:off x="1169280" y="1713600"/>
              <a:ext cx="390600" cy="281160"/>
            </a:xfrm>
            <a:prstGeom prst="roundRect">
              <a:avLst>
                <a:gd name="adj" fmla="val 16667"/>
              </a:avLst>
            </a:prstGeom>
            <a:solidFill>
              <a:srgbClr val="ec2c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2" name="矩形 19"/>
            <p:cNvSpPr/>
            <p:nvPr/>
          </p:nvSpPr>
          <p:spPr>
            <a:xfrm>
              <a:off x="1134720" y="1703880"/>
              <a:ext cx="451800" cy="45000"/>
            </a:xfrm>
            <a:prstGeom prst="rect">
              <a:avLst/>
            </a:prstGeom>
            <a:solidFill>
              <a:srgbClr val="ffd47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23" name="直接连接符 20"/>
            <p:cNvCxnSpPr/>
            <p:nvPr/>
          </p:nvCxnSpPr>
          <p:spPr>
            <a:xfrm flipH="1">
              <a:off x="1143720" y="1460520"/>
              <a:ext cx="131040" cy="253080"/>
            </a:xfrm>
            <a:prstGeom prst="straightConnector1">
              <a:avLst/>
            </a:prstGeom>
            <a:ln>
              <a:solidFill>
                <a:srgbClr val="ec2c5e"/>
              </a:solidFill>
            </a:ln>
          </p:spPr>
        </p:cxnSp>
        <p:cxnSp>
          <p:nvCxnSpPr>
            <p:cNvPr id="224" name="直接连接符 21"/>
            <p:cNvCxnSpPr/>
            <p:nvPr/>
          </p:nvCxnSpPr>
          <p:spPr>
            <a:xfrm>
              <a:off x="1437120" y="1464840"/>
              <a:ext cx="139680" cy="250560"/>
            </a:xfrm>
            <a:prstGeom prst="straightConnector1">
              <a:avLst/>
            </a:prstGeom>
            <a:ln>
              <a:solidFill>
                <a:srgbClr val="ec2c5e"/>
              </a:solidFill>
            </a:ln>
          </p:spPr>
        </p:cxnSp>
        <p:cxnSp>
          <p:nvCxnSpPr>
            <p:cNvPr id="225" name="直接连接符 22"/>
            <p:cNvCxnSpPr>
              <a:stCxn id="220" idx="0"/>
              <a:endCxn id="222" idx="0"/>
            </p:cNvCxnSpPr>
            <p:nvPr/>
          </p:nvCxnSpPr>
          <p:spPr>
            <a:xfrm>
              <a:off x="1355760" y="1465920"/>
              <a:ext cx="5400" cy="238320"/>
            </a:xfrm>
            <a:prstGeom prst="straightConnector1">
              <a:avLst/>
            </a:prstGeom>
            <a:ln>
              <a:solidFill>
                <a:srgbClr val="ec2c5e"/>
              </a:solidFill>
            </a:ln>
          </p:spPr>
        </p:cxnSp>
      </p:grpSp>
      <p:sp>
        <p:nvSpPr>
          <p:cNvPr id="226" name="矩形 25"/>
          <p:cNvSpPr/>
          <p:nvPr/>
        </p:nvSpPr>
        <p:spPr>
          <a:xfrm>
            <a:off x="1095840" y="470880"/>
            <a:ext cx="501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ec2c5e"/>
                </a:solidFill>
                <a:latin typeface="微软雅黑"/>
                <a:ea typeface="微软雅黑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74640" y="62492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组合 2"/>
          <p:cNvGrpSpPr/>
          <p:nvPr/>
        </p:nvGrpSpPr>
        <p:grpSpPr>
          <a:xfrm>
            <a:off x="4281120" y="1279440"/>
            <a:ext cx="1204560" cy="574920"/>
            <a:chOff x="4281120" y="1279440"/>
            <a:chExt cx="1204560" cy="574920"/>
          </a:xfrm>
        </p:grpSpPr>
        <p:sp>
          <p:nvSpPr>
            <p:cNvPr id="229" name="MH_Other_5"/>
            <p:cNvSpPr/>
            <p:nvPr/>
          </p:nvSpPr>
          <p:spPr>
            <a:xfrm>
              <a:off x="4281120" y="1279440"/>
              <a:ext cx="485640" cy="485640"/>
            </a:xfrm>
            <a:prstGeom prst="ellipse">
              <a:avLst/>
            </a:prstGeom>
            <a:solidFill>
              <a:srgbClr val="ffffff"/>
            </a:solidFill>
            <a:ln w="57150">
              <a:solidFill>
                <a:srgbClr val="ffd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700" spc="-1" strike="noStrike">
                  <a:solidFill>
                    <a:srgbClr val="245e76"/>
                  </a:solidFill>
                  <a:latin typeface="Agency FB"/>
                  <a:ea typeface="微软雅黑"/>
                </a:rPr>
                <a:t>0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0" name="MH_Other_6"/>
            <p:cNvCxnSpPr/>
            <p:nvPr/>
          </p:nvCxnSpPr>
          <p:spPr>
            <a:xfrm>
              <a:off x="4837680" y="1584360"/>
              <a:ext cx="648360" cy="270360"/>
            </a:xfrm>
            <a:prstGeom prst="straightConnector1">
              <a:avLst/>
            </a:prstGeom>
            <a:ln w="38100">
              <a:solidFill>
                <a:srgbClr val="ffd47b"/>
              </a:solidFill>
              <a:prstDash val="dash"/>
              <a:round/>
            </a:ln>
          </p:spPr>
        </p:cxnSp>
      </p:grpSp>
      <p:grpSp>
        <p:nvGrpSpPr>
          <p:cNvPr id="231" name="组合 6"/>
          <p:cNvGrpSpPr/>
          <p:nvPr/>
        </p:nvGrpSpPr>
        <p:grpSpPr>
          <a:xfrm>
            <a:off x="7543080" y="1279440"/>
            <a:ext cx="1208880" cy="537840"/>
            <a:chOff x="7543080" y="1279440"/>
            <a:chExt cx="1208880" cy="537840"/>
          </a:xfrm>
        </p:grpSpPr>
        <p:sp>
          <p:nvSpPr>
            <p:cNvPr id="232" name="MH_Other_7"/>
            <p:cNvSpPr/>
            <p:nvPr/>
          </p:nvSpPr>
          <p:spPr>
            <a:xfrm>
              <a:off x="8266320" y="1279440"/>
              <a:ext cx="485640" cy="485640"/>
            </a:xfrm>
            <a:prstGeom prst="ellipse">
              <a:avLst/>
            </a:prstGeom>
            <a:solidFill>
              <a:srgbClr val="ffffff"/>
            </a:solidFill>
            <a:ln w="57150">
              <a:solidFill>
                <a:srgbClr val="ffd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700" spc="-1" strike="noStrike">
                  <a:solidFill>
                    <a:srgbClr val="245e76"/>
                  </a:solidFill>
                  <a:latin typeface="Agency FB"/>
                  <a:ea typeface="微软雅黑"/>
                </a:rPr>
                <a:t>0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3" name="MH_Other_8"/>
            <p:cNvCxnSpPr/>
            <p:nvPr/>
          </p:nvCxnSpPr>
          <p:spPr>
            <a:xfrm flipH="1">
              <a:off x="7543080" y="1590120"/>
              <a:ext cx="664920" cy="227520"/>
            </a:xfrm>
            <a:prstGeom prst="straightConnector1">
              <a:avLst/>
            </a:prstGeom>
            <a:ln w="38100">
              <a:solidFill>
                <a:srgbClr val="ffd47b"/>
              </a:solidFill>
              <a:prstDash val="dash"/>
              <a:round/>
            </a:ln>
          </p:spPr>
        </p:cxnSp>
      </p:grpSp>
      <p:grpSp>
        <p:nvGrpSpPr>
          <p:cNvPr id="234" name="组合 3"/>
          <p:cNvGrpSpPr/>
          <p:nvPr/>
        </p:nvGrpSpPr>
        <p:grpSpPr>
          <a:xfrm>
            <a:off x="4913280" y="3454920"/>
            <a:ext cx="988560" cy="896760"/>
            <a:chOff x="4913280" y="3454920"/>
            <a:chExt cx="988560" cy="896760"/>
          </a:xfrm>
        </p:grpSpPr>
        <p:sp>
          <p:nvSpPr>
            <p:cNvPr id="235" name="MH_Other_9"/>
            <p:cNvSpPr/>
            <p:nvPr/>
          </p:nvSpPr>
          <p:spPr>
            <a:xfrm>
              <a:off x="4913280" y="3866040"/>
              <a:ext cx="485640" cy="485640"/>
            </a:xfrm>
            <a:prstGeom prst="ellipse">
              <a:avLst/>
            </a:prstGeom>
            <a:solidFill>
              <a:srgbClr val="ffffff"/>
            </a:solidFill>
            <a:ln w="57150">
              <a:solidFill>
                <a:srgbClr val="ffd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700" spc="-1" strike="noStrike">
                  <a:solidFill>
                    <a:srgbClr val="245e76"/>
                  </a:solidFill>
                  <a:latin typeface="Agency FB"/>
                  <a:ea typeface="微软雅黑"/>
                </a:rPr>
                <a:t>0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6" name="MH_Other_10"/>
            <p:cNvCxnSpPr/>
            <p:nvPr/>
          </p:nvCxnSpPr>
          <p:spPr>
            <a:xfrm flipV="1">
              <a:off x="5367240" y="3454920"/>
              <a:ext cx="534960" cy="455400"/>
            </a:xfrm>
            <a:prstGeom prst="straightConnector1">
              <a:avLst/>
            </a:prstGeom>
            <a:ln w="38100">
              <a:solidFill>
                <a:srgbClr val="ffd47b"/>
              </a:solidFill>
              <a:prstDash val="dash"/>
              <a:round/>
            </a:ln>
          </p:spPr>
        </p:cxnSp>
      </p:grpSp>
      <p:grpSp>
        <p:nvGrpSpPr>
          <p:cNvPr id="237" name="组合 5"/>
          <p:cNvGrpSpPr/>
          <p:nvPr/>
        </p:nvGrpSpPr>
        <p:grpSpPr>
          <a:xfrm>
            <a:off x="7135560" y="3453840"/>
            <a:ext cx="1017720" cy="897840"/>
            <a:chOff x="7135560" y="3453840"/>
            <a:chExt cx="1017720" cy="897840"/>
          </a:xfrm>
        </p:grpSpPr>
        <p:sp>
          <p:nvSpPr>
            <p:cNvPr id="238" name="MH_Other_11"/>
            <p:cNvSpPr/>
            <p:nvPr/>
          </p:nvSpPr>
          <p:spPr>
            <a:xfrm>
              <a:off x="7667640" y="3866040"/>
              <a:ext cx="485640" cy="485640"/>
            </a:xfrm>
            <a:prstGeom prst="ellipse">
              <a:avLst/>
            </a:prstGeom>
            <a:solidFill>
              <a:srgbClr val="ffffff"/>
            </a:solidFill>
            <a:ln w="57150">
              <a:solidFill>
                <a:srgbClr val="ffd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700" spc="-1" strike="noStrike">
                  <a:solidFill>
                    <a:srgbClr val="245e76"/>
                  </a:solidFill>
                  <a:latin typeface="Agency FB"/>
                  <a:ea typeface="微软雅黑"/>
                </a:rPr>
                <a:t>04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9" name="MH_Other_12"/>
            <p:cNvCxnSpPr/>
            <p:nvPr/>
          </p:nvCxnSpPr>
          <p:spPr>
            <a:xfrm flipH="1" flipV="1">
              <a:off x="7135560" y="3453840"/>
              <a:ext cx="557280" cy="438120"/>
            </a:xfrm>
            <a:prstGeom prst="straightConnector1">
              <a:avLst/>
            </a:prstGeom>
            <a:ln w="38100">
              <a:solidFill>
                <a:srgbClr val="ffd47b"/>
              </a:solidFill>
              <a:prstDash val="dash"/>
              <a:round/>
            </a:ln>
          </p:spPr>
        </p:cxnSp>
      </p:grpSp>
      <p:sp>
        <p:nvSpPr>
          <p:cNvPr id="240" name="MH_SubTitle_1"/>
          <p:cNvSpPr/>
          <p:nvPr/>
        </p:nvSpPr>
        <p:spPr>
          <a:xfrm>
            <a:off x="2401200" y="1782360"/>
            <a:ext cx="251208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MH_SubTitle_2"/>
          <p:cNvSpPr/>
          <p:nvPr/>
        </p:nvSpPr>
        <p:spPr>
          <a:xfrm>
            <a:off x="7962480" y="1819800"/>
            <a:ext cx="281772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MH_SubTitle_5"/>
          <p:cNvSpPr/>
          <p:nvPr/>
        </p:nvSpPr>
        <p:spPr>
          <a:xfrm>
            <a:off x="2940480" y="4335840"/>
            <a:ext cx="245880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MH_SubTitle_6"/>
          <p:cNvSpPr/>
          <p:nvPr/>
        </p:nvSpPr>
        <p:spPr>
          <a:xfrm>
            <a:off x="7314120" y="4365360"/>
            <a:ext cx="300600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Y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26"/>
          <p:cNvGrpSpPr/>
          <p:nvPr/>
        </p:nvGrpSpPr>
        <p:grpSpPr>
          <a:xfrm>
            <a:off x="915480" y="401760"/>
            <a:ext cx="880200" cy="1593000"/>
            <a:chOff x="915480" y="401760"/>
            <a:chExt cx="880200" cy="1593000"/>
          </a:xfrm>
        </p:grpSpPr>
        <p:grpSp>
          <p:nvGrpSpPr>
            <p:cNvPr id="245" name="组合 42"/>
            <p:cNvGrpSpPr/>
            <p:nvPr/>
          </p:nvGrpSpPr>
          <p:grpSpPr>
            <a:xfrm>
              <a:off x="915480" y="401760"/>
              <a:ext cx="880200" cy="1254600"/>
              <a:chOff x="915480" y="401760"/>
              <a:chExt cx="880200" cy="1254600"/>
            </a:xfrm>
          </p:grpSpPr>
          <p:sp>
            <p:nvSpPr>
              <p:cNvPr id="246" name="KSO_Shape"/>
              <p:cNvSpPr/>
              <p:nvPr/>
            </p:nvSpPr>
            <p:spPr>
              <a:xfrm>
                <a:off x="915480" y="401760"/>
                <a:ext cx="880200" cy="1254240"/>
              </a:xfrm>
              <a:custGeom>
                <a:avLst/>
                <a:gdLst>
                  <a:gd name="textAreaLeft" fmla="*/ 0 w 880200"/>
                  <a:gd name="textAreaRight" fmla="*/ 880560 w 88020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1173161" h="1672438">
                    <a:moveTo>
                      <a:pt x="586581" y="0"/>
                    </a:moveTo>
                    <a:cubicBezTo>
                      <a:pt x="736700" y="0"/>
                      <a:pt x="886819" y="57269"/>
                      <a:pt x="1001356" y="171806"/>
                    </a:cubicBezTo>
                    <a:cubicBezTo>
                      <a:pt x="1230430" y="400880"/>
                      <a:pt x="1230430" y="772282"/>
                      <a:pt x="1001356" y="1001357"/>
                    </a:cubicBezTo>
                    <a:cubicBezTo>
                      <a:pt x="820380" y="1182333"/>
                      <a:pt x="682121" y="1406027"/>
                      <a:pt x="586581" y="1672438"/>
                    </a:cubicBezTo>
                    <a:cubicBezTo>
                      <a:pt x="491040" y="1406027"/>
                      <a:pt x="352782" y="1182333"/>
                      <a:pt x="171805" y="1001357"/>
                    </a:cubicBezTo>
                    <a:cubicBezTo>
                      <a:pt x="-57269" y="772282"/>
                      <a:pt x="-57269" y="400880"/>
                      <a:pt x="171805" y="171806"/>
                    </a:cubicBezTo>
                    <a:cubicBezTo>
                      <a:pt x="286343" y="57269"/>
                      <a:pt x="436462" y="0"/>
                      <a:pt x="586581" y="0"/>
                    </a:cubicBezTo>
                    <a:close/>
                  </a:path>
                </a:pathLst>
              </a:custGeom>
              <a:solidFill>
                <a:srgbClr val="ffd47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576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47" name="矩形 55"/>
              <p:cNvSpPr/>
              <p:nvPr/>
            </p:nvSpPr>
            <p:spPr>
              <a:xfrm>
                <a:off x="1205280" y="1465920"/>
                <a:ext cx="300600" cy="190440"/>
              </a:xfrm>
              <a:prstGeom prst="rect">
                <a:avLst/>
              </a:prstGeom>
              <a:solidFill>
                <a:srgbClr val="245e7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48" name="圆角矩形 45"/>
            <p:cNvSpPr/>
            <p:nvPr/>
          </p:nvSpPr>
          <p:spPr>
            <a:xfrm>
              <a:off x="1169280" y="1713600"/>
              <a:ext cx="390600" cy="281160"/>
            </a:xfrm>
            <a:prstGeom prst="roundRect">
              <a:avLst>
                <a:gd name="adj" fmla="val 16667"/>
              </a:avLst>
            </a:prstGeom>
            <a:solidFill>
              <a:srgbClr val="ec2c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矩形 47"/>
            <p:cNvSpPr/>
            <p:nvPr/>
          </p:nvSpPr>
          <p:spPr>
            <a:xfrm>
              <a:off x="1134720" y="1703880"/>
              <a:ext cx="451800" cy="45000"/>
            </a:xfrm>
            <a:prstGeom prst="rect">
              <a:avLst/>
            </a:prstGeom>
            <a:solidFill>
              <a:srgbClr val="ffd47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50" name="直接连接符 49"/>
            <p:cNvCxnSpPr/>
            <p:nvPr/>
          </p:nvCxnSpPr>
          <p:spPr>
            <a:xfrm flipH="1">
              <a:off x="1143720" y="1460520"/>
              <a:ext cx="131040" cy="253080"/>
            </a:xfrm>
            <a:prstGeom prst="straightConnector1">
              <a:avLst/>
            </a:prstGeom>
            <a:ln>
              <a:solidFill>
                <a:srgbClr val="ec2c5e"/>
              </a:solidFill>
            </a:ln>
          </p:spPr>
        </p:cxnSp>
        <p:cxnSp>
          <p:nvCxnSpPr>
            <p:cNvPr id="251" name="直接连接符 51"/>
            <p:cNvCxnSpPr/>
            <p:nvPr/>
          </p:nvCxnSpPr>
          <p:spPr>
            <a:xfrm>
              <a:off x="1437120" y="1464840"/>
              <a:ext cx="139680" cy="250560"/>
            </a:xfrm>
            <a:prstGeom prst="straightConnector1">
              <a:avLst/>
            </a:prstGeom>
            <a:ln>
              <a:solidFill>
                <a:srgbClr val="ec2c5e"/>
              </a:solidFill>
            </a:ln>
          </p:spPr>
        </p:cxnSp>
        <p:cxnSp>
          <p:nvCxnSpPr>
            <p:cNvPr id="252" name="直接连接符 53"/>
            <p:cNvCxnSpPr>
              <a:stCxn id="247" idx="0"/>
              <a:endCxn id="249" idx="0"/>
            </p:cNvCxnSpPr>
            <p:nvPr/>
          </p:nvCxnSpPr>
          <p:spPr>
            <a:xfrm>
              <a:off x="1355760" y="1465920"/>
              <a:ext cx="5400" cy="238320"/>
            </a:xfrm>
            <a:prstGeom prst="straightConnector1">
              <a:avLst/>
            </a:prstGeom>
            <a:ln>
              <a:solidFill>
                <a:srgbClr val="ec2c5e"/>
              </a:solidFill>
            </a:ln>
          </p:spPr>
        </p:cxnSp>
      </p:grpSp>
      <p:sp>
        <p:nvSpPr>
          <p:cNvPr id="253" name="矩形 56"/>
          <p:cNvSpPr/>
          <p:nvPr/>
        </p:nvSpPr>
        <p:spPr>
          <a:xfrm>
            <a:off x="1095840" y="470880"/>
            <a:ext cx="501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ec2c5e"/>
                </a:solidFill>
                <a:latin typeface="微软雅黑"/>
                <a:ea typeface="微软雅黑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KSO_Shape"/>
          <p:cNvSpPr/>
          <p:nvPr/>
        </p:nvSpPr>
        <p:spPr>
          <a:xfrm>
            <a:off x="5704200" y="1703880"/>
            <a:ext cx="1609200" cy="1904760"/>
          </a:xfrm>
          <a:custGeom>
            <a:avLst/>
            <a:gdLst>
              <a:gd name="textAreaLeft" fmla="*/ 0 w 1609200"/>
              <a:gd name="textAreaRight" fmla="*/ 1609560 w 160920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1966913" h="2327275">
                <a:moveTo>
                  <a:pt x="954753" y="1302893"/>
                </a:moveTo>
                <a:lnTo>
                  <a:pt x="954489" y="1306067"/>
                </a:lnTo>
                <a:lnTo>
                  <a:pt x="954753" y="1309506"/>
                </a:lnTo>
                <a:lnTo>
                  <a:pt x="955547" y="1313209"/>
                </a:lnTo>
                <a:lnTo>
                  <a:pt x="957134" y="1316118"/>
                </a:lnTo>
                <a:lnTo>
                  <a:pt x="959251" y="1319292"/>
                </a:lnTo>
                <a:lnTo>
                  <a:pt x="961896" y="1322466"/>
                </a:lnTo>
                <a:lnTo>
                  <a:pt x="965071" y="1325111"/>
                </a:lnTo>
                <a:lnTo>
                  <a:pt x="968510" y="1328020"/>
                </a:lnTo>
                <a:lnTo>
                  <a:pt x="972478" y="1330136"/>
                </a:lnTo>
                <a:lnTo>
                  <a:pt x="976182" y="1332517"/>
                </a:lnTo>
                <a:lnTo>
                  <a:pt x="980679" y="1334368"/>
                </a:lnTo>
                <a:lnTo>
                  <a:pt x="985176" y="1336219"/>
                </a:lnTo>
                <a:lnTo>
                  <a:pt x="990467" y="1337542"/>
                </a:lnTo>
                <a:lnTo>
                  <a:pt x="995229" y="1338864"/>
                </a:lnTo>
                <a:lnTo>
                  <a:pt x="1000255" y="1339658"/>
                </a:lnTo>
                <a:lnTo>
                  <a:pt x="1005282" y="1339922"/>
                </a:lnTo>
                <a:lnTo>
                  <a:pt x="1010308" y="1340451"/>
                </a:lnTo>
                <a:lnTo>
                  <a:pt x="1015335" y="1340451"/>
                </a:lnTo>
                <a:lnTo>
                  <a:pt x="1050255" y="1340451"/>
                </a:lnTo>
                <a:lnTo>
                  <a:pt x="1055017" y="1340451"/>
                </a:lnTo>
                <a:lnTo>
                  <a:pt x="1060043" y="1339922"/>
                </a:lnTo>
                <a:lnTo>
                  <a:pt x="1065070" y="1339658"/>
                </a:lnTo>
                <a:lnTo>
                  <a:pt x="1070096" y="1338864"/>
                </a:lnTo>
                <a:lnTo>
                  <a:pt x="1075123" y="1337542"/>
                </a:lnTo>
                <a:lnTo>
                  <a:pt x="1079884" y="1336219"/>
                </a:lnTo>
                <a:lnTo>
                  <a:pt x="1084646" y="1334368"/>
                </a:lnTo>
                <a:lnTo>
                  <a:pt x="1088879" y="1332517"/>
                </a:lnTo>
                <a:lnTo>
                  <a:pt x="1093112" y="1330136"/>
                </a:lnTo>
                <a:lnTo>
                  <a:pt x="1097080" y="1328020"/>
                </a:lnTo>
                <a:lnTo>
                  <a:pt x="1100519" y="1325111"/>
                </a:lnTo>
                <a:lnTo>
                  <a:pt x="1103429" y="1322466"/>
                </a:lnTo>
                <a:lnTo>
                  <a:pt x="1106075" y="1319292"/>
                </a:lnTo>
                <a:lnTo>
                  <a:pt x="1108191" y="1316118"/>
                </a:lnTo>
                <a:lnTo>
                  <a:pt x="1109778" y="1313209"/>
                </a:lnTo>
                <a:lnTo>
                  <a:pt x="1110836" y="1309506"/>
                </a:lnTo>
                <a:lnTo>
                  <a:pt x="1111101" y="1306067"/>
                </a:lnTo>
                <a:lnTo>
                  <a:pt x="1110836" y="1302893"/>
                </a:lnTo>
                <a:lnTo>
                  <a:pt x="1048668" y="1302893"/>
                </a:lnTo>
                <a:lnTo>
                  <a:pt x="1016657" y="1302893"/>
                </a:lnTo>
                <a:lnTo>
                  <a:pt x="954753" y="1302893"/>
                </a:lnTo>
                <a:close/>
                <a:moveTo>
                  <a:pt x="941261" y="1215611"/>
                </a:moveTo>
                <a:lnTo>
                  <a:pt x="937822" y="1215875"/>
                </a:lnTo>
                <a:lnTo>
                  <a:pt x="934383" y="1216404"/>
                </a:lnTo>
                <a:lnTo>
                  <a:pt x="931208" y="1217462"/>
                </a:lnTo>
                <a:lnTo>
                  <a:pt x="928034" y="1218520"/>
                </a:lnTo>
                <a:lnTo>
                  <a:pt x="924859" y="1219842"/>
                </a:lnTo>
                <a:lnTo>
                  <a:pt x="922214" y="1221694"/>
                </a:lnTo>
                <a:lnTo>
                  <a:pt x="919568" y="1223545"/>
                </a:lnTo>
                <a:lnTo>
                  <a:pt x="916923" y="1225661"/>
                </a:lnTo>
                <a:lnTo>
                  <a:pt x="914806" y="1228306"/>
                </a:lnTo>
                <a:lnTo>
                  <a:pt x="912955" y="1230951"/>
                </a:lnTo>
                <a:lnTo>
                  <a:pt x="911103" y="1233596"/>
                </a:lnTo>
                <a:lnTo>
                  <a:pt x="909780" y="1236770"/>
                </a:lnTo>
                <a:lnTo>
                  <a:pt x="908722" y="1239944"/>
                </a:lnTo>
                <a:lnTo>
                  <a:pt x="907664" y="1243118"/>
                </a:lnTo>
                <a:lnTo>
                  <a:pt x="907135" y="1246556"/>
                </a:lnTo>
                <a:lnTo>
                  <a:pt x="906870" y="1249995"/>
                </a:lnTo>
                <a:lnTo>
                  <a:pt x="907135" y="1253698"/>
                </a:lnTo>
                <a:lnTo>
                  <a:pt x="907664" y="1256872"/>
                </a:lnTo>
                <a:lnTo>
                  <a:pt x="908722" y="1260310"/>
                </a:lnTo>
                <a:lnTo>
                  <a:pt x="909780" y="1263484"/>
                </a:lnTo>
                <a:lnTo>
                  <a:pt x="911103" y="1266129"/>
                </a:lnTo>
                <a:lnTo>
                  <a:pt x="912955" y="1269303"/>
                </a:lnTo>
                <a:lnTo>
                  <a:pt x="914806" y="1271948"/>
                </a:lnTo>
                <a:lnTo>
                  <a:pt x="916923" y="1274328"/>
                </a:lnTo>
                <a:lnTo>
                  <a:pt x="919568" y="1276444"/>
                </a:lnTo>
                <a:lnTo>
                  <a:pt x="922214" y="1278560"/>
                </a:lnTo>
                <a:lnTo>
                  <a:pt x="924859" y="1280147"/>
                </a:lnTo>
                <a:lnTo>
                  <a:pt x="928034" y="1281734"/>
                </a:lnTo>
                <a:lnTo>
                  <a:pt x="931208" y="1282792"/>
                </a:lnTo>
                <a:lnTo>
                  <a:pt x="934383" y="1283585"/>
                </a:lnTo>
                <a:lnTo>
                  <a:pt x="937822" y="1284114"/>
                </a:lnTo>
                <a:lnTo>
                  <a:pt x="941261" y="1284114"/>
                </a:lnTo>
                <a:lnTo>
                  <a:pt x="1124064" y="1284114"/>
                </a:lnTo>
                <a:lnTo>
                  <a:pt x="1127768" y="1284114"/>
                </a:lnTo>
                <a:lnTo>
                  <a:pt x="1130942" y="1283585"/>
                </a:lnTo>
                <a:lnTo>
                  <a:pt x="1134381" y="1282792"/>
                </a:lnTo>
                <a:lnTo>
                  <a:pt x="1137556" y="1281734"/>
                </a:lnTo>
                <a:lnTo>
                  <a:pt x="1140466" y="1280147"/>
                </a:lnTo>
                <a:lnTo>
                  <a:pt x="1143376" y="1278560"/>
                </a:lnTo>
                <a:lnTo>
                  <a:pt x="1146021" y="1276444"/>
                </a:lnTo>
                <a:lnTo>
                  <a:pt x="1148402" y="1274328"/>
                </a:lnTo>
                <a:lnTo>
                  <a:pt x="1150783" y="1271948"/>
                </a:lnTo>
                <a:lnTo>
                  <a:pt x="1152635" y="1269303"/>
                </a:lnTo>
                <a:lnTo>
                  <a:pt x="1154222" y="1266129"/>
                </a:lnTo>
                <a:lnTo>
                  <a:pt x="1155810" y="1263484"/>
                </a:lnTo>
                <a:lnTo>
                  <a:pt x="1156868" y="1260310"/>
                </a:lnTo>
                <a:lnTo>
                  <a:pt x="1157661" y="1256872"/>
                </a:lnTo>
                <a:lnTo>
                  <a:pt x="1158191" y="1253698"/>
                </a:lnTo>
                <a:lnTo>
                  <a:pt x="1158191" y="1249995"/>
                </a:lnTo>
                <a:lnTo>
                  <a:pt x="1158191" y="1246556"/>
                </a:lnTo>
                <a:lnTo>
                  <a:pt x="1157661" y="1243118"/>
                </a:lnTo>
                <a:lnTo>
                  <a:pt x="1156868" y="1239944"/>
                </a:lnTo>
                <a:lnTo>
                  <a:pt x="1155810" y="1236770"/>
                </a:lnTo>
                <a:lnTo>
                  <a:pt x="1154222" y="1233596"/>
                </a:lnTo>
                <a:lnTo>
                  <a:pt x="1152635" y="1230951"/>
                </a:lnTo>
                <a:lnTo>
                  <a:pt x="1150783" y="1228306"/>
                </a:lnTo>
                <a:lnTo>
                  <a:pt x="1148402" y="1225661"/>
                </a:lnTo>
                <a:lnTo>
                  <a:pt x="1146021" y="1223545"/>
                </a:lnTo>
                <a:lnTo>
                  <a:pt x="1143376" y="1221694"/>
                </a:lnTo>
                <a:lnTo>
                  <a:pt x="1140466" y="1219842"/>
                </a:lnTo>
                <a:lnTo>
                  <a:pt x="1137556" y="1218520"/>
                </a:lnTo>
                <a:lnTo>
                  <a:pt x="1134381" y="1217462"/>
                </a:lnTo>
                <a:lnTo>
                  <a:pt x="1130942" y="1216404"/>
                </a:lnTo>
                <a:lnTo>
                  <a:pt x="1127768" y="1215875"/>
                </a:lnTo>
                <a:lnTo>
                  <a:pt x="1124064" y="1215611"/>
                </a:lnTo>
                <a:lnTo>
                  <a:pt x="941261" y="1215611"/>
                </a:lnTo>
                <a:close/>
                <a:moveTo>
                  <a:pt x="941261" y="1129121"/>
                </a:moveTo>
                <a:lnTo>
                  <a:pt x="937822" y="1129386"/>
                </a:lnTo>
                <a:lnTo>
                  <a:pt x="934383" y="1130179"/>
                </a:lnTo>
                <a:lnTo>
                  <a:pt x="931208" y="1130973"/>
                </a:lnTo>
                <a:lnTo>
                  <a:pt x="928034" y="1132031"/>
                </a:lnTo>
                <a:lnTo>
                  <a:pt x="924859" y="1133353"/>
                </a:lnTo>
                <a:lnTo>
                  <a:pt x="922214" y="1135205"/>
                </a:lnTo>
                <a:lnTo>
                  <a:pt x="919568" y="1137056"/>
                </a:lnTo>
                <a:lnTo>
                  <a:pt x="916923" y="1139437"/>
                </a:lnTo>
                <a:lnTo>
                  <a:pt x="914806" y="1141817"/>
                </a:lnTo>
                <a:lnTo>
                  <a:pt x="912955" y="1144462"/>
                </a:lnTo>
                <a:lnTo>
                  <a:pt x="911103" y="1147107"/>
                </a:lnTo>
                <a:lnTo>
                  <a:pt x="909780" y="1150281"/>
                </a:lnTo>
                <a:lnTo>
                  <a:pt x="908722" y="1153455"/>
                </a:lnTo>
                <a:lnTo>
                  <a:pt x="907664" y="1156629"/>
                </a:lnTo>
                <a:lnTo>
                  <a:pt x="907135" y="1160067"/>
                </a:lnTo>
                <a:lnTo>
                  <a:pt x="906870" y="1163505"/>
                </a:lnTo>
                <a:lnTo>
                  <a:pt x="907135" y="1167208"/>
                </a:lnTo>
                <a:lnTo>
                  <a:pt x="907664" y="1170382"/>
                </a:lnTo>
                <a:lnTo>
                  <a:pt x="908722" y="1173821"/>
                </a:lnTo>
                <a:lnTo>
                  <a:pt x="909780" y="1176995"/>
                </a:lnTo>
                <a:lnTo>
                  <a:pt x="911103" y="1179640"/>
                </a:lnTo>
                <a:lnTo>
                  <a:pt x="912955" y="1182813"/>
                </a:lnTo>
                <a:lnTo>
                  <a:pt x="914806" y="1185458"/>
                </a:lnTo>
                <a:lnTo>
                  <a:pt x="916923" y="1187839"/>
                </a:lnTo>
                <a:lnTo>
                  <a:pt x="919568" y="1189955"/>
                </a:lnTo>
                <a:lnTo>
                  <a:pt x="922214" y="1191806"/>
                </a:lnTo>
                <a:lnTo>
                  <a:pt x="924859" y="1193658"/>
                </a:lnTo>
                <a:lnTo>
                  <a:pt x="928034" y="1195245"/>
                </a:lnTo>
                <a:lnTo>
                  <a:pt x="931208" y="1196303"/>
                </a:lnTo>
                <a:lnTo>
                  <a:pt x="934383" y="1197096"/>
                </a:lnTo>
                <a:lnTo>
                  <a:pt x="937822" y="1197625"/>
                </a:lnTo>
                <a:lnTo>
                  <a:pt x="941261" y="1197625"/>
                </a:lnTo>
                <a:lnTo>
                  <a:pt x="1124064" y="1197625"/>
                </a:lnTo>
                <a:lnTo>
                  <a:pt x="1127768" y="1197625"/>
                </a:lnTo>
                <a:lnTo>
                  <a:pt x="1130942" y="1197096"/>
                </a:lnTo>
                <a:lnTo>
                  <a:pt x="1134381" y="1196303"/>
                </a:lnTo>
                <a:lnTo>
                  <a:pt x="1137556" y="1195245"/>
                </a:lnTo>
                <a:lnTo>
                  <a:pt x="1140466" y="1193658"/>
                </a:lnTo>
                <a:lnTo>
                  <a:pt x="1143376" y="1191806"/>
                </a:lnTo>
                <a:lnTo>
                  <a:pt x="1146021" y="1189955"/>
                </a:lnTo>
                <a:lnTo>
                  <a:pt x="1148402" y="1187839"/>
                </a:lnTo>
                <a:lnTo>
                  <a:pt x="1150783" y="1185458"/>
                </a:lnTo>
                <a:lnTo>
                  <a:pt x="1152635" y="1182813"/>
                </a:lnTo>
                <a:lnTo>
                  <a:pt x="1154222" y="1179640"/>
                </a:lnTo>
                <a:lnTo>
                  <a:pt x="1155810" y="1176995"/>
                </a:lnTo>
                <a:lnTo>
                  <a:pt x="1156868" y="1173821"/>
                </a:lnTo>
                <a:lnTo>
                  <a:pt x="1157661" y="1170382"/>
                </a:lnTo>
                <a:lnTo>
                  <a:pt x="1158191" y="1167208"/>
                </a:lnTo>
                <a:lnTo>
                  <a:pt x="1158191" y="1163505"/>
                </a:lnTo>
                <a:lnTo>
                  <a:pt x="1158191" y="1160067"/>
                </a:lnTo>
                <a:lnTo>
                  <a:pt x="1157661" y="1156629"/>
                </a:lnTo>
                <a:lnTo>
                  <a:pt x="1156868" y="1153455"/>
                </a:lnTo>
                <a:lnTo>
                  <a:pt x="1155810" y="1150281"/>
                </a:lnTo>
                <a:lnTo>
                  <a:pt x="1154222" y="1147107"/>
                </a:lnTo>
                <a:lnTo>
                  <a:pt x="1152635" y="1144462"/>
                </a:lnTo>
                <a:lnTo>
                  <a:pt x="1150783" y="1141817"/>
                </a:lnTo>
                <a:lnTo>
                  <a:pt x="1148402" y="1139437"/>
                </a:lnTo>
                <a:lnTo>
                  <a:pt x="1146021" y="1137056"/>
                </a:lnTo>
                <a:lnTo>
                  <a:pt x="1143376" y="1135205"/>
                </a:lnTo>
                <a:lnTo>
                  <a:pt x="1140466" y="1133353"/>
                </a:lnTo>
                <a:lnTo>
                  <a:pt x="1137556" y="1132031"/>
                </a:lnTo>
                <a:lnTo>
                  <a:pt x="1134381" y="1130973"/>
                </a:lnTo>
                <a:lnTo>
                  <a:pt x="1130942" y="1130179"/>
                </a:lnTo>
                <a:lnTo>
                  <a:pt x="1127768" y="1129386"/>
                </a:lnTo>
                <a:lnTo>
                  <a:pt x="1124064" y="1129121"/>
                </a:lnTo>
                <a:lnTo>
                  <a:pt x="941261" y="1129121"/>
                </a:lnTo>
                <a:close/>
                <a:moveTo>
                  <a:pt x="1341787" y="876266"/>
                </a:moveTo>
                <a:lnTo>
                  <a:pt x="1336231" y="884201"/>
                </a:lnTo>
                <a:lnTo>
                  <a:pt x="1330676" y="891871"/>
                </a:lnTo>
                <a:lnTo>
                  <a:pt x="1325120" y="899277"/>
                </a:lnTo>
                <a:lnTo>
                  <a:pt x="1319565" y="906418"/>
                </a:lnTo>
                <a:lnTo>
                  <a:pt x="1308189" y="920172"/>
                </a:lnTo>
                <a:lnTo>
                  <a:pt x="1297078" y="932867"/>
                </a:lnTo>
                <a:lnTo>
                  <a:pt x="1362686" y="998726"/>
                </a:lnTo>
                <a:lnTo>
                  <a:pt x="1365596" y="1001107"/>
                </a:lnTo>
                <a:lnTo>
                  <a:pt x="1368241" y="1003223"/>
                </a:lnTo>
                <a:lnTo>
                  <a:pt x="1371416" y="1005074"/>
                </a:lnTo>
                <a:lnTo>
                  <a:pt x="1374591" y="1006396"/>
                </a:lnTo>
                <a:lnTo>
                  <a:pt x="1377765" y="1007719"/>
                </a:lnTo>
                <a:lnTo>
                  <a:pt x="1381204" y="1008512"/>
                </a:lnTo>
                <a:lnTo>
                  <a:pt x="1384643" y="1009041"/>
                </a:lnTo>
                <a:lnTo>
                  <a:pt x="1388083" y="1009041"/>
                </a:lnTo>
                <a:lnTo>
                  <a:pt x="1391522" y="1009041"/>
                </a:lnTo>
                <a:lnTo>
                  <a:pt x="1394961" y="1008512"/>
                </a:lnTo>
                <a:lnTo>
                  <a:pt x="1398400" y="1007719"/>
                </a:lnTo>
                <a:lnTo>
                  <a:pt x="1401839" y="1006396"/>
                </a:lnTo>
                <a:lnTo>
                  <a:pt x="1404749" y="1005074"/>
                </a:lnTo>
                <a:lnTo>
                  <a:pt x="1407924" y="1003223"/>
                </a:lnTo>
                <a:lnTo>
                  <a:pt x="1410834" y="1001107"/>
                </a:lnTo>
                <a:lnTo>
                  <a:pt x="1413479" y="998726"/>
                </a:lnTo>
                <a:lnTo>
                  <a:pt x="1416125" y="995817"/>
                </a:lnTo>
                <a:lnTo>
                  <a:pt x="1417976" y="993172"/>
                </a:lnTo>
                <a:lnTo>
                  <a:pt x="1420093" y="989998"/>
                </a:lnTo>
                <a:lnTo>
                  <a:pt x="1421416" y="986824"/>
                </a:lnTo>
                <a:lnTo>
                  <a:pt x="1422474" y="983386"/>
                </a:lnTo>
                <a:lnTo>
                  <a:pt x="1423267" y="980212"/>
                </a:lnTo>
                <a:lnTo>
                  <a:pt x="1423797" y="976773"/>
                </a:lnTo>
                <a:lnTo>
                  <a:pt x="1423797" y="973335"/>
                </a:lnTo>
                <a:lnTo>
                  <a:pt x="1423797" y="969632"/>
                </a:lnTo>
                <a:lnTo>
                  <a:pt x="1423267" y="966458"/>
                </a:lnTo>
                <a:lnTo>
                  <a:pt x="1422474" y="963020"/>
                </a:lnTo>
                <a:lnTo>
                  <a:pt x="1421416" y="959581"/>
                </a:lnTo>
                <a:lnTo>
                  <a:pt x="1420093" y="956672"/>
                </a:lnTo>
                <a:lnTo>
                  <a:pt x="1417976" y="953498"/>
                </a:lnTo>
                <a:lnTo>
                  <a:pt x="1416125" y="950588"/>
                </a:lnTo>
                <a:lnTo>
                  <a:pt x="1413479" y="947944"/>
                </a:lnTo>
                <a:lnTo>
                  <a:pt x="1341787" y="876266"/>
                </a:lnTo>
                <a:close/>
                <a:moveTo>
                  <a:pt x="723538" y="876266"/>
                </a:moveTo>
                <a:lnTo>
                  <a:pt x="651846" y="947944"/>
                </a:lnTo>
                <a:lnTo>
                  <a:pt x="649465" y="950588"/>
                </a:lnTo>
                <a:lnTo>
                  <a:pt x="647084" y="953498"/>
                </a:lnTo>
                <a:lnTo>
                  <a:pt x="645497" y="956672"/>
                </a:lnTo>
                <a:lnTo>
                  <a:pt x="644174" y="959581"/>
                </a:lnTo>
                <a:lnTo>
                  <a:pt x="642587" y="963020"/>
                </a:lnTo>
                <a:lnTo>
                  <a:pt x="642058" y="966458"/>
                </a:lnTo>
                <a:lnTo>
                  <a:pt x="641529" y="969632"/>
                </a:lnTo>
                <a:lnTo>
                  <a:pt x="641264" y="973335"/>
                </a:lnTo>
                <a:lnTo>
                  <a:pt x="641529" y="976773"/>
                </a:lnTo>
                <a:lnTo>
                  <a:pt x="642058" y="980212"/>
                </a:lnTo>
                <a:lnTo>
                  <a:pt x="642587" y="983386"/>
                </a:lnTo>
                <a:lnTo>
                  <a:pt x="644174" y="986824"/>
                </a:lnTo>
                <a:lnTo>
                  <a:pt x="645497" y="989998"/>
                </a:lnTo>
                <a:lnTo>
                  <a:pt x="647084" y="993172"/>
                </a:lnTo>
                <a:lnTo>
                  <a:pt x="649465" y="995817"/>
                </a:lnTo>
                <a:lnTo>
                  <a:pt x="651846" y="998726"/>
                </a:lnTo>
                <a:lnTo>
                  <a:pt x="654491" y="1001107"/>
                </a:lnTo>
                <a:lnTo>
                  <a:pt x="657666" y="1003223"/>
                </a:lnTo>
                <a:lnTo>
                  <a:pt x="660576" y="1005074"/>
                </a:lnTo>
                <a:lnTo>
                  <a:pt x="663751" y="1006396"/>
                </a:lnTo>
                <a:lnTo>
                  <a:pt x="667190" y="1007719"/>
                </a:lnTo>
                <a:lnTo>
                  <a:pt x="670629" y="1008512"/>
                </a:lnTo>
                <a:lnTo>
                  <a:pt x="673803" y="1009041"/>
                </a:lnTo>
                <a:lnTo>
                  <a:pt x="677243" y="1009041"/>
                </a:lnTo>
                <a:lnTo>
                  <a:pt x="680682" y="1009041"/>
                </a:lnTo>
                <a:lnTo>
                  <a:pt x="683856" y="1008512"/>
                </a:lnTo>
                <a:lnTo>
                  <a:pt x="687295" y="1007719"/>
                </a:lnTo>
                <a:lnTo>
                  <a:pt x="690734" y="1006396"/>
                </a:lnTo>
                <a:lnTo>
                  <a:pt x="694174" y="1005074"/>
                </a:lnTo>
                <a:lnTo>
                  <a:pt x="696819" y="1003223"/>
                </a:lnTo>
                <a:lnTo>
                  <a:pt x="699994" y="1001107"/>
                </a:lnTo>
                <a:lnTo>
                  <a:pt x="702639" y="998726"/>
                </a:lnTo>
                <a:lnTo>
                  <a:pt x="768512" y="932867"/>
                </a:lnTo>
                <a:lnTo>
                  <a:pt x="757401" y="920172"/>
                </a:lnTo>
                <a:lnTo>
                  <a:pt x="745760" y="906418"/>
                </a:lnTo>
                <a:lnTo>
                  <a:pt x="740205" y="899277"/>
                </a:lnTo>
                <a:lnTo>
                  <a:pt x="734649" y="891606"/>
                </a:lnTo>
                <a:lnTo>
                  <a:pt x="728829" y="884201"/>
                </a:lnTo>
                <a:lnTo>
                  <a:pt x="723538" y="876266"/>
                </a:lnTo>
                <a:close/>
                <a:moveTo>
                  <a:pt x="1407659" y="582150"/>
                </a:moveTo>
                <a:lnTo>
                  <a:pt x="1408982" y="594581"/>
                </a:lnTo>
                <a:lnTo>
                  <a:pt x="1410040" y="607276"/>
                </a:lnTo>
                <a:lnTo>
                  <a:pt x="1411098" y="620237"/>
                </a:lnTo>
                <a:lnTo>
                  <a:pt x="1411098" y="633197"/>
                </a:lnTo>
                <a:lnTo>
                  <a:pt x="1411098" y="643512"/>
                </a:lnTo>
                <a:lnTo>
                  <a:pt x="1410834" y="653827"/>
                </a:lnTo>
                <a:lnTo>
                  <a:pt x="1535436" y="653827"/>
                </a:lnTo>
                <a:lnTo>
                  <a:pt x="1539139" y="653563"/>
                </a:lnTo>
                <a:lnTo>
                  <a:pt x="1542314" y="653034"/>
                </a:lnTo>
                <a:lnTo>
                  <a:pt x="1546018" y="652240"/>
                </a:lnTo>
                <a:lnTo>
                  <a:pt x="1549192" y="651182"/>
                </a:lnTo>
                <a:lnTo>
                  <a:pt x="1552631" y="649331"/>
                </a:lnTo>
                <a:lnTo>
                  <a:pt x="1555277" y="647744"/>
                </a:lnTo>
                <a:lnTo>
                  <a:pt x="1558187" y="645628"/>
                </a:lnTo>
                <a:lnTo>
                  <a:pt x="1560568" y="643247"/>
                </a:lnTo>
                <a:lnTo>
                  <a:pt x="1562949" y="640603"/>
                </a:lnTo>
                <a:lnTo>
                  <a:pt x="1565065" y="637958"/>
                </a:lnTo>
                <a:lnTo>
                  <a:pt x="1566917" y="635048"/>
                </a:lnTo>
                <a:lnTo>
                  <a:pt x="1568504" y="631874"/>
                </a:lnTo>
                <a:lnTo>
                  <a:pt x="1569562" y="628700"/>
                </a:lnTo>
                <a:lnTo>
                  <a:pt x="1570356" y="625262"/>
                </a:lnTo>
                <a:lnTo>
                  <a:pt x="1571150" y="621559"/>
                </a:lnTo>
                <a:lnTo>
                  <a:pt x="1571414" y="617856"/>
                </a:lnTo>
                <a:lnTo>
                  <a:pt x="1571150" y="614418"/>
                </a:lnTo>
                <a:lnTo>
                  <a:pt x="1570356" y="610715"/>
                </a:lnTo>
                <a:lnTo>
                  <a:pt x="1569562" y="607276"/>
                </a:lnTo>
                <a:lnTo>
                  <a:pt x="1568504" y="603838"/>
                </a:lnTo>
                <a:lnTo>
                  <a:pt x="1566917" y="600929"/>
                </a:lnTo>
                <a:lnTo>
                  <a:pt x="1565065" y="598019"/>
                </a:lnTo>
                <a:lnTo>
                  <a:pt x="1562949" y="595110"/>
                </a:lnTo>
                <a:lnTo>
                  <a:pt x="1560568" y="592729"/>
                </a:lnTo>
                <a:lnTo>
                  <a:pt x="1558187" y="590084"/>
                </a:lnTo>
                <a:lnTo>
                  <a:pt x="1555277" y="588233"/>
                </a:lnTo>
                <a:lnTo>
                  <a:pt x="1552631" y="586646"/>
                </a:lnTo>
                <a:lnTo>
                  <a:pt x="1549192" y="584794"/>
                </a:lnTo>
                <a:lnTo>
                  <a:pt x="1546018" y="583736"/>
                </a:lnTo>
                <a:lnTo>
                  <a:pt x="1542314" y="582943"/>
                </a:lnTo>
                <a:lnTo>
                  <a:pt x="1539139" y="582414"/>
                </a:lnTo>
                <a:lnTo>
                  <a:pt x="1535436" y="582150"/>
                </a:lnTo>
                <a:lnTo>
                  <a:pt x="1407659" y="582150"/>
                </a:lnTo>
                <a:close/>
                <a:moveTo>
                  <a:pt x="530154" y="582150"/>
                </a:moveTo>
                <a:lnTo>
                  <a:pt x="526450" y="582414"/>
                </a:lnTo>
                <a:lnTo>
                  <a:pt x="522747" y="582943"/>
                </a:lnTo>
                <a:lnTo>
                  <a:pt x="519308" y="583736"/>
                </a:lnTo>
                <a:lnTo>
                  <a:pt x="516133" y="584794"/>
                </a:lnTo>
                <a:lnTo>
                  <a:pt x="512958" y="586646"/>
                </a:lnTo>
                <a:lnTo>
                  <a:pt x="509784" y="588233"/>
                </a:lnTo>
                <a:lnTo>
                  <a:pt x="507403" y="590084"/>
                </a:lnTo>
                <a:lnTo>
                  <a:pt x="504493" y="592729"/>
                </a:lnTo>
                <a:lnTo>
                  <a:pt x="502376" y="595110"/>
                </a:lnTo>
                <a:lnTo>
                  <a:pt x="500260" y="598019"/>
                </a:lnTo>
                <a:lnTo>
                  <a:pt x="498408" y="600929"/>
                </a:lnTo>
                <a:lnTo>
                  <a:pt x="497085" y="603838"/>
                </a:lnTo>
                <a:lnTo>
                  <a:pt x="495763" y="607276"/>
                </a:lnTo>
                <a:lnTo>
                  <a:pt x="494969" y="610715"/>
                </a:lnTo>
                <a:lnTo>
                  <a:pt x="494440" y="614418"/>
                </a:lnTo>
                <a:lnTo>
                  <a:pt x="494175" y="617856"/>
                </a:lnTo>
                <a:lnTo>
                  <a:pt x="494440" y="621559"/>
                </a:lnTo>
                <a:lnTo>
                  <a:pt x="494969" y="625262"/>
                </a:lnTo>
                <a:lnTo>
                  <a:pt x="495763" y="628700"/>
                </a:lnTo>
                <a:lnTo>
                  <a:pt x="497085" y="631874"/>
                </a:lnTo>
                <a:lnTo>
                  <a:pt x="498408" y="635048"/>
                </a:lnTo>
                <a:lnTo>
                  <a:pt x="500260" y="637958"/>
                </a:lnTo>
                <a:lnTo>
                  <a:pt x="502376" y="640603"/>
                </a:lnTo>
                <a:lnTo>
                  <a:pt x="504493" y="643247"/>
                </a:lnTo>
                <a:lnTo>
                  <a:pt x="507403" y="645628"/>
                </a:lnTo>
                <a:lnTo>
                  <a:pt x="509784" y="647744"/>
                </a:lnTo>
                <a:lnTo>
                  <a:pt x="512958" y="649331"/>
                </a:lnTo>
                <a:lnTo>
                  <a:pt x="516133" y="651182"/>
                </a:lnTo>
                <a:lnTo>
                  <a:pt x="519308" y="652240"/>
                </a:lnTo>
                <a:lnTo>
                  <a:pt x="522747" y="653034"/>
                </a:lnTo>
                <a:lnTo>
                  <a:pt x="526450" y="653563"/>
                </a:lnTo>
                <a:lnTo>
                  <a:pt x="530154" y="653827"/>
                </a:lnTo>
                <a:lnTo>
                  <a:pt x="654756" y="653827"/>
                </a:lnTo>
                <a:lnTo>
                  <a:pt x="654491" y="643512"/>
                </a:lnTo>
                <a:lnTo>
                  <a:pt x="654227" y="633197"/>
                </a:lnTo>
                <a:lnTo>
                  <a:pt x="654491" y="620237"/>
                </a:lnTo>
                <a:lnTo>
                  <a:pt x="655285" y="607276"/>
                </a:lnTo>
                <a:lnTo>
                  <a:pt x="656079" y="594581"/>
                </a:lnTo>
                <a:lnTo>
                  <a:pt x="657666" y="582150"/>
                </a:lnTo>
                <a:lnTo>
                  <a:pt x="530154" y="582150"/>
                </a:lnTo>
                <a:close/>
                <a:moveTo>
                  <a:pt x="1010822" y="371475"/>
                </a:moveTo>
                <a:lnTo>
                  <a:pt x="1014779" y="372005"/>
                </a:lnTo>
                <a:lnTo>
                  <a:pt x="1018472" y="372270"/>
                </a:lnTo>
                <a:lnTo>
                  <a:pt x="1021902" y="373065"/>
                </a:lnTo>
                <a:lnTo>
                  <a:pt x="1025331" y="374126"/>
                </a:lnTo>
                <a:lnTo>
                  <a:pt x="1028497" y="375451"/>
                </a:lnTo>
                <a:lnTo>
                  <a:pt x="1031927" y="377306"/>
                </a:lnTo>
                <a:lnTo>
                  <a:pt x="1034565" y="379427"/>
                </a:lnTo>
                <a:lnTo>
                  <a:pt x="1037467" y="381813"/>
                </a:lnTo>
                <a:lnTo>
                  <a:pt x="1039841" y="384198"/>
                </a:lnTo>
                <a:lnTo>
                  <a:pt x="1041951" y="387114"/>
                </a:lnTo>
                <a:lnTo>
                  <a:pt x="1043798" y="389764"/>
                </a:lnTo>
                <a:lnTo>
                  <a:pt x="1045645" y="393210"/>
                </a:lnTo>
                <a:lnTo>
                  <a:pt x="1046964" y="396656"/>
                </a:lnTo>
                <a:lnTo>
                  <a:pt x="1048019" y="400102"/>
                </a:lnTo>
                <a:lnTo>
                  <a:pt x="1048547" y="403548"/>
                </a:lnTo>
                <a:lnTo>
                  <a:pt x="1049338" y="407523"/>
                </a:lnTo>
                <a:lnTo>
                  <a:pt x="1049074" y="411234"/>
                </a:lnTo>
                <a:lnTo>
                  <a:pt x="1048547" y="414945"/>
                </a:lnTo>
                <a:lnTo>
                  <a:pt x="1047755" y="418656"/>
                </a:lnTo>
                <a:lnTo>
                  <a:pt x="1046700" y="421837"/>
                </a:lnTo>
                <a:lnTo>
                  <a:pt x="1045381" y="425283"/>
                </a:lnTo>
                <a:lnTo>
                  <a:pt x="1043534" y="428463"/>
                </a:lnTo>
                <a:lnTo>
                  <a:pt x="1041424" y="431644"/>
                </a:lnTo>
                <a:lnTo>
                  <a:pt x="1039049" y="434030"/>
                </a:lnTo>
                <a:lnTo>
                  <a:pt x="1036675" y="436680"/>
                </a:lnTo>
                <a:lnTo>
                  <a:pt x="1033773" y="438801"/>
                </a:lnTo>
                <a:lnTo>
                  <a:pt x="1031135" y="440921"/>
                </a:lnTo>
                <a:lnTo>
                  <a:pt x="1027706" y="442512"/>
                </a:lnTo>
                <a:lnTo>
                  <a:pt x="1024276" y="443837"/>
                </a:lnTo>
                <a:lnTo>
                  <a:pt x="1020846" y="445162"/>
                </a:lnTo>
                <a:lnTo>
                  <a:pt x="1017417" y="445692"/>
                </a:lnTo>
                <a:lnTo>
                  <a:pt x="1013460" y="445957"/>
                </a:lnTo>
                <a:lnTo>
                  <a:pt x="1005809" y="446487"/>
                </a:lnTo>
                <a:lnTo>
                  <a:pt x="998422" y="447018"/>
                </a:lnTo>
                <a:lnTo>
                  <a:pt x="991563" y="447813"/>
                </a:lnTo>
                <a:lnTo>
                  <a:pt x="984704" y="448873"/>
                </a:lnTo>
                <a:lnTo>
                  <a:pt x="978373" y="450198"/>
                </a:lnTo>
                <a:lnTo>
                  <a:pt x="972305" y="451524"/>
                </a:lnTo>
                <a:lnTo>
                  <a:pt x="965973" y="453114"/>
                </a:lnTo>
                <a:lnTo>
                  <a:pt x="960433" y="454969"/>
                </a:lnTo>
                <a:lnTo>
                  <a:pt x="954893" y="456825"/>
                </a:lnTo>
                <a:lnTo>
                  <a:pt x="949881" y="458945"/>
                </a:lnTo>
                <a:lnTo>
                  <a:pt x="944868" y="461066"/>
                </a:lnTo>
                <a:lnTo>
                  <a:pt x="939856" y="463716"/>
                </a:lnTo>
                <a:lnTo>
                  <a:pt x="935371" y="466102"/>
                </a:lnTo>
                <a:lnTo>
                  <a:pt x="930886" y="468753"/>
                </a:lnTo>
                <a:lnTo>
                  <a:pt x="926665" y="471403"/>
                </a:lnTo>
                <a:lnTo>
                  <a:pt x="922444" y="474319"/>
                </a:lnTo>
                <a:lnTo>
                  <a:pt x="918487" y="477235"/>
                </a:lnTo>
                <a:lnTo>
                  <a:pt x="914530" y="480150"/>
                </a:lnTo>
                <a:lnTo>
                  <a:pt x="910837" y="483331"/>
                </a:lnTo>
                <a:lnTo>
                  <a:pt x="907671" y="486777"/>
                </a:lnTo>
                <a:lnTo>
                  <a:pt x="900812" y="493403"/>
                </a:lnTo>
                <a:lnTo>
                  <a:pt x="894744" y="500825"/>
                </a:lnTo>
                <a:lnTo>
                  <a:pt x="888940" y="508247"/>
                </a:lnTo>
                <a:lnTo>
                  <a:pt x="883928" y="516199"/>
                </a:lnTo>
                <a:lnTo>
                  <a:pt x="879443" y="524150"/>
                </a:lnTo>
                <a:lnTo>
                  <a:pt x="874958" y="532367"/>
                </a:lnTo>
                <a:lnTo>
                  <a:pt x="871529" y="540319"/>
                </a:lnTo>
                <a:lnTo>
                  <a:pt x="868099" y="548801"/>
                </a:lnTo>
                <a:lnTo>
                  <a:pt x="864933" y="557018"/>
                </a:lnTo>
                <a:lnTo>
                  <a:pt x="862559" y="565235"/>
                </a:lnTo>
                <a:lnTo>
                  <a:pt x="860185" y="573452"/>
                </a:lnTo>
                <a:lnTo>
                  <a:pt x="858338" y="580874"/>
                </a:lnTo>
                <a:lnTo>
                  <a:pt x="856491" y="588295"/>
                </a:lnTo>
                <a:lnTo>
                  <a:pt x="855436" y="595187"/>
                </a:lnTo>
                <a:lnTo>
                  <a:pt x="853589" y="607645"/>
                </a:lnTo>
                <a:lnTo>
                  <a:pt x="852270" y="617717"/>
                </a:lnTo>
                <a:lnTo>
                  <a:pt x="852006" y="624874"/>
                </a:lnTo>
                <a:lnTo>
                  <a:pt x="851743" y="627789"/>
                </a:lnTo>
                <a:lnTo>
                  <a:pt x="851743" y="631765"/>
                </a:lnTo>
                <a:lnTo>
                  <a:pt x="851215" y="635476"/>
                </a:lnTo>
                <a:lnTo>
                  <a:pt x="850160" y="638922"/>
                </a:lnTo>
                <a:lnTo>
                  <a:pt x="849104" y="642633"/>
                </a:lnTo>
                <a:lnTo>
                  <a:pt x="847258" y="645549"/>
                </a:lnTo>
                <a:lnTo>
                  <a:pt x="845675" y="648729"/>
                </a:lnTo>
                <a:lnTo>
                  <a:pt x="843301" y="651645"/>
                </a:lnTo>
                <a:lnTo>
                  <a:pt x="841190" y="654296"/>
                </a:lnTo>
                <a:lnTo>
                  <a:pt x="838288" y="656681"/>
                </a:lnTo>
                <a:lnTo>
                  <a:pt x="835650" y="658802"/>
                </a:lnTo>
                <a:lnTo>
                  <a:pt x="832484" y="660657"/>
                </a:lnTo>
                <a:lnTo>
                  <a:pt x="829319" y="662247"/>
                </a:lnTo>
                <a:lnTo>
                  <a:pt x="826153" y="663308"/>
                </a:lnTo>
                <a:lnTo>
                  <a:pt x="822459" y="664103"/>
                </a:lnTo>
                <a:lnTo>
                  <a:pt x="818766" y="664898"/>
                </a:lnTo>
                <a:lnTo>
                  <a:pt x="814809" y="665163"/>
                </a:lnTo>
                <a:lnTo>
                  <a:pt x="811115" y="664898"/>
                </a:lnTo>
                <a:lnTo>
                  <a:pt x="807686" y="664103"/>
                </a:lnTo>
                <a:lnTo>
                  <a:pt x="803993" y="663308"/>
                </a:lnTo>
                <a:lnTo>
                  <a:pt x="800563" y="662247"/>
                </a:lnTo>
                <a:lnTo>
                  <a:pt x="797133" y="660657"/>
                </a:lnTo>
                <a:lnTo>
                  <a:pt x="794495" y="658802"/>
                </a:lnTo>
                <a:lnTo>
                  <a:pt x="791330" y="656681"/>
                </a:lnTo>
                <a:lnTo>
                  <a:pt x="788691" y="654296"/>
                </a:lnTo>
                <a:lnTo>
                  <a:pt x="786317" y="651645"/>
                </a:lnTo>
                <a:lnTo>
                  <a:pt x="784207" y="648729"/>
                </a:lnTo>
                <a:lnTo>
                  <a:pt x="782360" y="645549"/>
                </a:lnTo>
                <a:lnTo>
                  <a:pt x="781041" y="642633"/>
                </a:lnTo>
                <a:lnTo>
                  <a:pt x="779458" y="638922"/>
                </a:lnTo>
                <a:lnTo>
                  <a:pt x="778667" y="635476"/>
                </a:lnTo>
                <a:lnTo>
                  <a:pt x="778139" y="631765"/>
                </a:lnTo>
                <a:lnTo>
                  <a:pt x="777875" y="627789"/>
                </a:lnTo>
                <a:lnTo>
                  <a:pt x="778139" y="623814"/>
                </a:lnTo>
                <a:lnTo>
                  <a:pt x="778667" y="613741"/>
                </a:lnTo>
                <a:lnTo>
                  <a:pt x="779194" y="606850"/>
                </a:lnTo>
                <a:lnTo>
                  <a:pt x="780249" y="598898"/>
                </a:lnTo>
                <a:lnTo>
                  <a:pt x="781305" y="590151"/>
                </a:lnTo>
                <a:lnTo>
                  <a:pt x="782888" y="580343"/>
                </a:lnTo>
                <a:lnTo>
                  <a:pt x="785262" y="569741"/>
                </a:lnTo>
                <a:lnTo>
                  <a:pt x="787636" y="558343"/>
                </a:lnTo>
                <a:lnTo>
                  <a:pt x="790802" y="546681"/>
                </a:lnTo>
                <a:lnTo>
                  <a:pt x="794759" y="534223"/>
                </a:lnTo>
                <a:lnTo>
                  <a:pt x="799508" y="521500"/>
                </a:lnTo>
                <a:lnTo>
                  <a:pt x="801882" y="515138"/>
                </a:lnTo>
                <a:lnTo>
                  <a:pt x="804784" y="508247"/>
                </a:lnTo>
                <a:lnTo>
                  <a:pt x="807950" y="501885"/>
                </a:lnTo>
                <a:lnTo>
                  <a:pt x="810852" y="495524"/>
                </a:lnTo>
                <a:lnTo>
                  <a:pt x="814545" y="488632"/>
                </a:lnTo>
                <a:lnTo>
                  <a:pt x="818238" y="482271"/>
                </a:lnTo>
                <a:lnTo>
                  <a:pt x="823515" y="473259"/>
                </a:lnTo>
                <a:lnTo>
                  <a:pt x="829319" y="464512"/>
                </a:lnTo>
                <a:lnTo>
                  <a:pt x="835914" y="456030"/>
                </a:lnTo>
                <a:lnTo>
                  <a:pt x="842773" y="447548"/>
                </a:lnTo>
                <a:lnTo>
                  <a:pt x="850160" y="439331"/>
                </a:lnTo>
                <a:lnTo>
                  <a:pt x="858338" y="431379"/>
                </a:lnTo>
                <a:lnTo>
                  <a:pt x="867044" y="423692"/>
                </a:lnTo>
                <a:lnTo>
                  <a:pt x="876013" y="416270"/>
                </a:lnTo>
                <a:lnTo>
                  <a:pt x="882345" y="411499"/>
                </a:lnTo>
                <a:lnTo>
                  <a:pt x="888940" y="406993"/>
                </a:lnTo>
                <a:lnTo>
                  <a:pt x="896063" y="402752"/>
                </a:lnTo>
                <a:lnTo>
                  <a:pt x="903450" y="398776"/>
                </a:lnTo>
                <a:lnTo>
                  <a:pt x="910837" y="395066"/>
                </a:lnTo>
                <a:lnTo>
                  <a:pt x="918751" y="391620"/>
                </a:lnTo>
                <a:lnTo>
                  <a:pt x="926929" y="388174"/>
                </a:lnTo>
                <a:lnTo>
                  <a:pt x="935371" y="384993"/>
                </a:lnTo>
                <a:lnTo>
                  <a:pt x="943549" y="382343"/>
                </a:lnTo>
                <a:lnTo>
                  <a:pt x="952519" y="379957"/>
                </a:lnTo>
                <a:lnTo>
                  <a:pt x="961489" y="377837"/>
                </a:lnTo>
                <a:lnTo>
                  <a:pt x="970986" y="375716"/>
                </a:lnTo>
                <a:lnTo>
                  <a:pt x="980747" y="374391"/>
                </a:lnTo>
                <a:lnTo>
                  <a:pt x="990508" y="373065"/>
                </a:lnTo>
                <a:lnTo>
                  <a:pt x="1000533" y="372270"/>
                </a:lnTo>
                <a:lnTo>
                  <a:pt x="1010822" y="371475"/>
                </a:lnTo>
                <a:close/>
                <a:moveTo>
                  <a:pt x="1024065" y="303903"/>
                </a:moveTo>
                <a:lnTo>
                  <a:pt x="1016128" y="304432"/>
                </a:lnTo>
                <a:lnTo>
                  <a:pt x="1001049" y="305490"/>
                </a:lnTo>
                <a:lnTo>
                  <a:pt x="997875" y="305754"/>
                </a:lnTo>
                <a:lnTo>
                  <a:pt x="990467" y="306548"/>
                </a:lnTo>
                <a:lnTo>
                  <a:pt x="983060" y="307606"/>
                </a:lnTo>
                <a:lnTo>
                  <a:pt x="975388" y="308928"/>
                </a:lnTo>
                <a:lnTo>
                  <a:pt x="968245" y="310251"/>
                </a:lnTo>
                <a:lnTo>
                  <a:pt x="960838" y="311573"/>
                </a:lnTo>
                <a:lnTo>
                  <a:pt x="953430" y="313424"/>
                </a:lnTo>
                <a:lnTo>
                  <a:pt x="946288" y="315276"/>
                </a:lnTo>
                <a:lnTo>
                  <a:pt x="938880" y="317392"/>
                </a:lnTo>
                <a:lnTo>
                  <a:pt x="915071" y="324269"/>
                </a:lnTo>
                <a:lnTo>
                  <a:pt x="915336" y="325591"/>
                </a:lnTo>
                <a:lnTo>
                  <a:pt x="904754" y="330088"/>
                </a:lnTo>
                <a:lnTo>
                  <a:pt x="893907" y="334584"/>
                </a:lnTo>
                <a:lnTo>
                  <a:pt x="883590" y="340138"/>
                </a:lnTo>
                <a:lnTo>
                  <a:pt x="873537" y="345428"/>
                </a:lnTo>
                <a:lnTo>
                  <a:pt x="863749" y="350983"/>
                </a:lnTo>
                <a:lnTo>
                  <a:pt x="853961" y="357066"/>
                </a:lnTo>
                <a:lnTo>
                  <a:pt x="844437" y="363678"/>
                </a:lnTo>
                <a:lnTo>
                  <a:pt x="835178" y="370291"/>
                </a:lnTo>
                <a:lnTo>
                  <a:pt x="826183" y="377432"/>
                </a:lnTo>
                <a:lnTo>
                  <a:pt x="817453" y="384573"/>
                </a:lnTo>
                <a:lnTo>
                  <a:pt x="808987" y="392508"/>
                </a:lnTo>
                <a:lnTo>
                  <a:pt x="800522" y="400443"/>
                </a:lnTo>
                <a:lnTo>
                  <a:pt x="792585" y="408642"/>
                </a:lnTo>
                <a:lnTo>
                  <a:pt x="785178" y="416841"/>
                </a:lnTo>
                <a:lnTo>
                  <a:pt x="777771" y="425570"/>
                </a:lnTo>
                <a:lnTo>
                  <a:pt x="770363" y="434562"/>
                </a:lnTo>
                <a:lnTo>
                  <a:pt x="762956" y="445407"/>
                </a:lnTo>
                <a:lnTo>
                  <a:pt x="755813" y="455986"/>
                </a:lnTo>
                <a:lnTo>
                  <a:pt x="748935" y="467095"/>
                </a:lnTo>
                <a:lnTo>
                  <a:pt x="742586" y="478468"/>
                </a:lnTo>
                <a:lnTo>
                  <a:pt x="736766" y="490106"/>
                </a:lnTo>
                <a:lnTo>
                  <a:pt x="731210" y="502008"/>
                </a:lnTo>
                <a:lnTo>
                  <a:pt x="726184" y="514439"/>
                </a:lnTo>
                <a:lnTo>
                  <a:pt x="721687" y="526606"/>
                </a:lnTo>
                <a:lnTo>
                  <a:pt x="717718" y="539302"/>
                </a:lnTo>
                <a:lnTo>
                  <a:pt x="714015" y="552262"/>
                </a:lnTo>
                <a:lnTo>
                  <a:pt x="710840" y="565222"/>
                </a:lnTo>
                <a:lnTo>
                  <a:pt x="708724" y="578447"/>
                </a:lnTo>
                <a:lnTo>
                  <a:pt x="706607" y="591936"/>
                </a:lnTo>
                <a:lnTo>
                  <a:pt x="705285" y="605689"/>
                </a:lnTo>
                <a:lnTo>
                  <a:pt x="704491" y="619443"/>
                </a:lnTo>
                <a:lnTo>
                  <a:pt x="704226" y="633197"/>
                </a:lnTo>
                <a:lnTo>
                  <a:pt x="704226" y="642983"/>
                </a:lnTo>
                <a:lnTo>
                  <a:pt x="704491" y="652769"/>
                </a:lnTo>
                <a:lnTo>
                  <a:pt x="705020" y="662026"/>
                </a:lnTo>
                <a:lnTo>
                  <a:pt x="705549" y="671284"/>
                </a:lnTo>
                <a:lnTo>
                  <a:pt x="706607" y="680541"/>
                </a:lnTo>
                <a:lnTo>
                  <a:pt x="707930" y="689269"/>
                </a:lnTo>
                <a:lnTo>
                  <a:pt x="708988" y="697998"/>
                </a:lnTo>
                <a:lnTo>
                  <a:pt x="710311" y="706461"/>
                </a:lnTo>
                <a:lnTo>
                  <a:pt x="712163" y="714661"/>
                </a:lnTo>
                <a:lnTo>
                  <a:pt x="713750" y="722595"/>
                </a:lnTo>
                <a:lnTo>
                  <a:pt x="715602" y="730266"/>
                </a:lnTo>
                <a:lnTo>
                  <a:pt x="717983" y="738200"/>
                </a:lnTo>
                <a:lnTo>
                  <a:pt x="720099" y="745342"/>
                </a:lnTo>
                <a:lnTo>
                  <a:pt x="722480" y="752748"/>
                </a:lnTo>
                <a:lnTo>
                  <a:pt x="724861" y="759624"/>
                </a:lnTo>
                <a:lnTo>
                  <a:pt x="727507" y="766766"/>
                </a:lnTo>
                <a:lnTo>
                  <a:pt x="731739" y="776816"/>
                </a:lnTo>
                <a:lnTo>
                  <a:pt x="736237" y="786338"/>
                </a:lnTo>
                <a:lnTo>
                  <a:pt x="740734" y="795595"/>
                </a:lnTo>
                <a:lnTo>
                  <a:pt x="745760" y="804324"/>
                </a:lnTo>
                <a:lnTo>
                  <a:pt x="750522" y="812788"/>
                </a:lnTo>
                <a:lnTo>
                  <a:pt x="755549" y="820987"/>
                </a:lnTo>
                <a:lnTo>
                  <a:pt x="760840" y="828922"/>
                </a:lnTo>
                <a:lnTo>
                  <a:pt x="766131" y="836327"/>
                </a:lnTo>
                <a:lnTo>
                  <a:pt x="771686" y="843469"/>
                </a:lnTo>
                <a:lnTo>
                  <a:pt x="776977" y="850346"/>
                </a:lnTo>
                <a:lnTo>
                  <a:pt x="782268" y="856958"/>
                </a:lnTo>
                <a:lnTo>
                  <a:pt x="787824" y="863041"/>
                </a:lnTo>
                <a:lnTo>
                  <a:pt x="798141" y="875208"/>
                </a:lnTo>
                <a:lnTo>
                  <a:pt x="808458" y="885788"/>
                </a:lnTo>
                <a:lnTo>
                  <a:pt x="826977" y="905096"/>
                </a:lnTo>
                <a:lnTo>
                  <a:pt x="834649" y="913824"/>
                </a:lnTo>
                <a:lnTo>
                  <a:pt x="841262" y="921759"/>
                </a:lnTo>
                <a:lnTo>
                  <a:pt x="844172" y="925726"/>
                </a:lnTo>
                <a:lnTo>
                  <a:pt x="846553" y="929165"/>
                </a:lnTo>
                <a:lnTo>
                  <a:pt x="848934" y="932338"/>
                </a:lnTo>
                <a:lnTo>
                  <a:pt x="850521" y="935512"/>
                </a:lnTo>
                <a:lnTo>
                  <a:pt x="851844" y="938686"/>
                </a:lnTo>
                <a:lnTo>
                  <a:pt x="852902" y="941067"/>
                </a:lnTo>
                <a:lnTo>
                  <a:pt x="853961" y="943976"/>
                </a:lnTo>
                <a:lnTo>
                  <a:pt x="854490" y="946092"/>
                </a:lnTo>
                <a:lnTo>
                  <a:pt x="856341" y="957994"/>
                </a:lnTo>
                <a:lnTo>
                  <a:pt x="857929" y="969896"/>
                </a:lnTo>
                <a:lnTo>
                  <a:pt x="858987" y="981799"/>
                </a:lnTo>
                <a:lnTo>
                  <a:pt x="859781" y="993436"/>
                </a:lnTo>
                <a:lnTo>
                  <a:pt x="860310" y="1003752"/>
                </a:lnTo>
                <a:lnTo>
                  <a:pt x="860574" y="1012744"/>
                </a:lnTo>
                <a:lnTo>
                  <a:pt x="860574" y="1025176"/>
                </a:lnTo>
                <a:lnTo>
                  <a:pt x="860574" y="1026762"/>
                </a:lnTo>
                <a:lnTo>
                  <a:pt x="860574" y="1027291"/>
                </a:lnTo>
                <a:lnTo>
                  <a:pt x="860574" y="1027556"/>
                </a:lnTo>
                <a:lnTo>
                  <a:pt x="860574" y="1027820"/>
                </a:lnTo>
                <a:lnTo>
                  <a:pt x="860839" y="1031788"/>
                </a:lnTo>
                <a:lnTo>
                  <a:pt x="861103" y="1036020"/>
                </a:lnTo>
                <a:lnTo>
                  <a:pt x="861632" y="1039987"/>
                </a:lnTo>
                <a:lnTo>
                  <a:pt x="862161" y="1043955"/>
                </a:lnTo>
                <a:lnTo>
                  <a:pt x="863220" y="1047922"/>
                </a:lnTo>
                <a:lnTo>
                  <a:pt x="864278" y="1051360"/>
                </a:lnTo>
                <a:lnTo>
                  <a:pt x="865601" y="1055063"/>
                </a:lnTo>
                <a:lnTo>
                  <a:pt x="867188" y="1058766"/>
                </a:lnTo>
                <a:lnTo>
                  <a:pt x="868511" y="1062469"/>
                </a:lnTo>
                <a:lnTo>
                  <a:pt x="870362" y="1065643"/>
                </a:lnTo>
                <a:lnTo>
                  <a:pt x="872479" y="1069081"/>
                </a:lnTo>
                <a:lnTo>
                  <a:pt x="874331" y="1072255"/>
                </a:lnTo>
                <a:lnTo>
                  <a:pt x="876712" y="1075694"/>
                </a:lnTo>
                <a:lnTo>
                  <a:pt x="878828" y="1078339"/>
                </a:lnTo>
                <a:lnTo>
                  <a:pt x="881473" y="1081513"/>
                </a:lnTo>
                <a:lnTo>
                  <a:pt x="884119" y="1083893"/>
                </a:lnTo>
                <a:lnTo>
                  <a:pt x="887029" y="1086802"/>
                </a:lnTo>
                <a:lnTo>
                  <a:pt x="889939" y="1089447"/>
                </a:lnTo>
                <a:lnTo>
                  <a:pt x="892849" y="1091563"/>
                </a:lnTo>
                <a:lnTo>
                  <a:pt x="896024" y="1093944"/>
                </a:lnTo>
                <a:lnTo>
                  <a:pt x="899198" y="1095795"/>
                </a:lnTo>
                <a:lnTo>
                  <a:pt x="902373" y="1097647"/>
                </a:lnTo>
                <a:lnTo>
                  <a:pt x="905812" y="1099763"/>
                </a:lnTo>
                <a:lnTo>
                  <a:pt x="909516" y="1101085"/>
                </a:lnTo>
                <a:lnTo>
                  <a:pt x="913219" y="1102408"/>
                </a:lnTo>
                <a:lnTo>
                  <a:pt x="916658" y="1103994"/>
                </a:lnTo>
                <a:lnTo>
                  <a:pt x="920627" y="1105052"/>
                </a:lnTo>
                <a:lnTo>
                  <a:pt x="924330" y="1105846"/>
                </a:lnTo>
                <a:lnTo>
                  <a:pt x="928298" y="1106375"/>
                </a:lnTo>
                <a:lnTo>
                  <a:pt x="932267" y="1106904"/>
                </a:lnTo>
                <a:lnTo>
                  <a:pt x="936499" y="1107433"/>
                </a:lnTo>
                <a:lnTo>
                  <a:pt x="940468" y="1107697"/>
                </a:lnTo>
                <a:lnTo>
                  <a:pt x="1124857" y="1107697"/>
                </a:lnTo>
                <a:lnTo>
                  <a:pt x="1129090" y="1107433"/>
                </a:lnTo>
                <a:lnTo>
                  <a:pt x="1133058" y="1106904"/>
                </a:lnTo>
                <a:lnTo>
                  <a:pt x="1137027" y="1106375"/>
                </a:lnTo>
                <a:lnTo>
                  <a:pt x="1140730" y="1105846"/>
                </a:lnTo>
                <a:lnTo>
                  <a:pt x="1144699" y="1105052"/>
                </a:lnTo>
                <a:lnTo>
                  <a:pt x="1148667" y="1103994"/>
                </a:lnTo>
                <a:lnTo>
                  <a:pt x="1152370" y="1102408"/>
                </a:lnTo>
                <a:lnTo>
                  <a:pt x="1156074" y="1101085"/>
                </a:lnTo>
                <a:lnTo>
                  <a:pt x="1159513" y="1099763"/>
                </a:lnTo>
                <a:lnTo>
                  <a:pt x="1162688" y="1097647"/>
                </a:lnTo>
                <a:lnTo>
                  <a:pt x="1166127" y="1095795"/>
                </a:lnTo>
                <a:lnTo>
                  <a:pt x="1169566" y="1093944"/>
                </a:lnTo>
                <a:lnTo>
                  <a:pt x="1172476" y="1091563"/>
                </a:lnTo>
                <a:lnTo>
                  <a:pt x="1175651" y="1089447"/>
                </a:lnTo>
                <a:lnTo>
                  <a:pt x="1178561" y="1086802"/>
                </a:lnTo>
                <a:lnTo>
                  <a:pt x="1181206" y="1083893"/>
                </a:lnTo>
                <a:lnTo>
                  <a:pt x="1183852" y="1081248"/>
                </a:lnTo>
                <a:lnTo>
                  <a:pt x="1186233" y="1078339"/>
                </a:lnTo>
                <a:lnTo>
                  <a:pt x="1188878" y="1075429"/>
                </a:lnTo>
                <a:lnTo>
                  <a:pt x="1190994" y="1072255"/>
                </a:lnTo>
                <a:lnTo>
                  <a:pt x="1193111" y="1069081"/>
                </a:lnTo>
                <a:lnTo>
                  <a:pt x="1194963" y="1065643"/>
                </a:lnTo>
                <a:lnTo>
                  <a:pt x="1196814" y="1062469"/>
                </a:lnTo>
                <a:lnTo>
                  <a:pt x="1198402" y="1058766"/>
                </a:lnTo>
                <a:lnTo>
                  <a:pt x="1199725" y="1055063"/>
                </a:lnTo>
                <a:lnTo>
                  <a:pt x="1201047" y="1051360"/>
                </a:lnTo>
                <a:lnTo>
                  <a:pt x="1202105" y="1047922"/>
                </a:lnTo>
                <a:lnTo>
                  <a:pt x="1202899" y="1043955"/>
                </a:lnTo>
                <a:lnTo>
                  <a:pt x="1203693" y="1039987"/>
                </a:lnTo>
                <a:lnTo>
                  <a:pt x="1204222" y="1036020"/>
                </a:lnTo>
                <a:lnTo>
                  <a:pt x="1204486" y="1031788"/>
                </a:lnTo>
                <a:lnTo>
                  <a:pt x="1204486" y="1027820"/>
                </a:lnTo>
                <a:lnTo>
                  <a:pt x="1204486" y="1027556"/>
                </a:lnTo>
                <a:lnTo>
                  <a:pt x="1204486" y="1027291"/>
                </a:lnTo>
                <a:lnTo>
                  <a:pt x="1204486" y="1026762"/>
                </a:lnTo>
                <a:lnTo>
                  <a:pt x="1204486" y="1025176"/>
                </a:lnTo>
                <a:lnTo>
                  <a:pt x="1204751" y="1013009"/>
                </a:lnTo>
                <a:lnTo>
                  <a:pt x="1205280" y="1004016"/>
                </a:lnTo>
                <a:lnTo>
                  <a:pt x="1205809" y="993701"/>
                </a:lnTo>
                <a:lnTo>
                  <a:pt x="1206338" y="982063"/>
                </a:lnTo>
                <a:lnTo>
                  <a:pt x="1207661" y="969896"/>
                </a:lnTo>
                <a:lnTo>
                  <a:pt x="1208984" y="957994"/>
                </a:lnTo>
                <a:lnTo>
                  <a:pt x="1211100" y="946092"/>
                </a:lnTo>
                <a:lnTo>
                  <a:pt x="1211894" y="943183"/>
                </a:lnTo>
                <a:lnTo>
                  <a:pt x="1212952" y="939480"/>
                </a:lnTo>
                <a:lnTo>
                  <a:pt x="1215068" y="935512"/>
                </a:lnTo>
                <a:lnTo>
                  <a:pt x="1217185" y="931280"/>
                </a:lnTo>
                <a:lnTo>
                  <a:pt x="1220095" y="927313"/>
                </a:lnTo>
                <a:lnTo>
                  <a:pt x="1223005" y="923081"/>
                </a:lnTo>
                <a:lnTo>
                  <a:pt x="1226708" y="918585"/>
                </a:lnTo>
                <a:lnTo>
                  <a:pt x="1230677" y="913824"/>
                </a:lnTo>
                <a:lnTo>
                  <a:pt x="1239936" y="903773"/>
                </a:lnTo>
                <a:lnTo>
                  <a:pt x="1250253" y="892929"/>
                </a:lnTo>
                <a:lnTo>
                  <a:pt x="1258719" y="883936"/>
                </a:lnTo>
                <a:lnTo>
                  <a:pt x="1267713" y="873885"/>
                </a:lnTo>
                <a:lnTo>
                  <a:pt x="1276972" y="863570"/>
                </a:lnTo>
                <a:lnTo>
                  <a:pt x="1286496" y="852461"/>
                </a:lnTo>
                <a:lnTo>
                  <a:pt x="1296020" y="840559"/>
                </a:lnTo>
                <a:lnTo>
                  <a:pt x="1300517" y="834211"/>
                </a:lnTo>
                <a:lnTo>
                  <a:pt x="1305279" y="827335"/>
                </a:lnTo>
                <a:lnTo>
                  <a:pt x="1309776" y="820722"/>
                </a:lnTo>
                <a:lnTo>
                  <a:pt x="1314274" y="813581"/>
                </a:lnTo>
                <a:lnTo>
                  <a:pt x="1318506" y="806175"/>
                </a:lnTo>
                <a:lnTo>
                  <a:pt x="1322739" y="798505"/>
                </a:lnTo>
                <a:lnTo>
                  <a:pt x="1326972" y="790570"/>
                </a:lnTo>
                <a:lnTo>
                  <a:pt x="1330940" y="782371"/>
                </a:lnTo>
                <a:lnTo>
                  <a:pt x="1334908" y="773907"/>
                </a:lnTo>
                <a:lnTo>
                  <a:pt x="1338612" y="765179"/>
                </a:lnTo>
                <a:lnTo>
                  <a:pt x="1341787" y="755922"/>
                </a:lnTo>
                <a:lnTo>
                  <a:pt x="1344961" y="746135"/>
                </a:lnTo>
                <a:lnTo>
                  <a:pt x="1347871" y="736614"/>
                </a:lnTo>
                <a:lnTo>
                  <a:pt x="1350517" y="726563"/>
                </a:lnTo>
                <a:lnTo>
                  <a:pt x="1352898" y="715983"/>
                </a:lnTo>
                <a:lnTo>
                  <a:pt x="1355014" y="705403"/>
                </a:lnTo>
                <a:lnTo>
                  <a:pt x="1357130" y="694030"/>
                </a:lnTo>
                <a:lnTo>
                  <a:pt x="1358453" y="682657"/>
                </a:lnTo>
                <a:lnTo>
                  <a:pt x="1359511" y="670755"/>
                </a:lnTo>
                <a:lnTo>
                  <a:pt x="1360834" y="658588"/>
                </a:lnTo>
                <a:lnTo>
                  <a:pt x="1361099" y="646157"/>
                </a:lnTo>
                <a:lnTo>
                  <a:pt x="1361363" y="633197"/>
                </a:lnTo>
                <a:lnTo>
                  <a:pt x="1361099" y="619443"/>
                </a:lnTo>
                <a:lnTo>
                  <a:pt x="1360041" y="605689"/>
                </a:lnTo>
                <a:lnTo>
                  <a:pt x="1358718" y="591936"/>
                </a:lnTo>
                <a:lnTo>
                  <a:pt x="1356866" y="578447"/>
                </a:lnTo>
                <a:lnTo>
                  <a:pt x="1354220" y="565222"/>
                </a:lnTo>
                <a:lnTo>
                  <a:pt x="1351046" y="552262"/>
                </a:lnTo>
                <a:lnTo>
                  <a:pt x="1347871" y="539302"/>
                </a:lnTo>
                <a:lnTo>
                  <a:pt x="1343639" y="526606"/>
                </a:lnTo>
                <a:lnTo>
                  <a:pt x="1339141" y="514439"/>
                </a:lnTo>
                <a:lnTo>
                  <a:pt x="1334115" y="502008"/>
                </a:lnTo>
                <a:lnTo>
                  <a:pt x="1328824" y="490106"/>
                </a:lnTo>
                <a:lnTo>
                  <a:pt x="1322739" y="478468"/>
                </a:lnTo>
                <a:lnTo>
                  <a:pt x="1316390" y="467095"/>
                </a:lnTo>
                <a:lnTo>
                  <a:pt x="1309512" y="455986"/>
                </a:lnTo>
                <a:lnTo>
                  <a:pt x="1302369" y="445407"/>
                </a:lnTo>
                <a:lnTo>
                  <a:pt x="1294697" y="434562"/>
                </a:lnTo>
                <a:lnTo>
                  <a:pt x="1287819" y="425570"/>
                </a:lnTo>
                <a:lnTo>
                  <a:pt x="1280412" y="416841"/>
                </a:lnTo>
                <a:lnTo>
                  <a:pt x="1272740" y="408642"/>
                </a:lnTo>
                <a:lnTo>
                  <a:pt x="1265068" y="400443"/>
                </a:lnTo>
                <a:lnTo>
                  <a:pt x="1256867" y="392508"/>
                </a:lnTo>
                <a:lnTo>
                  <a:pt x="1248401" y="384838"/>
                </a:lnTo>
                <a:lnTo>
                  <a:pt x="1239671" y="377696"/>
                </a:lnTo>
                <a:lnTo>
                  <a:pt x="1230677" y="370555"/>
                </a:lnTo>
                <a:lnTo>
                  <a:pt x="1221417" y="363943"/>
                </a:lnTo>
                <a:lnTo>
                  <a:pt x="1211894" y="357330"/>
                </a:lnTo>
                <a:lnTo>
                  <a:pt x="1202370" y="351247"/>
                </a:lnTo>
                <a:lnTo>
                  <a:pt x="1192317" y="345693"/>
                </a:lnTo>
                <a:lnTo>
                  <a:pt x="1182000" y="340403"/>
                </a:lnTo>
                <a:lnTo>
                  <a:pt x="1171947" y="334848"/>
                </a:lnTo>
                <a:lnTo>
                  <a:pt x="1161365" y="330352"/>
                </a:lnTo>
                <a:lnTo>
                  <a:pt x="1150783" y="325856"/>
                </a:lnTo>
                <a:lnTo>
                  <a:pt x="1151048" y="324269"/>
                </a:lnTo>
                <a:lnTo>
                  <a:pt x="1126180" y="317392"/>
                </a:lnTo>
                <a:lnTo>
                  <a:pt x="1119302" y="315276"/>
                </a:lnTo>
                <a:lnTo>
                  <a:pt x="1111895" y="313424"/>
                </a:lnTo>
                <a:lnTo>
                  <a:pt x="1104752" y="311573"/>
                </a:lnTo>
                <a:lnTo>
                  <a:pt x="1097345" y="310251"/>
                </a:lnTo>
                <a:lnTo>
                  <a:pt x="1089673" y="308928"/>
                </a:lnTo>
                <a:lnTo>
                  <a:pt x="1082530" y="307606"/>
                </a:lnTo>
                <a:lnTo>
                  <a:pt x="1074858" y="306548"/>
                </a:lnTo>
                <a:lnTo>
                  <a:pt x="1067186" y="305754"/>
                </a:lnTo>
                <a:lnTo>
                  <a:pt x="1064541" y="305490"/>
                </a:lnTo>
                <a:lnTo>
                  <a:pt x="1064276" y="305490"/>
                </a:lnTo>
                <a:lnTo>
                  <a:pt x="1049197" y="304432"/>
                </a:lnTo>
                <a:lnTo>
                  <a:pt x="1041525" y="303903"/>
                </a:lnTo>
                <a:lnTo>
                  <a:pt x="1033588" y="303903"/>
                </a:lnTo>
                <a:lnTo>
                  <a:pt x="1032795" y="303903"/>
                </a:lnTo>
                <a:lnTo>
                  <a:pt x="1032530" y="303903"/>
                </a:lnTo>
                <a:lnTo>
                  <a:pt x="1032001" y="303903"/>
                </a:lnTo>
                <a:lnTo>
                  <a:pt x="1024065" y="303903"/>
                </a:lnTo>
                <a:close/>
                <a:moveTo>
                  <a:pt x="1388083" y="226671"/>
                </a:moveTo>
                <a:lnTo>
                  <a:pt x="1384643" y="226935"/>
                </a:lnTo>
                <a:lnTo>
                  <a:pt x="1381204" y="227464"/>
                </a:lnTo>
                <a:lnTo>
                  <a:pt x="1377765" y="228258"/>
                </a:lnTo>
                <a:lnTo>
                  <a:pt x="1374591" y="229316"/>
                </a:lnTo>
                <a:lnTo>
                  <a:pt x="1371416" y="230903"/>
                </a:lnTo>
                <a:lnTo>
                  <a:pt x="1368241" y="232490"/>
                </a:lnTo>
                <a:lnTo>
                  <a:pt x="1365596" y="234606"/>
                </a:lnTo>
                <a:lnTo>
                  <a:pt x="1362686" y="237250"/>
                </a:lnTo>
                <a:lnTo>
                  <a:pt x="1273269" y="326649"/>
                </a:lnTo>
                <a:lnTo>
                  <a:pt x="1280147" y="332468"/>
                </a:lnTo>
                <a:lnTo>
                  <a:pt x="1286496" y="338551"/>
                </a:lnTo>
                <a:lnTo>
                  <a:pt x="1293110" y="344899"/>
                </a:lnTo>
                <a:lnTo>
                  <a:pt x="1299195" y="351247"/>
                </a:lnTo>
                <a:lnTo>
                  <a:pt x="1305279" y="357859"/>
                </a:lnTo>
                <a:lnTo>
                  <a:pt x="1311364" y="364736"/>
                </a:lnTo>
                <a:lnTo>
                  <a:pt x="1317184" y="371348"/>
                </a:lnTo>
                <a:lnTo>
                  <a:pt x="1322739" y="378490"/>
                </a:lnTo>
                <a:lnTo>
                  <a:pt x="1413479" y="288033"/>
                </a:lnTo>
                <a:lnTo>
                  <a:pt x="1416125" y="285388"/>
                </a:lnTo>
                <a:lnTo>
                  <a:pt x="1417976" y="282479"/>
                </a:lnTo>
                <a:lnTo>
                  <a:pt x="1420093" y="279305"/>
                </a:lnTo>
                <a:lnTo>
                  <a:pt x="1421416" y="276131"/>
                </a:lnTo>
                <a:lnTo>
                  <a:pt x="1422474" y="272957"/>
                </a:lnTo>
                <a:lnTo>
                  <a:pt x="1423267" y="269519"/>
                </a:lnTo>
                <a:lnTo>
                  <a:pt x="1423797" y="266080"/>
                </a:lnTo>
                <a:lnTo>
                  <a:pt x="1423797" y="262642"/>
                </a:lnTo>
                <a:lnTo>
                  <a:pt x="1423797" y="259203"/>
                </a:lnTo>
                <a:lnTo>
                  <a:pt x="1423267" y="255765"/>
                </a:lnTo>
                <a:lnTo>
                  <a:pt x="1422474" y="252327"/>
                </a:lnTo>
                <a:lnTo>
                  <a:pt x="1421416" y="249153"/>
                </a:lnTo>
                <a:lnTo>
                  <a:pt x="1420093" y="245979"/>
                </a:lnTo>
                <a:lnTo>
                  <a:pt x="1417976" y="242805"/>
                </a:lnTo>
                <a:lnTo>
                  <a:pt x="1416125" y="240160"/>
                </a:lnTo>
                <a:lnTo>
                  <a:pt x="1413479" y="237250"/>
                </a:lnTo>
                <a:lnTo>
                  <a:pt x="1410834" y="234606"/>
                </a:lnTo>
                <a:lnTo>
                  <a:pt x="1407924" y="232490"/>
                </a:lnTo>
                <a:lnTo>
                  <a:pt x="1404749" y="230903"/>
                </a:lnTo>
                <a:lnTo>
                  <a:pt x="1401839" y="229316"/>
                </a:lnTo>
                <a:lnTo>
                  <a:pt x="1398400" y="228258"/>
                </a:lnTo>
                <a:lnTo>
                  <a:pt x="1394961" y="227464"/>
                </a:lnTo>
                <a:lnTo>
                  <a:pt x="1391522" y="226935"/>
                </a:lnTo>
                <a:lnTo>
                  <a:pt x="1388083" y="226671"/>
                </a:lnTo>
                <a:close/>
                <a:moveTo>
                  <a:pt x="677243" y="226671"/>
                </a:moveTo>
                <a:lnTo>
                  <a:pt x="673803" y="226935"/>
                </a:lnTo>
                <a:lnTo>
                  <a:pt x="670629" y="227464"/>
                </a:lnTo>
                <a:lnTo>
                  <a:pt x="667190" y="228258"/>
                </a:lnTo>
                <a:lnTo>
                  <a:pt x="663751" y="229316"/>
                </a:lnTo>
                <a:lnTo>
                  <a:pt x="660576" y="230903"/>
                </a:lnTo>
                <a:lnTo>
                  <a:pt x="657666" y="232490"/>
                </a:lnTo>
                <a:lnTo>
                  <a:pt x="654491" y="234606"/>
                </a:lnTo>
                <a:lnTo>
                  <a:pt x="651846" y="237250"/>
                </a:lnTo>
                <a:lnTo>
                  <a:pt x="649465" y="240160"/>
                </a:lnTo>
                <a:lnTo>
                  <a:pt x="647084" y="242805"/>
                </a:lnTo>
                <a:lnTo>
                  <a:pt x="645497" y="245979"/>
                </a:lnTo>
                <a:lnTo>
                  <a:pt x="644174" y="249153"/>
                </a:lnTo>
                <a:lnTo>
                  <a:pt x="642587" y="252327"/>
                </a:lnTo>
                <a:lnTo>
                  <a:pt x="642058" y="255765"/>
                </a:lnTo>
                <a:lnTo>
                  <a:pt x="641529" y="259203"/>
                </a:lnTo>
                <a:lnTo>
                  <a:pt x="641264" y="262642"/>
                </a:lnTo>
                <a:lnTo>
                  <a:pt x="641529" y="266080"/>
                </a:lnTo>
                <a:lnTo>
                  <a:pt x="642058" y="269519"/>
                </a:lnTo>
                <a:lnTo>
                  <a:pt x="642587" y="272957"/>
                </a:lnTo>
                <a:lnTo>
                  <a:pt x="644174" y="276131"/>
                </a:lnTo>
                <a:lnTo>
                  <a:pt x="645497" y="279305"/>
                </a:lnTo>
                <a:lnTo>
                  <a:pt x="647084" y="282479"/>
                </a:lnTo>
                <a:lnTo>
                  <a:pt x="649465" y="285388"/>
                </a:lnTo>
                <a:lnTo>
                  <a:pt x="651846" y="288033"/>
                </a:lnTo>
                <a:lnTo>
                  <a:pt x="742321" y="378490"/>
                </a:lnTo>
                <a:lnTo>
                  <a:pt x="748406" y="371348"/>
                </a:lnTo>
                <a:lnTo>
                  <a:pt x="753961" y="364736"/>
                </a:lnTo>
                <a:lnTo>
                  <a:pt x="760046" y="357859"/>
                </a:lnTo>
                <a:lnTo>
                  <a:pt x="765866" y="351247"/>
                </a:lnTo>
                <a:lnTo>
                  <a:pt x="772480" y="344899"/>
                </a:lnTo>
                <a:lnTo>
                  <a:pt x="778564" y="338551"/>
                </a:lnTo>
                <a:lnTo>
                  <a:pt x="785443" y="332468"/>
                </a:lnTo>
                <a:lnTo>
                  <a:pt x="791792" y="326649"/>
                </a:lnTo>
                <a:lnTo>
                  <a:pt x="702639" y="237250"/>
                </a:lnTo>
                <a:lnTo>
                  <a:pt x="699994" y="234606"/>
                </a:lnTo>
                <a:lnTo>
                  <a:pt x="696819" y="232490"/>
                </a:lnTo>
                <a:lnTo>
                  <a:pt x="694174" y="230903"/>
                </a:lnTo>
                <a:lnTo>
                  <a:pt x="690734" y="229316"/>
                </a:lnTo>
                <a:lnTo>
                  <a:pt x="687295" y="228258"/>
                </a:lnTo>
                <a:lnTo>
                  <a:pt x="683856" y="227464"/>
                </a:lnTo>
                <a:lnTo>
                  <a:pt x="680682" y="226935"/>
                </a:lnTo>
                <a:lnTo>
                  <a:pt x="677243" y="226671"/>
                </a:lnTo>
                <a:close/>
                <a:moveTo>
                  <a:pt x="1032795" y="79348"/>
                </a:moveTo>
                <a:lnTo>
                  <a:pt x="1029091" y="79877"/>
                </a:lnTo>
                <a:lnTo>
                  <a:pt x="1025387" y="80406"/>
                </a:lnTo>
                <a:lnTo>
                  <a:pt x="1021948" y="81200"/>
                </a:lnTo>
                <a:lnTo>
                  <a:pt x="1018774" y="82257"/>
                </a:lnTo>
                <a:lnTo>
                  <a:pt x="1015599" y="83844"/>
                </a:lnTo>
                <a:lnTo>
                  <a:pt x="1012425" y="85696"/>
                </a:lnTo>
                <a:lnTo>
                  <a:pt x="1010044" y="87547"/>
                </a:lnTo>
                <a:lnTo>
                  <a:pt x="1007134" y="90192"/>
                </a:lnTo>
                <a:lnTo>
                  <a:pt x="1005017" y="92573"/>
                </a:lnTo>
                <a:lnTo>
                  <a:pt x="1002901" y="95482"/>
                </a:lnTo>
                <a:lnTo>
                  <a:pt x="1001049" y="98392"/>
                </a:lnTo>
                <a:lnTo>
                  <a:pt x="999726" y="101301"/>
                </a:lnTo>
                <a:lnTo>
                  <a:pt x="998404" y="104739"/>
                </a:lnTo>
                <a:lnTo>
                  <a:pt x="997610" y="108178"/>
                </a:lnTo>
                <a:lnTo>
                  <a:pt x="997081" y="111881"/>
                </a:lnTo>
                <a:lnTo>
                  <a:pt x="996816" y="115319"/>
                </a:lnTo>
                <a:lnTo>
                  <a:pt x="996816" y="236986"/>
                </a:lnTo>
                <a:lnTo>
                  <a:pt x="1005546" y="236192"/>
                </a:lnTo>
                <a:lnTo>
                  <a:pt x="1014276" y="235664"/>
                </a:lnTo>
                <a:lnTo>
                  <a:pt x="1023007" y="235399"/>
                </a:lnTo>
                <a:lnTo>
                  <a:pt x="1031737" y="235135"/>
                </a:lnTo>
                <a:lnTo>
                  <a:pt x="1032795" y="235135"/>
                </a:lnTo>
                <a:lnTo>
                  <a:pt x="1033588" y="235135"/>
                </a:lnTo>
                <a:lnTo>
                  <a:pt x="1042583" y="235399"/>
                </a:lnTo>
                <a:lnTo>
                  <a:pt x="1051313" y="235664"/>
                </a:lnTo>
                <a:lnTo>
                  <a:pt x="1060043" y="236192"/>
                </a:lnTo>
                <a:lnTo>
                  <a:pt x="1068773" y="236986"/>
                </a:lnTo>
                <a:lnTo>
                  <a:pt x="1068773" y="115319"/>
                </a:lnTo>
                <a:lnTo>
                  <a:pt x="1068509" y="111881"/>
                </a:lnTo>
                <a:lnTo>
                  <a:pt x="1067715" y="108178"/>
                </a:lnTo>
                <a:lnTo>
                  <a:pt x="1066922" y="104739"/>
                </a:lnTo>
                <a:lnTo>
                  <a:pt x="1065863" y="101301"/>
                </a:lnTo>
                <a:lnTo>
                  <a:pt x="1064276" y="98392"/>
                </a:lnTo>
                <a:lnTo>
                  <a:pt x="1062424" y="95482"/>
                </a:lnTo>
                <a:lnTo>
                  <a:pt x="1060308" y="92573"/>
                </a:lnTo>
                <a:lnTo>
                  <a:pt x="1057927" y="90192"/>
                </a:lnTo>
                <a:lnTo>
                  <a:pt x="1055546" y="87547"/>
                </a:lnTo>
                <a:lnTo>
                  <a:pt x="1052636" y="85696"/>
                </a:lnTo>
                <a:lnTo>
                  <a:pt x="1049990" y="83844"/>
                </a:lnTo>
                <a:lnTo>
                  <a:pt x="1046816" y="82257"/>
                </a:lnTo>
                <a:lnTo>
                  <a:pt x="1043377" y="81200"/>
                </a:lnTo>
                <a:lnTo>
                  <a:pt x="1039938" y="80406"/>
                </a:lnTo>
                <a:lnTo>
                  <a:pt x="1036498" y="79877"/>
                </a:lnTo>
                <a:lnTo>
                  <a:pt x="1032795" y="79348"/>
                </a:lnTo>
                <a:close/>
                <a:moveTo>
                  <a:pt x="986234" y="0"/>
                </a:moveTo>
                <a:lnTo>
                  <a:pt x="1012954" y="265"/>
                </a:lnTo>
                <a:lnTo>
                  <a:pt x="1039938" y="1058"/>
                </a:lnTo>
                <a:lnTo>
                  <a:pt x="1066922" y="2381"/>
                </a:lnTo>
                <a:lnTo>
                  <a:pt x="1093641" y="4232"/>
                </a:lnTo>
                <a:lnTo>
                  <a:pt x="1120096" y="6612"/>
                </a:lnTo>
                <a:lnTo>
                  <a:pt x="1146286" y="8993"/>
                </a:lnTo>
                <a:lnTo>
                  <a:pt x="1172212" y="12431"/>
                </a:lnTo>
                <a:lnTo>
                  <a:pt x="1198137" y="16134"/>
                </a:lnTo>
                <a:lnTo>
                  <a:pt x="1223798" y="20366"/>
                </a:lnTo>
                <a:lnTo>
                  <a:pt x="1248930" y="25127"/>
                </a:lnTo>
                <a:lnTo>
                  <a:pt x="1274327" y="30417"/>
                </a:lnTo>
                <a:lnTo>
                  <a:pt x="1298930" y="35971"/>
                </a:lnTo>
                <a:lnTo>
                  <a:pt x="1323268" y="42055"/>
                </a:lnTo>
                <a:lnTo>
                  <a:pt x="1347871" y="48931"/>
                </a:lnTo>
                <a:lnTo>
                  <a:pt x="1371681" y="56073"/>
                </a:lnTo>
                <a:lnTo>
                  <a:pt x="1395225" y="64007"/>
                </a:lnTo>
                <a:lnTo>
                  <a:pt x="1418506" y="72207"/>
                </a:lnTo>
                <a:lnTo>
                  <a:pt x="1441521" y="80935"/>
                </a:lnTo>
                <a:lnTo>
                  <a:pt x="1464272" y="90192"/>
                </a:lnTo>
                <a:lnTo>
                  <a:pt x="1486494" y="99979"/>
                </a:lnTo>
                <a:lnTo>
                  <a:pt x="1508716" y="110029"/>
                </a:lnTo>
                <a:lnTo>
                  <a:pt x="1530145" y="120873"/>
                </a:lnTo>
                <a:lnTo>
                  <a:pt x="1551309" y="131982"/>
                </a:lnTo>
                <a:lnTo>
                  <a:pt x="1572208" y="143884"/>
                </a:lnTo>
                <a:lnTo>
                  <a:pt x="1592313" y="156051"/>
                </a:lnTo>
                <a:lnTo>
                  <a:pt x="1612684" y="168747"/>
                </a:lnTo>
                <a:lnTo>
                  <a:pt x="1631996" y="181971"/>
                </a:lnTo>
                <a:lnTo>
                  <a:pt x="1651043" y="195725"/>
                </a:lnTo>
                <a:lnTo>
                  <a:pt x="1660567" y="202602"/>
                </a:lnTo>
                <a:lnTo>
                  <a:pt x="1669826" y="210008"/>
                </a:lnTo>
                <a:lnTo>
                  <a:pt x="1678821" y="217413"/>
                </a:lnTo>
                <a:lnTo>
                  <a:pt x="1687815" y="224819"/>
                </a:lnTo>
                <a:lnTo>
                  <a:pt x="1696810" y="232225"/>
                </a:lnTo>
                <a:lnTo>
                  <a:pt x="1705804" y="240160"/>
                </a:lnTo>
                <a:lnTo>
                  <a:pt x="1714535" y="247830"/>
                </a:lnTo>
                <a:lnTo>
                  <a:pt x="1723000" y="255765"/>
                </a:lnTo>
                <a:lnTo>
                  <a:pt x="1731466" y="263964"/>
                </a:lnTo>
                <a:lnTo>
                  <a:pt x="1739931" y="272164"/>
                </a:lnTo>
                <a:lnTo>
                  <a:pt x="1747868" y="280098"/>
                </a:lnTo>
                <a:lnTo>
                  <a:pt x="1756069" y="288827"/>
                </a:lnTo>
                <a:lnTo>
                  <a:pt x="1764005" y="297290"/>
                </a:lnTo>
                <a:lnTo>
                  <a:pt x="1771941" y="306019"/>
                </a:lnTo>
                <a:lnTo>
                  <a:pt x="1779349" y="314747"/>
                </a:lnTo>
                <a:lnTo>
                  <a:pt x="1787021" y="323740"/>
                </a:lnTo>
                <a:lnTo>
                  <a:pt x="1794163" y="332997"/>
                </a:lnTo>
                <a:lnTo>
                  <a:pt x="1801571" y="341990"/>
                </a:lnTo>
                <a:lnTo>
                  <a:pt x="1808714" y="351512"/>
                </a:lnTo>
                <a:lnTo>
                  <a:pt x="1815592" y="360769"/>
                </a:lnTo>
                <a:lnTo>
                  <a:pt x="1822735" y="370291"/>
                </a:lnTo>
                <a:lnTo>
                  <a:pt x="1829348" y="380077"/>
                </a:lnTo>
                <a:lnTo>
                  <a:pt x="1835962" y="389863"/>
                </a:lnTo>
                <a:lnTo>
                  <a:pt x="1842311" y="399914"/>
                </a:lnTo>
                <a:lnTo>
                  <a:pt x="1848396" y="409964"/>
                </a:lnTo>
                <a:lnTo>
                  <a:pt x="1854745" y="420280"/>
                </a:lnTo>
                <a:lnTo>
                  <a:pt x="1860830" y="430330"/>
                </a:lnTo>
                <a:lnTo>
                  <a:pt x="1866385" y="441175"/>
                </a:lnTo>
                <a:lnTo>
                  <a:pt x="1872470" y="451490"/>
                </a:lnTo>
                <a:lnTo>
                  <a:pt x="1877761" y="462070"/>
                </a:lnTo>
                <a:lnTo>
                  <a:pt x="1883316" y="473178"/>
                </a:lnTo>
                <a:lnTo>
                  <a:pt x="1888342" y="484023"/>
                </a:lnTo>
                <a:lnTo>
                  <a:pt x="1893369" y="495396"/>
                </a:lnTo>
                <a:lnTo>
                  <a:pt x="1898395" y="506240"/>
                </a:lnTo>
                <a:lnTo>
                  <a:pt x="1903157" y="517613"/>
                </a:lnTo>
                <a:lnTo>
                  <a:pt x="1907654" y="529251"/>
                </a:lnTo>
                <a:lnTo>
                  <a:pt x="1912152" y="540624"/>
                </a:lnTo>
                <a:lnTo>
                  <a:pt x="1916385" y="552526"/>
                </a:lnTo>
                <a:lnTo>
                  <a:pt x="1920617" y="564428"/>
                </a:lnTo>
                <a:lnTo>
                  <a:pt x="1924586" y="576331"/>
                </a:lnTo>
                <a:lnTo>
                  <a:pt x="1928289" y="588497"/>
                </a:lnTo>
                <a:lnTo>
                  <a:pt x="1931993" y="600664"/>
                </a:lnTo>
                <a:lnTo>
                  <a:pt x="1935432" y="612831"/>
                </a:lnTo>
                <a:lnTo>
                  <a:pt x="1938607" y="625526"/>
                </a:lnTo>
                <a:lnTo>
                  <a:pt x="1941781" y="637958"/>
                </a:lnTo>
                <a:lnTo>
                  <a:pt x="1944691" y="650918"/>
                </a:lnTo>
                <a:lnTo>
                  <a:pt x="1947337" y="663613"/>
                </a:lnTo>
                <a:lnTo>
                  <a:pt x="1950247" y="676574"/>
                </a:lnTo>
                <a:lnTo>
                  <a:pt x="1952363" y="689798"/>
                </a:lnTo>
                <a:lnTo>
                  <a:pt x="1954744" y="703023"/>
                </a:lnTo>
                <a:lnTo>
                  <a:pt x="1956596" y="716248"/>
                </a:lnTo>
                <a:lnTo>
                  <a:pt x="1958448" y="729737"/>
                </a:lnTo>
                <a:lnTo>
                  <a:pt x="1960299" y="743490"/>
                </a:lnTo>
                <a:lnTo>
                  <a:pt x="1961622" y="757244"/>
                </a:lnTo>
                <a:lnTo>
                  <a:pt x="1962945" y="770998"/>
                </a:lnTo>
                <a:lnTo>
                  <a:pt x="1964268" y="785016"/>
                </a:lnTo>
                <a:lnTo>
                  <a:pt x="1965061" y="799034"/>
                </a:lnTo>
                <a:lnTo>
                  <a:pt x="1965855" y="813317"/>
                </a:lnTo>
                <a:lnTo>
                  <a:pt x="1966384" y="827599"/>
                </a:lnTo>
                <a:lnTo>
                  <a:pt x="1966649" y="842411"/>
                </a:lnTo>
                <a:lnTo>
                  <a:pt x="1966913" y="856958"/>
                </a:lnTo>
                <a:lnTo>
                  <a:pt x="1966913" y="871769"/>
                </a:lnTo>
                <a:lnTo>
                  <a:pt x="1966649" y="886581"/>
                </a:lnTo>
                <a:lnTo>
                  <a:pt x="1966120" y="901393"/>
                </a:lnTo>
                <a:lnTo>
                  <a:pt x="1965590" y="916733"/>
                </a:lnTo>
                <a:lnTo>
                  <a:pt x="1964797" y="931809"/>
                </a:lnTo>
                <a:lnTo>
                  <a:pt x="1964003" y="947150"/>
                </a:lnTo>
                <a:lnTo>
                  <a:pt x="1962416" y="962755"/>
                </a:lnTo>
                <a:lnTo>
                  <a:pt x="1961093" y="978360"/>
                </a:lnTo>
                <a:lnTo>
                  <a:pt x="1959506" y="994230"/>
                </a:lnTo>
                <a:lnTo>
                  <a:pt x="1957654" y="1010099"/>
                </a:lnTo>
                <a:lnTo>
                  <a:pt x="1955802" y="1026233"/>
                </a:lnTo>
                <a:lnTo>
                  <a:pt x="1953950" y="1038929"/>
                </a:lnTo>
                <a:lnTo>
                  <a:pt x="1952363" y="1051360"/>
                </a:lnTo>
                <a:lnTo>
                  <a:pt x="1950247" y="1064056"/>
                </a:lnTo>
                <a:lnTo>
                  <a:pt x="1947866" y="1076752"/>
                </a:lnTo>
                <a:lnTo>
                  <a:pt x="1944956" y="1089447"/>
                </a:lnTo>
                <a:lnTo>
                  <a:pt x="1942046" y="1101879"/>
                </a:lnTo>
                <a:lnTo>
                  <a:pt x="1938607" y="1114574"/>
                </a:lnTo>
                <a:lnTo>
                  <a:pt x="1935167" y="1127005"/>
                </a:lnTo>
                <a:lnTo>
                  <a:pt x="1931199" y="1139701"/>
                </a:lnTo>
                <a:lnTo>
                  <a:pt x="1927231" y="1152132"/>
                </a:lnTo>
                <a:lnTo>
                  <a:pt x="1922998" y="1164828"/>
                </a:lnTo>
                <a:lnTo>
                  <a:pt x="1918501" y="1177524"/>
                </a:lnTo>
                <a:lnTo>
                  <a:pt x="1913210" y="1189955"/>
                </a:lnTo>
                <a:lnTo>
                  <a:pt x="1908448" y="1202386"/>
                </a:lnTo>
                <a:lnTo>
                  <a:pt x="1903157" y="1214817"/>
                </a:lnTo>
                <a:lnTo>
                  <a:pt x="1897866" y="1227513"/>
                </a:lnTo>
                <a:lnTo>
                  <a:pt x="1892311" y="1239944"/>
                </a:lnTo>
                <a:lnTo>
                  <a:pt x="1886491" y="1252111"/>
                </a:lnTo>
                <a:lnTo>
                  <a:pt x="1880142" y="1264806"/>
                </a:lnTo>
                <a:lnTo>
                  <a:pt x="1874321" y="1276973"/>
                </a:lnTo>
                <a:lnTo>
                  <a:pt x="1861359" y="1301571"/>
                </a:lnTo>
                <a:lnTo>
                  <a:pt x="1847867" y="1325904"/>
                </a:lnTo>
                <a:lnTo>
                  <a:pt x="1834110" y="1350238"/>
                </a:lnTo>
                <a:lnTo>
                  <a:pt x="1819825" y="1374306"/>
                </a:lnTo>
                <a:lnTo>
                  <a:pt x="1805274" y="1397846"/>
                </a:lnTo>
                <a:lnTo>
                  <a:pt x="1790195" y="1421386"/>
                </a:lnTo>
                <a:lnTo>
                  <a:pt x="1774851" y="1444662"/>
                </a:lnTo>
                <a:lnTo>
                  <a:pt x="1759772" y="1467673"/>
                </a:lnTo>
                <a:lnTo>
                  <a:pt x="1744164" y="1490154"/>
                </a:lnTo>
                <a:lnTo>
                  <a:pt x="1728820" y="1512636"/>
                </a:lnTo>
                <a:lnTo>
                  <a:pt x="1697868" y="1556278"/>
                </a:lnTo>
                <a:lnTo>
                  <a:pt x="1667974" y="1598332"/>
                </a:lnTo>
                <a:lnTo>
                  <a:pt x="1639403" y="1638535"/>
                </a:lnTo>
                <a:lnTo>
                  <a:pt x="1625647" y="1658108"/>
                </a:lnTo>
                <a:lnTo>
                  <a:pt x="1612419" y="1676887"/>
                </a:lnTo>
                <a:lnTo>
                  <a:pt x="1599985" y="1695401"/>
                </a:lnTo>
                <a:lnTo>
                  <a:pt x="1587816" y="1713387"/>
                </a:lnTo>
                <a:lnTo>
                  <a:pt x="1576705" y="1730843"/>
                </a:lnTo>
                <a:lnTo>
                  <a:pt x="1566388" y="1748035"/>
                </a:lnTo>
                <a:lnTo>
                  <a:pt x="1607393" y="2062253"/>
                </a:lnTo>
                <a:lnTo>
                  <a:pt x="1556070" y="2077329"/>
                </a:lnTo>
                <a:lnTo>
                  <a:pt x="1479087" y="2100605"/>
                </a:lnTo>
                <a:lnTo>
                  <a:pt x="1371681" y="2133931"/>
                </a:lnTo>
                <a:lnTo>
                  <a:pt x="1245491" y="2173076"/>
                </a:lnTo>
                <a:lnTo>
                  <a:pt x="1113217" y="2214601"/>
                </a:lnTo>
                <a:lnTo>
                  <a:pt x="986499" y="2254804"/>
                </a:lnTo>
                <a:lnTo>
                  <a:pt x="877241" y="2289188"/>
                </a:lnTo>
                <a:lnTo>
                  <a:pt x="797347" y="2314844"/>
                </a:lnTo>
                <a:lnTo>
                  <a:pt x="772480" y="2323043"/>
                </a:lnTo>
                <a:lnTo>
                  <a:pt x="759252" y="2327275"/>
                </a:lnTo>
                <a:lnTo>
                  <a:pt x="710046" y="2094521"/>
                </a:lnTo>
                <a:lnTo>
                  <a:pt x="701846" y="2097431"/>
                </a:lnTo>
                <a:lnTo>
                  <a:pt x="680153" y="2105630"/>
                </a:lnTo>
                <a:lnTo>
                  <a:pt x="664544" y="2110920"/>
                </a:lnTo>
                <a:lnTo>
                  <a:pt x="646820" y="2117003"/>
                </a:lnTo>
                <a:lnTo>
                  <a:pt x="626978" y="2123351"/>
                </a:lnTo>
                <a:lnTo>
                  <a:pt x="605550" y="2129699"/>
                </a:lnTo>
                <a:lnTo>
                  <a:pt x="582799" y="2136576"/>
                </a:lnTo>
                <a:lnTo>
                  <a:pt x="559254" y="2142923"/>
                </a:lnTo>
                <a:lnTo>
                  <a:pt x="535180" y="2149007"/>
                </a:lnTo>
                <a:lnTo>
                  <a:pt x="523011" y="2151652"/>
                </a:lnTo>
                <a:lnTo>
                  <a:pt x="511107" y="2154297"/>
                </a:lnTo>
                <a:lnTo>
                  <a:pt x="498937" y="2156413"/>
                </a:lnTo>
                <a:lnTo>
                  <a:pt x="486768" y="2158793"/>
                </a:lnTo>
                <a:lnTo>
                  <a:pt x="475128" y="2160644"/>
                </a:lnTo>
                <a:lnTo>
                  <a:pt x="463488" y="2162496"/>
                </a:lnTo>
                <a:lnTo>
                  <a:pt x="452112" y="2163554"/>
                </a:lnTo>
                <a:lnTo>
                  <a:pt x="441001" y="2164612"/>
                </a:lnTo>
                <a:lnTo>
                  <a:pt x="430419" y="2165141"/>
                </a:lnTo>
                <a:lnTo>
                  <a:pt x="420102" y="2165141"/>
                </a:lnTo>
                <a:lnTo>
                  <a:pt x="410049" y="2164876"/>
                </a:lnTo>
                <a:lnTo>
                  <a:pt x="400261" y="2164083"/>
                </a:lnTo>
                <a:lnTo>
                  <a:pt x="391002" y="2162760"/>
                </a:lnTo>
                <a:lnTo>
                  <a:pt x="382272" y="2160644"/>
                </a:lnTo>
                <a:lnTo>
                  <a:pt x="373806" y="2158264"/>
                </a:lnTo>
                <a:lnTo>
                  <a:pt x="365870" y="2155355"/>
                </a:lnTo>
                <a:lnTo>
                  <a:pt x="357933" y="2151916"/>
                </a:lnTo>
                <a:lnTo>
                  <a:pt x="350790" y="2148213"/>
                </a:lnTo>
                <a:lnTo>
                  <a:pt x="343648" y="2144246"/>
                </a:lnTo>
                <a:lnTo>
                  <a:pt x="337034" y="2139749"/>
                </a:lnTo>
                <a:lnTo>
                  <a:pt x="330685" y="2135253"/>
                </a:lnTo>
                <a:lnTo>
                  <a:pt x="324600" y="2129963"/>
                </a:lnTo>
                <a:lnTo>
                  <a:pt x="319045" y="2124938"/>
                </a:lnTo>
                <a:lnTo>
                  <a:pt x="313489" y="2119384"/>
                </a:lnTo>
                <a:lnTo>
                  <a:pt x="308463" y="2114094"/>
                </a:lnTo>
                <a:lnTo>
                  <a:pt x="303966" y="2108539"/>
                </a:lnTo>
                <a:lnTo>
                  <a:pt x="299468" y="2102456"/>
                </a:lnTo>
                <a:lnTo>
                  <a:pt x="295500" y="2096902"/>
                </a:lnTo>
                <a:lnTo>
                  <a:pt x="291796" y="2091083"/>
                </a:lnTo>
                <a:lnTo>
                  <a:pt x="288357" y="2085264"/>
                </a:lnTo>
                <a:lnTo>
                  <a:pt x="285183" y="2079445"/>
                </a:lnTo>
                <a:lnTo>
                  <a:pt x="282537" y="2073891"/>
                </a:lnTo>
                <a:lnTo>
                  <a:pt x="279892" y="2068336"/>
                </a:lnTo>
                <a:lnTo>
                  <a:pt x="277511" y="2062782"/>
                </a:lnTo>
                <a:lnTo>
                  <a:pt x="275394" y="2057757"/>
                </a:lnTo>
                <a:lnTo>
                  <a:pt x="273807" y="2052467"/>
                </a:lnTo>
                <a:lnTo>
                  <a:pt x="272220" y="2047706"/>
                </a:lnTo>
                <a:lnTo>
                  <a:pt x="271162" y="2042945"/>
                </a:lnTo>
                <a:lnTo>
                  <a:pt x="270103" y="2038713"/>
                </a:lnTo>
                <a:lnTo>
                  <a:pt x="269574" y="2035275"/>
                </a:lnTo>
                <a:lnTo>
                  <a:pt x="269310" y="2031572"/>
                </a:lnTo>
                <a:lnTo>
                  <a:pt x="269045" y="2028398"/>
                </a:lnTo>
                <a:lnTo>
                  <a:pt x="269045" y="2025489"/>
                </a:lnTo>
                <a:lnTo>
                  <a:pt x="269310" y="2022050"/>
                </a:lnTo>
                <a:lnTo>
                  <a:pt x="270632" y="2013851"/>
                </a:lnTo>
                <a:lnTo>
                  <a:pt x="272484" y="2004329"/>
                </a:lnTo>
                <a:lnTo>
                  <a:pt x="274865" y="1993749"/>
                </a:lnTo>
                <a:lnTo>
                  <a:pt x="280156" y="1969680"/>
                </a:lnTo>
                <a:lnTo>
                  <a:pt x="282802" y="1957249"/>
                </a:lnTo>
                <a:lnTo>
                  <a:pt x="284918" y="1944289"/>
                </a:lnTo>
                <a:lnTo>
                  <a:pt x="285712" y="1937677"/>
                </a:lnTo>
                <a:lnTo>
                  <a:pt x="286770" y="1931329"/>
                </a:lnTo>
                <a:lnTo>
                  <a:pt x="287034" y="1924981"/>
                </a:lnTo>
                <a:lnTo>
                  <a:pt x="287299" y="1918633"/>
                </a:lnTo>
                <a:lnTo>
                  <a:pt x="287564" y="1912285"/>
                </a:lnTo>
                <a:lnTo>
                  <a:pt x="287299" y="1906202"/>
                </a:lnTo>
                <a:lnTo>
                  <a:pt x="286770" y="1900383"/>
                </a:lnTo>
                <a:lnTo>
                  <a:pt x="285712" y="1894564"/>
                </a:lnTo>
                <a:lnTo>
                  <a:pt x="284654" y="1889010"/>
                </a:lnTo>
                <a:lnTo>
                  <a:pt x="283066" y="1883985"/>
                </a:lnTo>
                <a:lnTo>
                  <a:pt x="280950" y="1878695"/>
                </a:lnTo>
                <a:lnTo>
                  <a:pt x="278569" y="1873934"/>
                </a:lnTo>
                <a:lnTo>
                  <a:pt x="275659" y="1869438"/>
                </a:lnTo>
                <a:lnTo>
                  <a:pt x="272220" y="1865735"/>
                </a:lnTo>
                <a:lnTo>
                  <a:pt x="268781" y="1862032"/>
                </a:lnTo>
                <a:lnTo>
                  <a:pt x="264283" y="1858593"/>
                </a:lnTo>
                <a:lnTo>
                  <a:pt x="235712" y="1840343"/>
                </a:lnTo>
                <a:lnTo>
                  <a:pt x="215077" y="1826854"/>
                </a:lnTo>
                <a:lnTo>
                  <a:pt x="198146" y="1816274"/>
                </a:lnTo>
                <a:lnTo>
                  <a:pt x="194443" y="1807017"/>
                </a:lnTo>
                <a:lnTo>
                  <a:pt x="191004" y="1797231"/>
                </a:lnTo>
                <a:lnTo>
                  <a:pt x="187300" y="1785064"/>
                </a:lnTo>
                <a:lnTo>
                  <a:pt x="185448" y="1778981"/>
                </a:lnTo>
                <a:lnTo>
                  <a:pt x="184125" y="1772369"/>
                </a:lnTo>
                <a:lnTo>
                  <a:pt x="182803" y="1766285"/>
                </a:lnTo>
                <a:lnTo>
                  <a:pt x="182009" y="1759937"/>
                </a:lnTo>
                <a:lnTo>
                  <a:pt x="181744" y="1754383"/>
                </a:lnTo>
                <a:lnTo>
                  <a:pt x="181744" y="1749093"/>
                </a:lnTo>
                <a:lnTo>
                  <a:pt x="182009" y="1746977"/>
                </a:lnTo>
                <a:lnTo>
                  <a:pt x="182538" y="1744597"/>
                </a:lnTo>
                <a:lnTo>
                  <a:pt x="183067" y="1742745"/>
                </a:lnTo>
                <a:lnTo>
                  <a:pt x="183861" y="1740629"/>
                </a:lnTo>
                <a:lnTo>
                  <a:pt x="186242" y="1737191"/>
                </a:lnTo>
                <a:lnTo>
                  <a:pt x="188623" y="1734017"/>
                </a:lnTo>
                <a:lnTo>
                  <a:pt x="191797" y="1730579"/>
                </a:lnTo>
                <a:lnTo>
                  <a:pt x="194707" y="1727140"/>
                </a:lnTo>
                <a:lnTo>
                  <a:pt x="201586" y="1720792"/>
                </a:lnTo>
                <a:lnTo>
                  <a:pt x="208199" y="1714445"/>
                </a:lnTo>
                <a:lnTo>
                  <a:pt x="214548" y="1709155"/>
                </a:lnTo>
                <a:lnTo>
                  <a:pt x="219310" y="1704394"/>
                </a:lnTo>
                <a:lnTo>
                  <a:pt x="220897" y="1702542"/>
                </a:lnTo>
                <a:lnTo>
                  <a:pt x="221691" y="1700691"/>
                </a:lnTo>
                <a:lnTo>
                  <a:pt x="222220" y="1699369"/>
                </a:lnTo>
                <a:lnTo>
                  <a:pt x="221956" y="1698840"/>
                </a:lnTo>
                <a:lnTo>
                  <a:pt x="221691" y="1698311"/>
                </a:lnTo>
                <a:lnTo>
                  <a:pt x="220104" y="1697253"/>
                </a:lnTo>
                <a:lnTo>
                  <a:pt x="216929" y="1695666"/>
                </a:lnTo>
                <a:lnTo>
                  <a:pt x="207141" y="1691169"/>
                </a:lnTo>
                <a:lnTo>
                  <a:pt x="193914" y="1686144"/>
                </a:lnTo>
                <a:lnTo>
                  <a:pt x="178834" y="1680061"/>
                </a:lnTo>
                <a:lnTo>
                  <a:pt x="163491" y="1674242"/>
                </a:lnTo>
                <a:lnTo>
                  <a:pt x="148940" y="1668158"/>
                </a:lnTo>
                <a:lnTo>
                  <a:pt x="137300" y="1663133"/>
                </a:lnTo>
                <a:lnTo>
                  <a:pt x="132803" y="1661282"/>
                </a:lnTo>
                <a:lnTo>
                  <a:pt x="129628" y="1659166"/>
                </a:lnTo>
                <a:lnTo>
                  <a:pt x="128570" y="1658372"/>
                </a:lnTo>
                <a:lnTo>
                  <a:pt x="127248" y="1657314"/>
                </a:lnTo>
                <a:lnTo>
                  <a:pt x="124602" y="1654140"/>
                </a:lnTo>
                <a:lnTo>
                  <a:pt x="122221" y="1649908"/>
                </a:lnTo>
                <a:lnTo>
                  <a:pt x="119576" y="1645147"/>
                </a:lnTo>
                <a:lnTo>
                  <a:pt x="116930" y="1639593"/>
                </a:lnTo>
                <a:lnTo>
                  <a:pt x="115078" y="1633774"/>
                </a:lnTo>
                <a:lnTo>
                  <a:pt x="112697" y="1627162"/>
                </a:lnTo>
                <a:lnTo>
                  <a:pt x="111375" y="1620814"/>
                </a:lnTo>
                <a:lnTo>
                  <a:pt x="110052" y="1613937"/>
                </a:lnTo>
                <a:lnTo>
                  <a:pt x="109258" y="1607589"/>
                </a:lnTo>
                <a:lnTo>
                  <a:pt x="108994" y="1601506"/>
                </a:lnTo>
                <a:lnTo>
                  <a:pt x="109258" y="1595158"/>
                </a:lnTo>
                <a:lnTo>
                  <a:pt x="109523" y="1592513"/>
                </a:lnTo>
                <a:lnTo>
                  <a:pt x="110052" y="1589868"/>
                </a:lnTo>
                <a:lnTo>
                  <a:pt x="110846" y="1587488"/>
                </a:lnTo>
                <a:lnTo>
                  <a:pt x="111639" y="1585107"/>
                </a:lnTo>
                <a:lnTo>
                  <a:pt x="112697" y="1582992"/>
                </a:lnTo>
                <a:lnTo>
                  <a:pt x="114285" y="1581140"/>
                </a:lnTo>
                <a:lnTo>
                  <a:pt x="115607" y="1579553"/>
                </a:lnTo>
                <a:lnTo>
                  <a:pt x="117195" y="1578231"/>
                </a:lnTo>
                <a:lnTo>
                  <a:pt x="120898" y="1575321"/>
                </a:lnTo>
                <a:lnTo>
                  <a:pt x="124338" y="1572412"/>
                </a:lnTo>
                <a:lnTo>
                  <a:pt x="127512" y="1569502"/>
                </a:lnTo>
                <a:lnTo>
                  <a:pt x="130158" y="1566328"/>
                </a:lnTo>
                <a:lnTo>
                  <a:pt x="132803" y="1563155"/>
                </a:lnTo>
                <a:lnTo>
                  <a:pt x="134655" y="1560245"/>
                </a:lnTo>
                <a:lnTo>
                  <a:pt x="136771" y="1556807"/>
                </a:lnTo>
                <a:lnTo>
                  <a:pt x="138094" y="1553368"/>
                </a:lnTo>
                <a:lnTo>
                  <a:pt x="139417" y="1549930"/>
                </a:lnTo>
                <a:lnTo>
                  <a:pt x="140475" y="1546756"/>
                </a:lnTo>
                <a:lnTo>
                  <a:pt x="141004" y="1543318"/>
                </a:lnTo>
                <a:lnTo>
                  <a:pt x="141004" y="1539879"/>
                </a:lnTo>
                <a:lnTo>
                  <a:pt x="141004" y="1536705"/>
                </a:lnTo>
                <a:lnTo>
                  <a:pt x="140475" y="1533531"/>
                </a:lnTo>
                <a:lnTo>
                  <a:pt x="139417" y="1530093"/>
                </a:lnTo>
                <a:lnTo>
                  <a:pt x="138359" y="1526919"/>
                </a:lnTo>
                <a:lnTo>
                  <a:pt x="136771" y="1524010"/>
                </a:lnTo>
                <a:lnTo>
                  <a:pt x="134655" y="1521100"/>
                </a:lnTo>
                <a:lnTo>
                  <a:pt x="132539" y="1518455"/>
                </a:lnTo>
                <a:lnTo>
                  <a:pt x="129628" y="1515546"/>
                </a:lnTo>
                <a:lnTo>
                  <a:pt x="126718" y="1512901"/>
                </a:lnTo>
                <a:lnTo>
                  <a:pt x="123279" y="1510520"/>
                </a:lnTo>
                <a:lnTo>
                  <a:pt x="119576" y="1508404"/>
                </a:lnTo>
                <a:lnTo>
                  <a:pt x="115343" y="1506289"/>
                </a:lnTo>
                <a:lnTo>
                  <a:pt x="110581" y="1504702"/>
                </a:lnTo>
                <a:lnTo>
                  <a:pt x="105555" y="1502850"/>
                </a:lnTo>
                <a:lnTo>
                  <a:pt x="100264" y="1501792"/>
                </a:lnTo>
                <a:lnTo>
                  <a:pt x="94179" y="1500734"/>
                </a:lnTo>
                <a:lnTo>
                  <a:pt x="88094" y="1499676"/>
                </a:lnTo>
                <a:lnTo>
                  <a:pt x="81481" y="1499147"/>
                </a:lnTo>
                <a:lnTo>
                  <a:pt x="74338" y="1498883"/>
                </a:lnTo>
                <a:lnTo>
                  <a:pt x="66666" y="1498883"/>
                </a:lnTo>
                <a:lnTo>
                  <a:pt x="60846" y="1498883"/>
                </a:lnTo>
                <a:lnTo>
                  <a:pt x="55026" y="1498354"/>
                </a:lnTo>
                <a:lnTo>
                  <a:pt x="49735" y="1497560"/>
                </a:lnTo>
                <a:lnTo>
                  <a:pt x="44709" y="1496238"/>
                </a:lnTo>
                <a:lnTo>
                  <a:pt x="39947" y="1494386"/>
                </a:lnTo>
                <a:lnTo>
                  <a:pt x="35449" y="1492270"/>
                </a:lnTo>
                <a:lnTo>
                  <a:pt x="31217" y="1489625"/>
                </a:lnTo>
                <a:lnTo>
                  <a:pt x="27248" y="1486981"/>
                </a:lnTo>
                <a:lnTo>
                  <a:pt x="23545" y="1483807"/>
                </a:lnTo>
                <a:lnTo>
                  <a:pt x="20106" y="1480368"/>
                </a:lnTo>
                <a:lnTo>
                  <a:pt x="17196" y="1476665"/>
                </a:lnTo>
                <a:lnTo>
                  <a:pt x="14286" y="1472962"/>
                </a:lnTo>
                <a:lnTo>
                  <a:pt x="11640" y="1468995"/>
                </a:lnTo>
                <a:lnTo>
                  <a:pt x="9524" y="1464499"/>
                </a:lnTo>
                <a:lnTo>
                  <a:pt x="7407" y="1460002"/>
                </a:lnTo>
                <a:lnTo>
                  <a:pt x="5820" y="1455506"/>
                </a:lnTo>
                <a:lnTo>
                  <a:pt x="4233" y="1450745"/>
                </a:lnTo>
                <a:lnTo>
                  <a:pt x="2910" y="1445720"/>
                </a:lnTo>
                <a:lnTo>
                  <a:pt x="1852" y="1440959"/>
                </a:lnTo>
                <a:lnTo>
                  <a:pt x="1058" y="1435669"/>
                </a:lnTo>
                <a:lnTo>
                  <a:pt x="529" y="1430643"/>
                </a:lnTo>
                <a:lnTo>
                  <a:pt x="265" y="1425354"/>
                </a:lnTo>
                <a:lnTo>
                  <a:pt x="0" y="1420328"/>
                </a:lnTo>
                <a:lnTo>
                  <a:pt x="0" y="1415303"/>
                </a:lnTo>
                <a:lnTo>
                  <a:pt x="265" y="1410278"/>
                </a:lnTo>
                <a:lnTo>
                  <a:pt x="794" y="1405252"/>
                </a:lnTo>
                <a:lnTo>
                  <a:pt x="1323" y="1400227"/>
                </a:lnTo>
                <a:lnTo>
                  <a:pt x="2116" y="1395466"/>
                </a:lnTo>
                <a:lnTo>
                  <a:pt x="2910" y="1390705"/>
                </a:lnTo>
                <a:lnTo>
                  <a:pt x="4233" y="1386209"/>
                </a:lnTo>
                <a:lnTo>
                  <a:pt x="5556" y="1381977"/>
                </a:lnTo>
                <a:lnTo>
                  <a:pt x="6878" y="1377745"/>
                </a:lnTo>
                <a:lnTo>
                  <a:pt x="11640" y="1365843"/>
                </a:lnTo>
                <a:lnTo>
                  <a:pt x="19048" y="1349444"/>
                </a:lnTo>
                <a:lnTo>
                  <a:pt x="39947" y="1303687"/>
                </a:lnTo>
                <a:lnTo>
                  <a:pt x="65608" y="1245763"/>
                </a:lnTo>
                <a:lnTo>
                  <a:pt x="79629" y="1214288"/>
                </a:lnTo>
                <a:lnTo>
                  <a:pt x="93650" y="1182020"/>
                </a:lnTo>
                <a:lnTo>
                  <a:pt x="107406" y="1149487"/>
                </a:lnTo>
                <a:lnTo>
                  <a:pt x="120634" y="1117484"/>
                </a:lnTo>
                <a:lnTo>
                  <a:pt x="133068" y="1086802"/>
                </a:lnTo>
                <a:lnTo>
                  <a:pt x="138623" y="1072255"/>
                </a:lnTo>
                <a:lnTo>
                  <a:pt x="143914" y="1057973"/>
                </a:lnTo>
                <a:lnTo>
                  <a:pt x="148411" y="1044748"/>
                </a:lnTo>
                <a:lnTo>
                  <a:pt x="152909" y="1031788"/>
                </a:lnTo>
                <a:lnTo>
                  <a:pt x="156612" y="1019886"/>
                </a:lnTo>
                <a:lnTo>
                  <a:pt x="159787" y="1009041"/>
                </a:lnTo>
                <a:lnTo>
                  <a:pt x="162168" y="999255"/>
                </a:lnTo>
                <a:lnTo>
                  <a:pt x="164020" y="990527"/>
                </a:lnTo>
                <a:lnTo>
                  <a:pt x="164813" y="982857"/>
                </a:lnTo>
                <a:lnTo>
                  <a:pt x="165078" y="979683"/>
                </a:lnTo>
                <a:lnTo>
                  <a:pt x="165078" y="976509"/>
                </a:lnTo>
                <a:lnTo>
                  <a:pt x="164549" y="965929"/>
                </a:lnTo>
                <a:lnTo>
                  <a:pt x="163755" y="956143"/>
                </a:lnTo>
                <a:lnTo>
                  <a:pt x="162697" y="947944"/>
                </a:lnTo>
                <a:lnTo>
                  <a:pt x="161374" y="940273"/>
                </a:lnTo>
                <a:lnTo>
                  <a:pt x="160051" y="933396"/>
                </a:lnTo>
                <a:lnTo>
                  <a:pt x="158729" y="927578"/>
                </a:lnTo>
                <a:lnTo>
                  <a:pt x="157141" y="922288"/>
                </a:lnTo>
                <a:lnTo>
                  <a:pt x="155554" y="917527"/>
                </a:lnTo>
                <a:lnTo>
                  <a:pt x="152380" y="908799"/>
                </a:lnTo>
                <a:lnTo>
                  <a:pt x="149999" y="900864"/>
                </a:lnTo>
                <a:lnTo>
                  <a:pt x="148940" y="897425"/>
                </a:lnTo>
                <a:lnTo>
                  <a:pt x="148147" y="893458"/>
                </a:lnTo>
                <a:lnTo>
                  <a:pt x="147618" y="889226"/>
                </a:lnTo>
                <a:lnTo>
                  <a:pt x="147353" y="884730"/>
                </a:lnTo>
                <a:lnTo>
                  <a:pt x="147618" y="861190"/>
                </a:lnTo>
                <a:lnTo>
                  <a:pt x="148411" y="837385"/>
                </a:lnTo>
                <a:lnTo>
                  <a:pt x="149734" y="814374"/>
                </a:lnTo>
                <a:lnTo>
                  <a:pt x="151321" y="791364"/>
                </a:lnTo>
                <a:lnTo>
                  <a:pt x="153438" y="768617"/>
                </a:lnTo>
                <a:lnTo>
                  <a:pt x="156083" y="745871"/>
                </a:lnTo>
                <a:lnTo>
                  <a:pt x="159258" y="723653"/>
                </a:lnTo>
                <a:lnTo>
                  <a:pt x="162697" y="701700"/>
                </a:lnTo>
                <a:lnTo>
                  <a:pt x="166665" y="679747"/>
                </a:lnTo>
                <a:lnTo>
                  <a:pt x="171163" y="657795"/>
                </a:lnTo>
                <a:lnTo>
                  <a:pt x="176189" y="636371"/>
                </a:lnTo>
                <a:lnTo>
                  <a:pt x="181744" y="615476"/>
                </a:lnTo>
                <a:lnTo>
                  <a:pt x="187300" y="594316"/>
                </a:lnTo>
                <a:lnTo>
                  <a:pt x="193649" y="573686"/>
                </a:lnTo>
                <a:lnTo>
                  <a:pt x="200263" y="553320"/>
                </a:lnTo>
                <a:lnTo>
                  <a:pt x="207406" y="533218"/>
                </a:lnTo>
                <a:lnTo>
                  <a:pt x="215077" y="513117"/>
                </a:lnTo>
                <a:lnTo>
                  <a:pt x="223014" y="493809"/>
                </a:lnTo>
                <a:lnTo>
                  <a:pt x="231215" y="474501"/>
                </a:lnTo>
                <a:lnTo>
                  <a:pt x="239945" y="455457"/>
                </a:lnTo>
                <a:lnTo>
                  <a:pt x="249204" y="436943"/>
                </a:lnTo>
                <a:lnTo>
                  <a:pt x="259257" y="418428"/>
                </a:lnTo>
                <a:lnTo>
                  <a:pt x="269045" y="400443"/>
                </a:lnTo>
                <a:lnTo>
                  <a:pt x="279627" y="382722"/>
                </a:lnTo>
                <a:lnTo>
                  <a:pt x="290209" y="365265"/>
                </a:lnTo>
                <a:lnTo>
                  <a:pt x="301585" y="348073"/>
                </a:lnTo>
                <a:lnTo>
                  <a:pt x="313225" y="331410"/>
                </a:lnTo>
                <a:lnTo>
                  <a:pt x="325394" y="315011"/>
                </a:lnTo>
                <a:lnTo>
                  <a:pt x="337828" y="299142"/>
                </a:lnTo>
                <a:lnTo>
                  <a:pt x="350261" y="283272"/>
                </a:lnTo>
                <a:lnTo>
                  <a:pt x="363489" y="267932"/>
                </a:lnTo>
                <a:lnTo>
                  <a:pt x="376981" y="252856"/>
                </a:lnTo>
                <a:lnTo>
                  <a:pt x="391002" y="238044"/>
                </a:lnTo>
                <a:lnTo>
                  <a:pt x="405552" y="224026"/>
                </a:lnTo>
                <a:lnTo>
                  <a:pt x="420102" y="210008"/>
                </a:lnTo>
                <a:lnTo>
                  <a:pt x="434917" y="196519"/>
                </a:lnTo>
                <a:lnTo>
                  <a:pt x="450261" y="183558"/>
                </a:lnTo>
                <a:lnTo>
                  <a:pt x="466133" y="171127"/>
                </a:lnTo>
                <a:lnTo>
                  <a:pt x="482006" y="158696"/>
                </a:lnTo>
                <a:lnTo>
                  <a:pt x="498673" y="146794"/>
                </a:lnTo>
                <a:lnTo>
                  <a:pt x="515339" y="135421"/>
                </a:lnTo>
                <a:lnTo>
                  <a:pt x="532270" y="124312"/>
                </a:lnTo>
                <a:lnTo>
                  <a:pt x="549731" y="113732"/>
                </a:lnTo>
                <a:lnTo>
                  <a:pt x="567455" y="103681"/>
                </a:lnTo>
                <a:lnTo>
                  <a:pt x="585709" y="93895"/>
                </a:lnTo>
                <a:lnTo>
                  <a:pt x="603963" y="84638"/>
                </a:lnTo>
                <a:lnTo>
                  <a:pt x="622746" y="75645"/>
                </a:lnTo>
                <a:lnTo>
                  <a:pt x="641793" y="67446"/>
                </a:lnTo>
                <a:lnTo>
                  <a:pt x="661105" y="59247"/>
                </a:lnTo>
                <a:lnTo>
                  <a:pt x="680946" y="51841"/>
                </a:lnTo>
                <a:lnTo>
                  <a:pt x="700787" y="44964"/>
                </a:lnTo>
                <a:lnTo>
                  <a:pt x="721157" y="38616"/>
                </a:lnTo>
                <a:lnTo>
                  <a:pt x="741528" y="32533"/>
                </a:lnTo>
                <a:lnTo>
                  <a:pt x="762427" y="26978"/>
                </a:lnTo>
                <a:lnTo>
                  <a:pt x="783326" y="21953"/>
                </a:lnTo>
                <a:lnTo>
                  <a:pt x="805019" y="17457"/>
                </a:lnTo>
                <a:lnTo>
                  <a:pt x="826712" y="13489"/>
                </a:lnTo>
                <a:lnTo>
                  <a:pt x="848405" y="9786"/>
                </a:lnTo>
                <a:lnTo>
                  <a:pt x="870627" y="7141"/>
                </a:lnTo>
                <a:lnTo>
                  <a:pt x="893378" y="4497"/>
                </a:lnTo>
                <a:lnTo>
                  <a:pt x="916129" y="2645"/>
                </a:lnTo>
                <a:lnTo>
                  <a:pt x="939145" y="1058"/>
                </a:lnTo>
                <a:lnTo>
                  <a:pt x="962425" y="265"/>
                </a:lnTo>
                <a:lnTo>
                  <a:pt x="986234" y="0"/>
                </a:lnTo>
                <a:close/>
              </a:path>
            </a:pathLst>
          </a:custGeom>
          <a:solidFill>
            <a:srgbClr val="ec2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组合 4"/>
          <p:cNvGrpSpPr/>
          <p:nvPr/>
        </p:nvGrpSpPr>
        <p:grpSpPr>
          <a:xfrm>
            <a:off x="4691520" y="6858000"/>
            <a:ext cx="3075120" cy="3075120"/>
            <a:chOff x="4691520" y="6858000"/>
            <a:chExt cx="3075120" cy="3075120"/>
          </a:xfrm>
        </p:grpSpPr>
        <p:sp>
          <p:nvSpPr>
            <p:cNvPr id="256" name="椭圆 2"/>
            <p:cNvSpPr/>
            <p:nvPr/>
          </p:nvSpPr>
          <p:spPr>
            <a:xfrm>
              <a:off x="4691520" y="6858000"/>
              <a:ext cx="3075120" cy="3075120"/>
            </a:xfrm>
            <a:prstGeom prst="ellipse">
              <a:avLst/>
            </a:prstGeom>
            <a:solidFill>
              <a:srgbClr val="245e7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57" name="图片 1" descr=""/>
            <p:cNvPicPr/>
            <p:nvPr/>
          </p:nvPicPr>
          <p:blipFill>
            <a:blip r:embed="rId1"/>
            <a:stretch/>
          </p:blipFill>
          <p:spPr>
            <a:xfrm>
              <a:off x="5262840" y="6954480"/>
              <a:ext cx="1932480" cy="288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文本框 5"/>
          <p:cNvSpPr/>
          <p:nvPr/>
        </p:nvSpPr>
        <p:spPr>
          <a:xfrm>
            <a:off x="2943720" y="2432520"/>
            <a:ext cx="6571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</a:t>
            </a:r>
            <a:r>
              <a:rPr b="0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07407E-006 L 2.5E-006 -0.76481 E">
                                      <p:cBhvr>
                                        <p:cTn id="11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  <Words>215</Words>
  <Paragraphs>83</Paragraphs>
  <Company>Chin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7T02:53:28Z</dcterms:created>
  <dc:creator>Administrator</dc:creator>
  <dc:description/>
  <dc:language>en-US</dc:language>
  <cp:lastModifiedBy>王玉清</cp:lastModifiedBy>
  <dcterms:modified xsi:type="dcterms:W3CDTF">2016-02-23T02:56:20Z</dcterms:modified>
  <cp:revision>1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宽屏</vt:lpwstr>
  </property>
  <property fmtid="{D5CDD505-2E9C-101B-9397-08002B2CF9AE}" pid="4" name="Slides">
    <vt:r8>7</vt:r8>
  </property>
</Properties>
</file>