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2C3-307A-4DA7-962B-457D146E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F5-32ED-4D3B-BC13-1EC91838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91B-C85A-41B2-8F9D-53EACB60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1A4-C8C6-4C72-8C69-1CEBBE4B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5EF-A792-472D-9121-A4E181EA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07E-EEFA-4BD9-87EF-C5CB19E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5FA-E960-4E84-A3A5-C68D4C2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3118-E6CB-41E9-9A7E-F3B23E5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7B2-31EA-4334-8C36-2E92892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E397-9E69-42BB-BA8F-D85B9EE7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696-98B2-46C6-840D-CB40464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B75-3208-4F21-899F-78502C4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E52E-5119-4FFE-AC90-8D7D79E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87C-846A-41CC-9662-FDA3A44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2A22-3746-4E75-89EB-833179F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80B3-89DB-4C90-9F59-2ED2AE0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7BE-6722-45A4-B23C-225F90E0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88D-7FAB-46D0-990D-E5B162C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190-9C25-4B1A-87B3-B7D75C7E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391-2DC6-4BE2-A7EB-7D3CC4BF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5C9-EF9D-4AF8-9CD8-E167325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2E5-94B6-40BE-8E6D-EC6E613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EB8-52CC-4CA3-BC17-FE9B929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371-47A6-4776-B920-8AEB031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195-E310-47F6-B584-F2A0B8F34C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8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7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3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8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6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5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1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3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5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9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21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3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4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5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28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B166-FD1F-4985-8807-27A0E0D1890F}" type="slidenum">
              <a:rPr b="0" lang="zh-CN" sz="1400" spc="-1" strike="noStrike">
                <a:solidFill>
                  <a:srgbClr val="f8f8f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ff"/>
                </a:solidFill>
                <a:latin typeface="Arial Black"/>
                <a:ea typeface="宋体"/>
              </a:rPr>
              <a:t>创造力商务管理</a:t>
            </a:r>
            <a:r>
              <a:rPr b="0" lang="en-US" sz="4000" spc="-1" strike="noStrike">
                <a:solidFill>
                  <a:srgbClr val="6666ff"/>
                </a:solidFill>
                <a:latin typeface="Arial Black"/>
                <a:ea typeface="宋体"/>
              </a:rPr>
              <a:t>PPT</a:t>
            </a:r>
            <a:r>
              <a:rPr b="0" lang="zh-CN" sz="4000" spc="-1" strike="noStrike">
                <a:solidFill>
                  <a:srgbClr val="6666ff"/>
                </a:solidFill>
                <a:latin typeface="Arial Black"/>
                <a:ea typeface="宋体"/>
              </a:rPr>
              <a:t>模板完整版下载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演示人姓名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议程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概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集体讨论主题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规则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集体讨论活动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总结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接下来的步骤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2" name="AutoShape 4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AutoShape 5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概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简要概述本次会议的全部内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议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期望目标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2" name="AutoShape 4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AutoShape 9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集体讨论主题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介绍讨论的主题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新产品或服务方面的新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功能方面的新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如何为功能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产品命名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激励方面的想法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讨论新工作方式。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定义最重要的必要条件或限制条件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42" name="AutoShape 4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AutoShape 9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8" name="AutoShape 10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规则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不存在糟糕的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要有创造性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敢于冒险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禁止批评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52" name="AutoShape 4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集体讨论活动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产生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用游戏和练习来刺激创造性思维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当产生想法的速度变慢时，可试着用其他练习来产生新的想法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将参会人员分成较小的组也许有帮助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用计算机记录每项提议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/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想法（当然，需要用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Meeting Minder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在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Microsoft PowerPoint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中记录）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62" name="AutoShape 3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AutoShape 4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AutoShape 5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9" name="Text Box 6"/>
          <p:cNvSpPr/>
          <p:nvPr/>
        </p:nvSpPr>
        <p:spPr>
          <a:xfrm>
            <a:off x="693720" y="6319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总结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回顾这些想法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投票推选最佳想法并进行整理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核查必要条件和限制条件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对列表进行整理保留前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  <a:ea typeface="宋体"/>
              </a:rPr>
              <a:t>5 – 10 </a:t>
            </a: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个想法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2" name="Group 11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73" name="AutoShape 4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AutoShape 7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AutoShape 8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9" name="AutoShape 10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  <a:ea typeface="宋体"/>
              </a:rPr>
              <a:t>接下来的步骤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介绍接下来的步骤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研究所产生的想法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与较大的组保持联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宋体"/>
              </a:rPr>
              <a:t>进一步的活动：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Arial"/>
                <a:ea typeface="宋体"/>
              </a:rPr>
              <a:t>开始将想法转变成现实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83" name="AutoShape 4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AutoShape 7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AutoShape 8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9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91" name="AutoShape 2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AutoShape 3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99" name="Rectangle 10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AutoShape 11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AutoShape 13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AutoShape 14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AutoShape 15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07" name="Rectangle 18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AutoShape 19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AutoShape 20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AutoShape 21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AutoShape 22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4" name="Group 33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15" name="AutoShape 26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AutoShape 28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AutoShape 29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AutoShape 30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AutoShape 31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2" name="Group 41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223" name="AutoShape 34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Rectangle 35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AutoShape 36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AutoShape 37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AutoShape 38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8" name="AutoShape 39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0" name="Group 48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231" name="Rectangle 42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AutoShape 43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AutoShape 44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AutoShape 45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AutoShape 46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37" name="AutoShape 49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8" name="Group 58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239" name="AutoShape 50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40" name="Group 57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241" name="AutoShape 51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3" name="AutoShape 53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4" name="AutoShape 54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5" name="AutoShape 55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66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248" name="Rectangle 59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AutoShape 60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AutoShape 61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AutoShape 62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2" name="AutoShape 63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3" name="Freeform 64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4" name="AutoShape 65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16:00Z</dcterms:created>
  <dc:creator>ppt宝藏</dc:creator>
  <dc:description/>
  <dc:language>en-US</dc:language>
  <cp:lastModifiedBy>a</cp:lastModifiedBy>
  <dcterms:modified xsi:type="dcterms:W3CDTF">2015-07-25T06:45:48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732052</vt:lpwstr>
  </property>
</Properties>
</file>