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05F-40D2-41E8-97AB-D24F4F38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99D-BA5C-4B66-ADB4-8910AE7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C4E-89F9-4F07-B0A7-04A3F003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548-0115-43E8-8D11-C72BDFEE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E32C-E6C2-4C65-8917-0107342A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532-998F-4595-9C82-0DA2428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0DDE-C047-4E3A-AA1D-5758D77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EED1-5C55-4753-97AF-B6130E5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81AB-7F81-4339-920E-268219D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EA08-A2FD-4095-8461-999D821F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524-E974-4C8A-BD5D-2990991C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CFB-8696-40D0-9732-99E9913A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C72F-CEBA-4E7C-A653-82EFE379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2F3-B230-44E6-8366-5454482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AE7-81A9-42E7-BB95-0578880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F16D-5104-48CA-B243-CB37A3B4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0E5-A90C-4CA5-9A67-858D7D89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628-9FB2-499E-8E66-7CC3FA1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D49-D7FB-46B8-8C5F-EEFED3B2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4CF-BF67-4812-9B98-3A144BA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A74-FA65-4496-BD58-FE61F18A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236-D8AD-42E7-9165-12E9D25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09B-6733-40D2-BF94-C994E53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98B-D555-4EFA-9597-F049AA4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052640"/>
            <a:ext cx="7772040" cy="1872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e0e8f5">
                  <a:alpha val="0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70E640-ED1E-47D8-82A2-1A2F99FB8C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2d050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7296EC-EEC2-4212-B173-6F370B7921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3269520"/>
            <a:ext cx="663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1830960" y="1196640"/>
            <a:ext cx="5699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单车情侣通用</a:t>
            </a:r>
            <a:r>
              <a:rPr b="1" lang="en-US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单车上的浪漫——情人节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单车上的浪漫——情人节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单车上的浪漫——情人节PPT模板</Template>
  <TotalTime>3</TotalTime>
  <Application>LibreOffice/7.4.7.2$Linux_X86_64 LibreOffice_project/40$Build-2</Application>
  <AppVersion>15.0000</AppVersion>
  <Words>97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4-01-20T09:37:55Z</dcterms:created>
  <dc:creator>lenovo</dc:creator>
  <dc:description/>
  <cp:keywords>XS-普屏 4：3 SC-多彩色 BG-浅色 DH-静态</cp:keywords>
  <dc:language>en-US</dc:language>
  <cp:lastModifiedBy>王玉清</cp:lastModifiedBy>
  <dcterms:modified xsi:type="dcterms:W3CDTF">2016-02-20T03:20:58Z</dcterms:modified>
  <cp:revision>3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