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80F-EDA7-4D67-920A-C5EC6080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D6EB-0378-4777-92A9-8ABF5F54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8BB8-F5E6-4487-A50E-47972CF9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4555-BAF0-4965-A230-E895E683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31B-E054-44DB-8A43-FF70D136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A69-DCD4-4678-8B52-A73A231D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399-3410-4155-BD54-2F0C8EBF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3781-A40D-4D11-B5F6-B060E904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34D-8932-4484-9332-5FA8EB53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B503-5583-4953-B8E0-337F761E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814B-FAF1-4AD5-A470-7E6E84A4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F1C-B64E-4954-B090-78D2BCB8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5C3C-C7F6-4D33-B5EF-5D99CCBAC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多彩纸夹商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4T05:53:11Z</dcterms:created>
  <dc:creator>ppt宝藏</dc:creator>
  <dc:description/>
  <dc:language>en-US</dc:language>
  <cp:lastModifiedBy>a</cp:lastModifiedBy>
  <dcterms:modified xsi:type="dcterms:W3CDTF">2015-07-25T07:30:35Z</dcterms:modified>
  <cp:revision>8</cp:revision>
  <dc:subject/>
  <dc:title>www.pptbz.com</dc:title>
</cp:coreProperties>
</file>