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ffc000"/>
            </a:solidFill>
            <a:ln cap="rnd" w="28440">
              <a:solidFill>
                <a:srgbClr val="ffc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0"/>
                <c:pt idx="0">
                  <c:v>2000</c:v>
                </c:pt>
                <c:pt idx="1">
                  <c:v>2001</c:v>
                </c:pt>
                <c:pt idx="2">
                  <c:v>2002</c:v>
                </c:pt>
                <c:pt idx="3">
                  <c:v>2003</c:v>
                </c:pt>
                <c:pt idx="4">
                  <c:v>2004</c:v>
                </c:pt>
                <c:pt idx="5">
                  <c:v>2005</c:v>
                </c:pt>
                <c:pt idx="6">
                  <c:v>2006</c:v>
                </c:pt>
                <c:pt idx="7">
                  <c:v>2007</c:v>
                </c:pt>
                <c:pt idx="8">
                  <c:v>2008</c:v>
                </c:pt>
                <c:pt idx="9">
                  <c:v>2009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0"/>
                <c:pt idx="0">
                  <c:v>0.9</c:v>
                </c:pt>
                <c:pt idx="1">
                  <c:v>1</c:v>
                </c:pt>
                <c:pt idx="2">
                  <c:v>1.2</c:v>
                </c:pt>
                <c:pt idx="3">
                  <c:v>1.4</c:v>
                </c:pt>
                <c:pt idx="4">
                  <c:v>1.1</c:v>
                </c:pt>
                <c:pt idx="5">
                  <c:v>1.5</c:v>
                </c:pt>
                <c:pt idx="6">
                  <c:v>1.8</c:v>
                </c:pt>
                <c:pt idx="7">
                  <c:v>2.4</c:v>
                </c:pt>
                <c:pt idx="8">
                  <c:v>2</c:v>
                </c:pt>
                <c:pt idx="9">
                  <c:v>2.2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2</c:v>
                </c:pt>
              </c:strCache>
            </c:strRef>
          </c:tx>
          <c:spPr>
            <a:solidFill>
              <a:srgbClr val="00cc99"/>
            </a:solidFill>
            <a:ln cap="rnd" w="28440">
              <a:solidFill>
                <a:srgbClr val="00cc99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0"/>
                <c:pt idx="0">
                  <c:v>2000</c:v>
                </c:pt>
                <c:pt idx="1">
                  <c:v>2001</c:v>
                </c:pt>
                <c:pt idx="2">
                  <c:v>2002</c:v>
                </c:pt>
                <c:pt idx="3">
                  <c:v>2003</c:v>
                </c:pt>
                <c:pt idx="4">
                  <c:v>2004</c:v>
                </c:pt>
                <c:pt idx="5">
                  <c:v>2005</c:v>
                </c:pt>
                <c:pt idx="6">
                  <c:v>2006</c:v>
                </c:pt>
                <c:pt idx="7">
                  <c:v>2007</c:v>
                </c:pt>
                <c:pt idx="8">
                  <c:v>2008</c:v>
                </c:pt>
                <c:pt idx="9">
                  <c:v>2009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0"/>
                <c:pt idx="0">
                  <c:v>1.1</c:v>
                </c:pt>
                <c:pt idx="1">
                  <c:v>1.2</c:v>
                </c:pt>
                <c:pt idx="2">
                  <c:v>1.5</c:v>
                </c:pt>
                <c:pt idx="3">
                  <c:v>1.9</c:v>
                </c:pt>
                <c:pt idx="4">
                  <c:v>1.5</c:v>
                </c:pt>
                <c:pt idx="5">
                  <c:v>2</c:v>
                </c:pt>
                <c:pt idx="6">
                  <c:v>2.3</c:v>
                </c:pt>
                <c:pt idx="7">
                  <c:v>2.7</c:v>
                </c:pt>
                <c:pt idx="8">
                  <c:v>2.2</c:v>
                </c:pt>
                <c:pt idx="9">
                  <c:v>2.5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0"/>
        <c:axId val="96368278"/>
        <c:axId val="81043808"/>
      </c:lineChart>
      <c:catAx>
        <c:axId val="96368278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d9d9d9"/>
            </a:solidFill>
            <a:round/>
          </a:ln>
        </c:spPr>
        <c:txPr>
          <a:bodyPr/>
          <a:lstStyle/>
          <a:p>
            <a:pPr>
              <a:defRPr b="0" sz="1197" spc="-1" strike="noStrike">
                <a:solidFill>
                  <a:srgbClr val="595959"/>
                </a:solidFill>
                <a:latin typeface="Calibri"/>
              </a:defRPr>
            </a:pPr>
          </a:p>
        </c:txPr>
        <c:crossAx val="81043808"/>
        <c:crosses val="autoZero"/>
        <c:auto val="1"/>
        <c:lblAlgn val="ctr"/>
        <c:lblOffset val="100"/>
        <c:noMultiLvlLbl val="0"/>
      </c:catAx>
      <c:valAx>
        <c:axId val="81043808"/>
        <c:scaling>
          <c:orientation val="minMax"/>
        </c:scaling>
        <c:delete val="0"/>
        <c:axPos val="l"/>
        <c:majorGridlines>
          <c:spPr>
            <a:ln w="9360">
              <a:solidFill>
                <a:srgbClr val="d9d9d9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9360">
            <a:noFill/>
          </a:ln>
        </c:spPr>
        <c:txPr>
          <a:bodyPr/>
          <a:lstStyle/>
          <a:p>
            <a:pPr>
              <a:defRPr b="0" sz="1197" spc="-1" strike="noStrike">
                <a:solidFill>
                  <a:srgbClr val="595959"/>
                </a:solidFill>
                <a:latin typeface="Calibri"/>
              </a:defRPr>
            </a:pPr>
          </a:p>
        </c:txPr>
        <c:crossAx val="96368278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cc99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595959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7.5</c:v>
                </c:pt>
                <c:pt idx="1">
                  <c:v>2.5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95959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cc99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595959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2.5</c:v>
                </c:pt>
                <c:pt idx="1">
                  <c:v>7.5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00cc99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cc99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595959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5</c:v>
                </c:pt>
                <c:pt idx="1">
                  <c:v>5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15C7-6C6B-4F06-8ECA-C219F341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E9DB-9810-47FA-AA5F-DAFA7F59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860D-D638-4F92-97F4-0BB2FA5F5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0252-DD4B-4BE0-8CC0-511F715E5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1443-4CBD-4946-B32B-7600B9C9C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3AAF-007E-4A23-A68E-65734CE7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6883-D6EF-46CE-99EE-410A1760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020C-0E11-4249-9737-67984CE9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A1AE-F2F2-4282-A64E-EC9207E1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B39B-3507-489D-BC94-255367A7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8143-FA4E-48D9-A07B-FCA315A1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5AA0-8423-46F8-8E88-E0955257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5367-0DC7-4414-819F-B68CE393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CF76-B0F3-4D74-B30A-780800A1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0CE7-A14B-4D4A-BDA2-47E54334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34A0-6F45-4DBA-88ED-0F6BF1125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E46A-EDB3-43A5-812C-4466A7A26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88BBE-7FEC-4B7D-B659-AB3D30DFF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3B4AD-91A7-441A-9B4E-E95A6E42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4D778-69AE-4E57-AB8E-677310F2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9E5BA-08BB-485A-B195-69098CB7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75232-61C5-4EFF-8106-EC2F335D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FB64-05ED-45E0-B79A-E904056C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1CC67-E47D-4342-8539-23952B48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33809-BC51-4597-A7E4-4CB675A2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8DC01-0246-410C-A8CA-302E9E77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FD270-C71E-486A-AEE2-9E670D54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2DBA8-8485-428E-89BC-7C9BA4DB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B78D1-5FB4-4C5E-AB74-B2C42EAB4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8BE75-C19E-49F6-AA3B-EB5392840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F2DD8-1AB6-434F-A7EF-E023B4BD7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0A549-38ED-4875-AFEE-7F95BBB6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117CC-6275-4F2D-91C9-C9CF7536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28C4-0496-4722-8155-C1DCD64E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3C54F-CCD3-4C29-A996-9DE8E895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1BEA9-E50F-4B30-86D1-38A744C6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AF7D2-3C03-4690-A9C1-7E6C1967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92A78-C7AB-476D-A378-065F03B9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4FA3A-FFB6-49FB-B440-ACA8C7B5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28A38-23D4-4D96-885D-917391A3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18275-D3D1-4BA9-8B1F-2C4F37A7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84529-8A11-497C-8BF6-9DFAA1902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FA83C-6865-4822-9B73-09A6EF2BD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C8ABC-4E7F-4BF9-AA84-3F01B172C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69DF-CC13-4AC8-A52F-14906395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1B4D2-8C42-4183-A3E0-3993139F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6F9B8-132C-47C3-991E-1A90E1D7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1C0D0-E681-4EEC-8293-B2035FB9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83BA1-38B9-4E05-9E5F-597242AC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DD215-F293-4FBD-8C49-F6A99D01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1E7D1-9299-4D58-B477-161B832D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83C1C-499E-44A5-BFFF-4569C8F4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34586-46B9-4ABF-9635-35EC5885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13C6D-BE56-40AC-995E-ACAA9611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E8D06-3E8A-4B09-973A-311156835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0723-5687-4AF1-8A38-DCC5DD44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86AFD-B34A-4038-BF53-F7CCB0FE0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9E161-AAD8-44D6-9EAC-E275D6A11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0002A-200D-499D-8FF9-13C1910A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51A1C-09F9-4486-AE9C-5B043F94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CC1D5-817B-460B-A0F8-3AF6AD36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9C369-2B00-43FF-94A1-D78F0CB0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44259-6D5F-4D00-B157-26783EC1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87FB2-45E8-4968-A7E4-8622A06F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BBCF5-1431-43AD-9D32-57B3AA69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3C6DE-8AB9-4FC6-AF73-D60D94C4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B9CA-4DCD-4B79-B398-19BBC564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E1E11-CD25-4FDA-A127-167C93C3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1EF7A-FB30-4E91-ACDC-CED0DEA88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DED11-0094-42E3-A5B8-479C9F361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740A-4BF6-4C63-A323-0998541E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22FB-3EDD-4F57-8C00-F4E6151E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2B786AC-4D3D-4315-BC70-3589FCABD95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>
            <a:off x="0" y="0"/>
            <a:ext cx="1691280" cy="6857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1DF891-0C5D-465B-B009-953F6B1F43B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表格 6"/>
          <p:cNvGraphicFramePr/>
          <p:nvPr/>
        </p:nvGraphicFramePr>
        <p:xfrm>
          <a:off x="0" y="1268640"/>
          <a:ext cx="1691280" cy="3960000"/>
        </p:xfrm>
        <a:graphic>
          <a:graphicData uri="http://schemas.openxmlformats.org/drawingml/2006/table">
            <a:tbl>
              <a:tblPr/>
              <a:tblGrid>
                <a:gridCol w="1691640"/>
              </a:tblGrid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m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p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46" name="直接连接符 8"/>
          <p:cNvCxnSpPr/>
          <p:nvPr/>
        </p:nvCxnSpPr>
        <p:spPr>
          <a:xfrm>
            <a:off x="1907640" y="1268640"/>
            <a:ext cx="626508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grpSp>
        <p:nvGrpSpPr>
          <p:cNvPr id="47" name="组合 12"/>
          <p:cNvGrpSpPr/>
          <p:nvPr/>
        </p:nvGrpSpPr>
        <p:grpSpPr>
          <a:xfrm>
            <a:off x="0" y="1272600"/>
            <a:ext cx="1691280" cy="787680"/>
            <a:chOff x="0" y="1272600"/>
            <a:chExt cx="1691280" cy="787680"/>
          </a:xfrm>
        </p:grpSpPr>
        <p:sp>
          <p:nvSpPr>
            <p:cNvPr id="48" name="矩形 10"/>
            <p:cNvSpPr/>
            <p:nvPr/>
          </p:nvSpPr>
          <p:spPr>
            <a:xfrm>
              <a:off x="0" y="1272600"/>
              <a:ext cx="1691280" cy="787680"/>
            </a:xfrm>
            <a:prstGeom prst="rect">
              <a:avLst/>
            </a:prstGeom>
            <a:solidFill>
              <a:srgbClr val="00cc9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Calibri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等腰三角形 11"/>
            <p:cNvSpPr/>
            <p:nvPr/>
          </p:nvSpPr>
          <p:spPr>
            <a:xfrm rot="16200000">
              <a:off x="1547640" y="1595160"/>
              <a:ext cx="143640" cy="14364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000" bIns="27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5"/>
          <p:cNvSpPr/>
          <p:nvPr/>
        </p:nvSpPr>
        <p:spPr>
          <a:xfrm>
            <a:off x="0" y="0"/>
            <a:ext cx="1691280" cy="6857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3A7047-B7A0-4327-96CF-5EDFDA406FD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表格 6"/>
          <p:cNvGraphicFramePr/>
          <p:nvPr/>
        </p:nvGraphicFramePr>
        <p:xfrm>
          <a:off x="0" y="1268640"/>
          <a:ext cx="1691280" cy="3960000"/>
        </p:xfrm>
        <a:graphic>
          <a:graphicData uri="http://schemas.openxmlformats.org/drawingml/2006/table">
            <a:tbl>
              <a:tblPr/>
              <a:tblGrid>
                <a:gridCol w="1691640"/>
              </a:tblGrid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p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93" name="直接连接符 8"/>
          <p:cNvCxnSpPr/>
          <p:nvPr/>
        </p:nvCxnSpPr>
        <p:spPr>
          <a:xfrm>
            <a:off x="1907640" y="1268640"/>
            <a:ext cx="626508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grpSp>
        <p:nvGrpSpPr>
          <p:cNvPr id="94" name="组合 12"/>
          <p:cNvGrpSpPr/>
          <p:nvPr/>
        </p:nvGrpSpPr>
        <p:grpSpPr>
          <a:xfrm>
            <a:off x="0" y="2064600"/>
            <a:ext cx="1691280" cy="787680"/>
            <a:chOff x="0" y="2064600"/>
            <a:chExt cx="1691280" cy="787680"/>
          </a:xfrm>
        </p:grpSpPr>
        <p:sp>
          <p:nvSpPr>
            <p:cNvPr id="95" name="矩形 10"/>
            <p:cNvSpPr/>
            <p:nvPr/>
          </p:nvSpPr>
          <p:spPr>
            <a:xfrm>
              <a:off x="0" y="2064600"/>
              <a:ext cx="1691280" cy="787680"/>
            </a:xfrm>
            <a:prstGeom prst="rect">
              <a:avLst/>
            </a:prstGeom>
            <a:solidFill>
              <a:srgbClr val="00cc9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Calibri"/>
                </a:rPr>
                <a:t>Sum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等腰三角形 11"/>
            <p:cNvSpPr/>
            <p:nvPr/>
          </p:nvSpPr>
          <p:spPr>
            <a:xfrm rot="16200000">
              <a:off x="1547640" y="2387160"/>
              <a:ext cx="143640" cy="14364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000" bIns="27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9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5"/>
          <p:cNvSpPr/>
          <p:nvPr/>
        </p:nvSpPr>
        <p:spPr>
          <a:xfrm>
            <a:off x="0" y="0"/>
            <a:ext cx="1691280" cy="6857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D76D7D-63AF-4CE4-8D53-CBA6D81C30A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表格 6"/>
          <p:cNvGraphicFramePr/>
          <p:nvPr/>
        </p:nvGraphicFramePr>
        <p:xfrm>
          <a:off x="0" y="1268640"/>
          <a:ext cx="1691280" cy="3960000"/>
        </p:xfrm>
        <a:graphic>
          <a:graphicData uri="http://schemas.openxmlformats.org/drawingml/2006/table">
            <a:tbl>
              <a:tblPr/>
              <a:tblGrid>
                <a:gridCol w="1691640"/>
              </a:tblGrid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m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40" name="直接连接符 8"/>
          <p:cNvCxnSpPr/>
          <p:nvPr/>
        </p:nvCxnSpPr>
        <p:spPr>
          <a:xfrm>
            <a:off x="1907640" y="1268640"/>
            <a:ext cx="626508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grpSp>
        <p:nvGrpSpPr>
          <p:cNvPr id="141" name="组合 12"/>
          <p:cNvGrpSpPr/>
          <p:nvPr/>
        </p:nvGrpSpPr>
        <p:grpSpPr>
          <a:xfrm>
            <a:off x="-5760" y="2856960"/>
            <a:ext cx="1691640" cy="787680"/>
            <a:chOff x="-5760" y="2856960"/>
            <a:chExt cx="1691640" cy="787680"/>
          </a:xfrm>
        </p:grpSpPr>
        <p:sp>
          <p:nvSpPr>
            <p:cNvPr id="142" name="矩形 10"/>
            <p:cNvSpPr/>
            <p:nvPr/>
          </p:nvSpPr>
          <p:spPr>
            <a:xfrm>
              <a:off x="-5760" y="2856960"/>
              <a:ext cx="1691280" cy="787680"/>
            </a:xfrm>
            <a:prstGeom prst="rect">
              <a:avLst/>
            </a:prstGeom>
            <a:solidFill>
              <a:srgbClr val="00cc9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Calibri"/>
                </a:rPr>
                <a:t>Graph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等腰三角形 11"/>
            <p:cNvSpPr/>
            <p:nvPr/>
          </p:nvSpPr>
          <p:spPr>
            <a:xfrm rot="16200000">
              <a:off x="1542240" y="3179160"/>
              <a:ext cx="143640" cy="14364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000" bIns="27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5"/>
          <p:cNvSpPr/>
          <p:nvPr/>
        </p:nvSpPr>
        <p:spPr>
          <a:xfrm>
            <a:off x="0" y="0"/>
            <a:ext cx="1691280" cy="6857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DA09C18-4D5E-4D05-818F-88D8BE3E54C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表格 6"/>
          <p:cNvGraphicFramePr/>
          <p:nvPr/>
        </p:nvGraphicFramePr>
        <p:xfrm>
          <a:off x="0" y="1268640"/>
          <a:ext cx="1691280" cy="3960000"/>
        </p:xfrm>
        <a:graphic>
          <a:graphicData uri="http://schemas.openxmlformats.org/drawingml/2006/table">
            <a:tbl>
              <a:tblPr/>
              <a:tblGrid>
                <a:gridCol w="1691640"/>
              </a:tblGrid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m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p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87" name="直接连接符 8"/>
          <p:cNvCxnSpPr/>
          <p:nvPr/>
        </p:nvCxnSpPr>
        <p:spPr>
          <a:xfrm>
            <a:off x="1907640" y="1268640"/>
            <a:ext cx="626508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grpSp>
        <p:nvGrpSpPr>
          <p:cNvPr id="188" name="组合 12"/>
          <p:cNvGrpSpPr/>
          <p:nvPr/>
        </p:nvGrpSpPr>
        <p:grpSpPr>
          <a:xfrm>
            <a:off x="0" y="3645000"/>
            <a:ext cx="1691280" cy="787680"/>
            <a:chOff x="0" y="3645000"/>
            <a:chExt cx="1691280" cy="787680"/>
          </a:xfrm>
        </p:grpSpPr>
        <p:sp>
          <p:nvSpPr>
            <p:cNvPr id="189" name="矩形 10"/>
            <p:cNvSpPr/>
            <p:nvPr/>
          </p:nvSpPr>
          <p:spPr>
            <a:xfrm>
              <a:off x="0" y="3645000"/>
              <a:ext cx="1691280" cy="787680"/>
            </a:xfrm>
            <a:prstGeom prst="rect">
              <a:avLst/>
            </a:prstGeom>
            <a:solidFill>
              <a:srgbClr val="00cc9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Calibri"/>
                </a:rPr>
                <a:t>Tab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等腰三角形 11"/>
            <p:cNvSpPr/>
            <p:nvPr/>
          </p:nvSpPr>
          <p:spPr>
            <a:xfrm rot="16200000">
              <a:off x="1547640" y="3967560"/>
              <a:ext cx="143640" cy="14364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000" bIns="27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9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矩形 5"/>
          <p:cNvSpPr/>
          <p:nvPr/>
        </p:nvSpPr>
        <p:spPr>
          <a:xfrm>
            <a:off x="0" y="0"/>
            <a:ext cx="1691280" cy="6857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dt" idx="1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1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A15CA6-8997-4F29-B8DB-1157EC47658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表格 6"/>
          <p:cNvGraphicFramePr/>
          <p:nvPr/>
        </p:nvGraphicFramePr>
        <p:xfrm>
          <a:off x="0" y="1268640"/>
          <a:ext cx="1691280" cy="3960000"/>
        </p:xfrm>
        <a:graphic>
          <a:graphicData uri="http://schemas.openxmlformats.org/drawingml/2006/table">
            <a:tbl>
              <a:tblPr/>
              <a:tblGrid>
                <a:gridCol w="1691640"/>
              </a:tblGrid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m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p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34" name="直接连接符 8"/>
          <p:cNvCxnSpPr/>
          <p:nvPr/>
        </p:nvCxnSpPr>
        <p:spPr>
          <a:xfrm>
            <a:off x="1907640" y="1268640"/>
            <a:ext cx="626508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grpSp>
        <p:nvGrpSpPr>
          <p:cNvPr id="235" name="组合 12"/>
          <p:cNvGrpSpPr/>
          <p:nvPr/>
        </p:nvGrpSpPr>
        <p:grpSpPr>
          <a:xfrm>
            <a:off x="-23760" y="4437000"/>
            <a:ext cx="1691280" cy="787680"/>
            <a:chOff x="-23760" y="4437000"/>
            <a:chExt cx="1691280" cy="787680"/>
          </a:xfrm>
        </p:grpSpPr>
        <p:sp>
          <p:nvSpPr>
            <p:cNvPr id="236" name="矩形 10"/>
            <p:cNvSpPr/>
            <p:nvPr/>
          </p:nvSpPr>
          <p:spPr>
            <a:xfrm>
              <a:off x="-23760" y="4437000"/>
              <a:ext cx="1691280" cy="787680"/>
            </a:xfrm>
            <a:prstGeom prst="rect">
              <a:avLst/>
            </a:prstGeom>
            <a:solidFill>
              <a:srgbClr val="00cc9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Calibri"/>
                </a:rPr>
                <a:t>Vario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等腰三角形 11"/>
            <p:cNvSpPr/>
            <p:nvPr/>
          </p:nvSpPr>
          <p:spPr>
            <a:xfrm rot="16200000">
              <a:off x="1523880" y="4759560"/>
              <a:ext cx="143640" cy="14364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000" bIns="27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3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chart" Target="../charts/chart3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文本框 3"/>
          <p:cNvSpPr/>
          <p:nvPr/>
        </p:nvSpPr>
        <p:spPr>
          <a:xfrm>
            <a:off x="0" y="4149000"/>
            <a:ext cx="9143640" cy="10796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文本框 4"/>
          <p:cNvSpPr/>
          <p:nvPr/>
        </p:nvSpPr>
        <p:spPr>
          <a:xfrm>
            <a:off x="467640" y="4366080"/>
            <a:ext cx="8856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航型汇报通用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文本框 3"/>
          <p:cNvSpPr/>
          <p:nvPr/>
        </p:nvSpPr>
        <p:spPr>
          <a:xfrm>
            <a:off x="0" y="4149000"/>
            <a:ext cx="9143640" cy="10796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文本框 4"/>
          <p:cNvSpPr/>
          <p:nvPr/>
        </p:nvSpPr>
        <p:spPr>
          <a:xfrm>
            <a:off x="467640" y="4366080"/>
            <a:ext cx="6480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文本框 1"/>
          <p:cNvSpPr/>
          <p:nvPr/>
        </p:nvSpPr>
        <p:spPr>
          <a:xfrm>
            <a:off x="1907640" y="404640"/>
            <a:ext cx="2160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NDE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表格 2"/>
          <p:cNvGraphicFramePr/>
          <p:nvPr/>
        </p:nvGraphicFramePr>
        <p:xfrm>
          <a:off x="1979640" y="1556640"/>
          <a:ext cx="6227640" cy="5386320"/>
        </p:xfrm>
        <a:graphic>
          <a:graphicData uri="http://schemas.openxmlformats.org/drawingml/2006/table">
            <a:tbl>
              <a:tblPr/>
              <a:tblGrid>
                <a:gridCol w="2880000"/>
                <a:gridCol w="468000"/>
                <a:gridCol w="2880000"/>
              </a:tblGrid>
              <a:tr h="216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cc99"/>
                          </a:solidFill>
                          <a:latin typeface="微软雅黑"/>
                          <a:ea typeface="微软雅黑"/>
                        </a:rPr>
                        <a:t>Sum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801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造字工房悦黑体验版纤细体"/>
                          <a:ea typeface="造字工房悦黑体验版纤细体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cc99"/>
                          </a:solidFill>
                          <a:latin typeface="微软雅黑"/>
                          <a:ea typeface="微软雅黑"/>
                        </a:rPr>
                        <a:t>Grap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801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造字工房悦黑体验版纤细体"/>
                          <a:ea typeface="造字工房悦黑体验版纤细体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216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cc99"/>
                          </a:solidFill>
                          <a:latin typeface="微软雅黑"/>
                          <a:ea typeface="微软雅黑"/>
                        </a:rPr>
                        <a:t>T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801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造字工房悦黑体验版纤细体"/>
                          <a:ea typeface="造字工房悦黑体验版纤细体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cc99"/>
                          </a:solidFill>
                          <a:latin typeface="微软雅黑"/>
                          <a:ea typeface="微软雅黑"/>
                        </a:rPr>
                        <a:t>Vari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801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造字工房悦黑体验版纤细体"/>
                          <a:ea typeface="造字工房悦黑体验版纤细体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文本框 1"/>
          <p:cNvSpPr/>
          <p:nvPr/>
        </p:nvSpPr>
        <p:spPr>
          <a:xfrm>
            <a:off x="1907640" y="404640"/>
            <a:ext cx="4104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2"/>
          <p:cNvSpPr/>
          <p:nvPr/>
        </p:nvSpPr>
        <p:spPr>
          <a:xfrm>
            <a:off x="2021400" y="1556640"/>
            <a:ext cx="259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3"/>
          <p:cNvSpPr/>
          <p:nvPr/>
        </p:nvSpPr>
        <p:spPr>
          <a:xfrm>
            <a:off x="2015640" y="2032200"/>
            <a:ext cx="6228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If we can only encounter each other rather than stay with each other,then I wish we had never encou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直接连接符 5"/>
          <p:cNvCxnSpPr/>
          <p:nvPr/>
        </p:nvCxnSpPr>
        <p:spPr>
          <a:xfrm>
            <a:off x="5004000" y="3753000"/>
            <a:ext cx="360" cy="2340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sp>
        <p:nvSpPr>
          <p:cNvPr id="285" name="文本框 6"/>
          <p:cNvSpPr/>
          <p:nvPr/>
        </p:nvSpPr>
        <p:spPr>
          <a:xfrm>
            <a:off x="2015640" y="3643920"/>
            <a:ext cx="259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7"/>
          <p:cNvSpPr/>
          <p:nvPr/>
        </p:nvSpPr>
        <p:spPr>
          <a:xfrm>
            <a:off x="5652000" y="3643920"/>
            <a:ext cx="259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9"/>
          <p:cNvSpPr/>
          <p:nvPr/>
        </p:nvSpPr>
        <p:spPr>
          <a:xfrm>
            <a:off x="2000880" y="4056840"/>
            <a:ext cx="28587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If we can only encounter each oth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cc99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Qu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cc99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Ulllmuna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cc99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Nis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1"/>
          <p:cNvSpPr/>
          <p:nvPr/>
        </p:nvSpPr>
        <p:spPr>
          <a:xfrm>
            <a:off x="5652000" y="4056840"/>
            <a:ext cx="28587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If we can only encounter each oth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cc99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Qu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cc99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Ulllmuna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cc99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Nis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文本框 1"/>
          <p:cNvSpPr/>
          <p:nvPr/>
        </p:nvSpPr>
        <p:spPr>
          <a:xfrm>
            <a:off x="2021400" y="1556640"/>
            <a:ext cx="259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2"/>
          <p:cNvSpPr/>
          <p:nvPr/>
        </p:nvSpPr>
        <p:spPr>
          <a:xfrm>
            <a:off x="2015640" y="2032200"/>
            <a:ext cx="6228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If we can only encounter each other rather than stay with each other,then I wish we had never encou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3"/>
          <p:cNvSpPr/>
          <p:nvPr/>
        </p:nvSpPr>
        <p:spPr>
          <a:xfrm>
            <a:off x="1907640" y="404640"/>
            <a:ext cx="3816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LINE CHA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图表 11"/>
          <p:cNvGraphicFramePr/>
          <p:nvPr/>
        </p:nvGraphicFramePr>
        <p:xfrm>
          <a:off x="2015640" y="3141000"/>
          <a:ext cx="6095520" cy="2911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文本框 3"/>
          <p:cNvSpPr/>
          <p:nvPr/>
        </p:nvSpPr>
        <p:spPr>
          <a:xfrm>
            <a:off x="1907640" y="404640"/>
            <a:ext cx="4968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RCLE CHAR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图表 8"/>
          <p:cNvGraphicFramePr/>
          <p:nvPr/>
        </p:nvGraphicFramePr>
        <p:xfrm>
          <a:off x="1763640" y="1845000"/>
          <a:ext cx="2628000" cy="1944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295" name="图表 11"/>
          <p:cNvGraphicFramePr/>
          <p:nvPr/>
        </p:nvGraphicFramePr>
        <p:xfrm>
          <a:off x="6372360" y="1845000"/>
          <a:ext cx="2628000" cy="1944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296" name="图表 12"/>
          <p:cNvGraphicFramePr/>
          <p:nvPr/>
        </p:nvGraphicFramePr>
        <p:xfrm>
          <a:off x="4068000" y="1845000"/>
          <a:ext cx="2628000" cy="1944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sp>
        <p:nvSpPr>
          <p:cNvPr id="297" name="文本框 13"/>
          <p:cNvSpPr/>
          <p:nvPr/>
        </p:nvSpPr>
        <p:spPr>
          <a:xfrm>
            <a:off x="2267640" y="2421000"/>
            <a:ext cx="1728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75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14"/>
          <p:cNvSpPr/>
          <p:nvPr/>
        </p:nvSpPr>
        <p:spPr>
          <a:xfrm>
            <a:off x="4572000" y="2430000"/>
            <a:ext cx="1728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50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15"/>
          <p:cNvSpPr/>
          <p:nvPr/>
        </p:nvSpPr>
        <p:spPr>
          <a:xfrm>
            <a:off x="6876360" y="2430000"/>
            <a:ext cx="1728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25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16"/>
          <p:cNvSpPr/>
          <p:nvPr/>
        </p:nvSpPr>
        <p:spPr>
          <a:xfrm>
            <a:off x="2627640" y="3861000"/>
            <a:ext cx="79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a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17"/>
          <p:cNvSpPr/>
          <p:nvPr/>
        </p:nvSpPr>
        <p:spPr>
          <a:xfrm>
            <a:off x="5004000" y="3863160"/>
            <a:ext cx="79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a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18"/>
          <p:cNvSpPr/>
          <p:nvPr/>
        </p:nvSpPr>
        <p:spPr>
          <a:xfrm>
            <a:off x="7236360" y="3856320"/>
            <a:ext cx="79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an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19"/>
          <p:cNvSpPr/>
          <p:nvPr/>
        </p:nvSpPr>
        <p:spPr>
          <a:xfrm>
            <a:off x="2192040" y="4437000"/>
            <a:ext cx="18032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If we can only encounter each other rather than stay with each other,then I wish we had never encou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20"/>
          <p:cNvSpPr/>
          <p:nvPr/>
        </p:nvSpPr>
        <p:spPr>
          <a:xfrm>
            <a:off x="4498200" y="4437000"/>
            <a:ext cx="18032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If we can only encounter each other rather than stay with each other,then I wish we had never encou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21"/>
          <p:cNvSpPr/>
          <p:nvPr/>
        </p:nvSpPr>
        <p:spPr>
          <a:xfrm>
            <a:off x="6804360" y="4437000"/>
            <a:ext cx="18032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If we can only encounter each other rather than stay with each other,then I wish we had never encou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文本框 2"/>
          <p:cNvSpPr/>
          <p:nvPr/>
        </p:nvSpPr>
        <p:spPr>
          <a:xfrm>
            <a:off x="1907640" y="404640"/>
            <a:ext cx="5400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IMPLTE TAB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3"/>
          <p:cNvSpPr/>
          <p:nvPr/>
        </p:nvSpPr>
        <p:spPr>
          <a:xfrm>
            <a:off x="2021400" y="1556640"/>
            <a:ext cx="259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4"/>
          <p:cNvSpPr/>
          <p:nvPr/>
        </p:nvSpPr>
        <p:spPr>
          <a:xfrm>
            <a:off x="2015640" y="2032200"/>
            <a:ext cx="6228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If we can only encounter each other rather than stay with each other,then I wish we had never encou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表格 5"/>
          <p:cNvGraphicFramePr/>
          <p:nvPr/>
        </p:nvGraphicFramePr>
        <p:xfrm>
          <a:off x="2114280" y="3141000"/>
          <a:ext cx="6095520" cy="316800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1840"/>
              </a:tblGrid>
              <a:tr h="452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d0d0d"/>
                        </a:solidFill>
                        <a:latin typeface="Calibri Light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Custom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Reve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00cc99"/>
                    </a:solidFill>
                  </a:tcPr>
                </a:tc>
              </a:tr>
              <a:tr h="452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99ff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6,871,3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99ff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$260,8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99ffcd"/>
                    </a:solidFill>
                  </a:tcPr>
                </a:tc>
              </a:tr>
              <a:tr h="452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Zha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cdff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5,7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cdff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$54,2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cdffcc"/>
                    </a:solidFill>
                  </a:tcPr>
                </a:tc>
              </a:tr>
              <a:tr h="452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We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99ff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1,287,4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99ff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$253,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99ffcd"/>
                    </a:solidFill>
                  </a:tcPr>
                </a:tc>
              </a:tr>
              <a:tr h="452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Wa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cdff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68,1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cdff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$260,8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cdffcc"/>
                    </a:solidFill>
                  </a:tcPr>
                </a:tc>
              </a:tr>
              <a:tr h="452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Che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99ff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21,3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99ff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$8,555,3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99ffcd"/>
                    </a:solidFill>
                  </a:tcPr>
                </a:tc>
              </a:tr>
              <a:tr h="452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Sh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cdff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24,5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cdff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$11,325,6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cd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文本框 2"/>
          <p:cNvSpPr/>
          <p:nvPr/>
        </p:nvSpPr>
        <p:spPr>
          <a:xfrm>
            <a:off x="2021400" y="1556640"/>
            <a:ext cx="259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"/>
          <p:cNvSpPr/>
          <p:nvPr/>
        </p:nvSpPr>
        <p:spPr>
          <a:xfrm>
            <a:off x="2015640" y="2032200"/>
            <a:ext cx="6228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If we can only encounter each other rather than stay with each other,then I wish we had never encou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表格 4"/>
          <p:cNvGraphicFramePr/>
          <p:nvPr/>
        </p:nvGraphicFramePr>
        <p:xfrm>
          <a:off x="2015640" y="2853000"/>
          <a:ext cx="6095520" cy="3384000"/>
        </p:xfrm>
        <a:graphic>
          <a:graphicData uri="http://schemas.openxmlformats.org/drawingml/2006/table">
            <a:tbl>
              <a:tblPr/>
              <a:tblGrid>
                <a:gridCol w="1188000"/>
                <a:gridCol w="817920"/>
                <a:gridCol w="817920"/>
                <a:gridCol w="817920"/>
                <a:gridCol w="817920"/>
                <a:gridCol w="817920"/>
                <a:gridCol w="817920"/>
              </a:tblGrid>
              <a:tr h="423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Calibri Light"/>
                        </a:rPr>
                        <a:t>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Calibri Light"/>
                        </a:rPr>
                        <a:t>T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Calibri Light"/>
                        </a:rPr>
                        <a:t>W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Calibri Light"/>
                        </a:rPr>
                        <a:t>Th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Calibri Light"/>
                        </a:rPr>
                        <a:t>F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Calibri Light"/>
                        </a:rPr>
                        <a:t>S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</a:tr>
              <a:tr h="423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Zha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23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We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23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Wa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</a:tr>
              <a:tr h="423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Che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23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Sh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</a:tr>
              <a:tr h="423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X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</a:tr>
            </a:tbl>
          </a:graphicData>
        </a:graphic>
      </p:graphicFrame>
      <p:sp>
        <p:nvSpPr>
          <p:cNvPr id="313" name="文本框 5"/>
          <p:cNvSpPr/>
          <p:nvPr/>
        </p:nvSpPr>
        <p:spPr>
          <a:xfrm>
            <a:off x="1979640" y="404640"/>
            <a:ext cx="5400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LANNING TAB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14" name="直接连接符 7"/>
          <p:cNvCxnSpPr/>
          <p:nvPr/>
        </p:nvCxnSpPr>
        <p:spPr>
          <a:xfrm>
            <a:off x="2012760" y="2222640"/>
            <a:ext cx="6480360" cy="360"/>
          </a:xfrm>
          <a:prstGeom prst="straightConnector1">
            <a:avLst/>
          </a:prstGeom>
          <a:ln w="19050">
            <a:solidFill>
              <a:srgbClr val="ffffff">
                <a:lumMod val="75000"/>
              </a:srgbClr>
            </a:solidFill>
            <a:round/>
          </a:ln>
        </p:spPr>
      </p:cxnSp>
      <p:sp>
        <p:nvSpPr>
          <p:cNvPr id="315" name="文本框 1"/>
          <p:cNvSpPr/>
          <p:nvPr/>
        </p:nvSpPr>
        <p:spPr>
          <a:xfrm>
            <a:off x="1907640" y="404640"/>
            <a:ext cx="3240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ROC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2"/>
          <p:cNvSpPr/>
          <p:nvPr/>
        </p:nvSpPr>
        <p:spPr>
          <a:xfrm>
            <a:off x="1979640" y="1556640"/>
            <a:ext cx="1331640" cy="1331640"/>
          </a:xfrm>
          <a:prstGeom prst="ellipse">
            <a:avLst/>
          </a:prstGeom>
          <a:solidFill>
            <a:schemeClr val="tx1">
              <a:lumMod val="65000"/>
              <a:lumOff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3"/>
          <p:cNvSpPr/>
          <p:nvPr/>
        </p:nvSpPr>
        <p:spPr>
          <a:xfrm>
            <a:off x="3742920" y="1556640"/>
            <a:ext cx="1331640" cy="1331640"/>
          </a:xfrm>
          <a:prstGeom prst="ellipse">
            <a:avLst/>
          </a:prstGeom>
          <a:solidFill>
            <a:srgbClr val="00cc9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4"/>
          <p:cNvSpPr/>
          <p:nvPr/>
        </p:nvSpPr>
        <p:spPr>
          <a:xfrm>
            <a:off x="5505840" y="1556640"/>
            <a:ext cx="1331640" cy="1331640"/>
          </a:xfrm>
          <a:prstGeom prst="ellipse">
            <a:avLst/>
          </a:prstGeom>
          <a:solidFill>
            <a:schemeClr val="tx1">
              <a:lumMod val="65000"/>
              <a:lumOff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Lau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5"/>
          <p:cNvSpPr/>
          <p:nvPr/>
        </p:nvSpPr>
        <p:spPr>
          <a:xfrm>
            <a:off x="7268760" y="1556640"/>
            <a:ext cx="1331640" cy="1331640"/>
          </a:xfrm>
          <a:prstGeom prst="ellipse">
            <a:avLst/>
          </a:prstGeom>
          <a:solidFill>
            <a:schemeClr val="tx1">
              <a:lumMod val="65000"/>
              <a:lumOff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表格 8"/>
          <p:cNvGraphicFramePr/>
          <p:nvPr/>
        </p:nvGraphicFramePr>
        <p:xfrm>
          <a:off x="1994760" y="3429000"/>
          <a:ext cx="6498000" cy="3659040"/>
        </p:xfrm>
        <a:graphic>
          <a:graphicData uri="http://schemas.openxmlformats.org/drawingml/2006/table">
            <a:tbl>
              <a:tblPr/>
              <a:tblGrid>
                <a:gridCol w="1288800"/>
                <a:gridCol w="5209200"/>
              </a:tblGrid>
              <a:tr h="67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esig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cc99"/>
                          </a:solidFill>
                          <a:latin typeface="Calibri"/>
                        </a:rPr>
                        <a:t>Te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Launch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uppor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Text Box 9"/>
          <p:cNvSpPr/>
          <p:nvPr/>
        </p:nvSpPr>
        <p:spPr>
          <a:xfrm>
            <a:off x="428760" y="63813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文本框 1"/>
          <p:cNvSpPr/>
          <p:nvPr/>
        </p:nvSpPr>
        <p:spPr>
          <a:xfrm>
            <a:off x="1907640" y="404640"/>
            <a:ext cx="4752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O-DO LI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表格 6"/>
          <p:cNvGraphicFramePr/>
          <p:nvPr/>
        </p:nvGraphicFramePr>
        <p:xfrm>
          <a:off x="2051640" y="1606320"/>
          <a:ext cx="6095520" cy="5064480"/>
        </p:xfrm>
        <a:graphic>
          <a:graphicData uri="http://schemas.openxmlformats.org/drawingml/2006/table">
            <a:tbl>
              <a:tblPr/>
              <a:tblGrid>
                <a:gridCol w="1008000"/>
                <a:gridCol w="5087880"/>
              </a:tblGrid>
              <a:tr h="360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9a0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00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4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IL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00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 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75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00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 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75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00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cxnSp>
        <p:nvCxnSpPr>
          <p:cNvPr id="324" name="直接连接符 10"/>
          <p:cNvCxnSpPr/>
          <p:nvPr/>
        </p:nvCxnSpPr>
        <p:spPr>
          <a:xfrm>
            <a:off x="1907640" y="2708640"/>
            <a:ext cx="626508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cxnSp>
        <p:nvCxnSpPr>
          <p:cNvPr id="325" name="直接连接符 11"/>
          <p:cNvCxnSpPr/>
          <p:nvPr/>
        </p:nvCxnSpPr>
        <p:spPr>
          <a:xfrm>
            <a:off x="1907640" y="5301000"/>
            <a:ext cx="626508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cxnSp>
        <p:nvCxnSpPr>
          <p:cNvPr id="326" name="直接连接符 12"/>
          <p:cNvCxnSpPr/>
          <p:nvPr/>
        </p:nvCxnSpPr>
        <p:spPr>
          <a:xfrm>
            <a:off x="1907640" y="4005000"/>
            <a:ext cx="626508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  <Words>513</Words>
  <Paragraphs>10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5T01:37:38Z</dcterms:created>
  <dc:creator>Administrator</dc:creator>
  <dc:description/>
  <dc:language>en-US</dc:language>
  <cp:lastModifiedBy>王玉清</cp:lastModifiedBy>
  <dcterms:modified xsi:type="dcterms:W3CDTF">2016-03-01T07:36:20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