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B1C8-D92B-4B5C-B396-4F8A9033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877-1D61-4F4D-9FD1-BD929D9E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FD9-D29B-4C85-B9F0-DD66D18E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6AC-923B-496A-B398-F05156EA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674-4CAC-40CF-A27A-93B47B39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228E-F9FB-4280-9633-67A34E7A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344-A30B-4A88-9CDA-452D9F9D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ED81-51F6-423D-91C6-8E43C862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1985-ED7E-4143-BEBF-516AD503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38A-2A1C-410C-8475-44C13884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6205-033D-45ED-A620-AE957FCA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6DD-2141-4044-B805-F697B89D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3FC5-061D-4A51-843A-AA092FD8F2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地球商务科技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5:49:49Z</dcterms:created>
  <dc:creator>Administrator</dc:creator>
  <dc:description/>
  <cp:keywords/>
  <dc:language>en-US</dc:language>
  <cp:lastModifiedBy>a</cp:lastModifiedBy>
  <cp:lastPrinted>1899-12-30T00:00:00Z</cp:lastPrinted>
  <dcterms:modified xsi:type="dcterms:W3CDTF">2015-07-25T08:59:49Z</dcterms:modified>
  <cp:revision>3</cp:revision>
  <dc:subject/>
  <dc:title>地球商务幻灯片模板下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