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B572-AB48-4477-A1F6-661BBA56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E1E0-9038-44EF-BEBE-90D38C09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94E2-60B2-4DDC-B331-201A1FE0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FB1E-8AFD-496C-989A-1F65AB11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4256-A1C3-4C51-BBA2-4AA89CBB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EB1E-DE2B-4372-A584-6F9A67AE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253A-EA88-4BB3-8581-7F100B4B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CC71-9F21-4AE5-9F38-25F53FE7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8A07-7380-4984-A926-FCC3A3D3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40DB-20B8-45B9-AA53-96980E21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096A-BBD7-4E01-9D55-09A152EA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C81B-FF3F-400D-A280-B4C0C3A0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FE04-60B3-4B4E-B7B8-F9124B8A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80EA-BAAE-4068-ADA7-E5D5EB32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2AA7-C7B9-498E-B54E-341E49CD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91C2-93A1-4C71-938C-7E56E1C2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96CA-C71D-4D1A-9ADB-5B8AD5D7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D02D0-21D8-4FD0-9671-EB9A0BDA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43FAB-93FE-4380-A1CE-5F4D2E45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3B9F1-0057-4132-9AB9-BBEE6B6F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DE5A3-45B9-4809-BFE2-A6DD6994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9989F-700A-48D4-9703-EF3F45B6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7244-1542-4B9C-89E0-7C8E33A4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F0200-1E7F-43B1-AA8D-DEA63D52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63218-3447-491E-B2D8-BC5B85E1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C2701-C9CF-4FC6-A69F-9779F50F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1C670-A3A7-4086-A2DA-2DB7B2E1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3CE11-289E-4869-9501-E6EAE213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1E5F4-0001-4B9E-88BF-C7083BFC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E4362-AFE1-4C04-99EC-3C121A54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4F7E-26DA-4740-8FDB-CD8F547B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0BC5-D05B-4524-B09F-A0C8F246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FDD2-05F3-49C4-8D55-6EA816D7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5F7A-2514-41E9-AAFF-715E7919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DE2C-55B2-4248-98C9-C78A9C2A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3C35-A34D-4090-A128-594DA550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orbeil"/>
          <p:cNvPicPr/>
          <p:nvPr/>
        </p:nvPicPr>
        <p:blipFill>
          <a:blip r:embed="rId2">
            <a:lum bright="6000"/>
          </a:blip>
          <a:srcRect l="0" t="0" r="0" b="72674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未知"/>
          <p:cNvSpPr/>
          <p:nvPr/>
        </p:nvSpPr>
        <p:spPr>
          <a:xfrm rot="5400000">
            <a:off x="5295600" y="3009960"/>
            <a:ext cx="6858000" cy="838080"/>
          </a:xfrm>
          <a:custGeom>
            <a:avLst/>
            <a:gdLst/>
            <a:ahLst/>
            <a:rect l="l" t="t" r="r" b="b"/>
            <a:pathLst>
              <a:path w="5557" h="198">
                <a:moveTo>
                  <a:pt x="5553" y="0"/>
                </a:moveTo>
                <a:lnTo>
                  <a:pt x="5553" y="150"/>
                </a:lnTo>
                <a:cubicBezTo>
                  <a:pt x="5557" y="144"/>
                  <a:pt x="5136" y="181"/>
                  <a:pt x="4585" y="186"/>
                </a:cubicBezTo>
                <a:cubicBezTo>
                  <a:pt x="4034" y="191"/>
                  <a:pt x="2849" y="170"/>
                  <a:pt x="2246" y="180"/>
                </a:cubicBezTo>
                <a:cubicBezTo>
                  <a:pt x="1643" y="190"/>
                  <a:pt x="1319" y="178"/>
                  <a:pt x="960" y="180"/>
                </a:cubicBezTo>
                <a:cubicBezTo>
                  <a:pt x="601" y="182"/>
                  <a:pt x="238" y="198"/>
                  <a:pt x="76" y="198"/>
                </a:cubicBezTo>
                <a:cubicBezTo>
                  <a:pt x="28" y="198"/>
                  <a:pt x="1" y="153"/>
                  <a:pt x="1" y="153"/>
                </a:cubicBezTo>
                <a:cubicBezTo>
                  <a:pt x="1" y="153"/>
                  <a:pt x="0" y="83"/>
                  <a:pt x="1" y="0"/>
                </a:cubicBezTo>
                <a:lnTo>
                  <a:pt x="5553" y="0"/>
                </a:lnTo>
                <a:close/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EEB0-5B83-4B91-A3AD-F349D101F713}" type="slidenum"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hr-abhijit-sagade-03"/>
          <p:cNvPicPr/>
          <p:nvPr/>
        </p:nvPicPr>
        <p:blipFill>
          <a:blip r:embed="rId3"/>
          <a:srcRect l="63548" t="44973" r="2585" b="29879"/>
          <a:stretch/>
        </p:blipFill>
        <p:spPr>
          <a:xfrm>
            <a:off x="380880" y="1066680"/>
            <a:ext cx="6172200" cy="3812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corbeil"/>
          <p:cNvPicPr/>
          <p:nvPr/>
        </p:nvPicPr>
        <p:blipFill>
          <a:blip r:embed="rId4"/>
          <a:srcRect l="32999" t="32000" r="0" b="0"/>
          <a:stretch/>
        </p:blipFill>
        <p:spPr>
          <a:xfrm>
            <a:off x="6477120" y="4815000"/>
            <a:ext cx="2666880" cy="20430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CF90-D7C1-4CE4-8E89-5769298BC7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orbeil"/>
          <p:cNvPicPr/>
          <p:nvPr/>
        </p:nvPicPr>
        <p:blipFill>
          <a:blip r:embed="rId2">
            <a:lum bright="6000"/>
          </a:blip>
          <a:srcRect l="0" t="0" r="0" b="66671"/>
          <a:stretch/>
        </p:blipFill>
        <p:spPr>
          <a:xfrm>
            <a:off x="0" y="0"/>
            <a:ext cx="9144000" cy="2666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89" name="Picture 4" descr="corbeil"/>
          <p:cNvPicPr/>
          <p:nvPr/>
        </p:nvPicPr>
        <p:blipFill>
          <a:blip r:embed="rId3"/>
          <a:srcRect l="0" t="36000" r="42004" b="0"/>
          <a:stretch/>
        </p:blipFill>
        <p:spPr>
          <a:xfrm>
            <a:off x="0" y="2836800"/>
            <a:ext cx="4876920" cy="4035600"/>
          </a:xfrm>
          <a:prstGeom prst="rect">
            <a:avLst/>
          </a:prstGeom>
          <a:ln w="0">
            <a:noFill/>
          </a:ln>
        </p:spPr>
      </p:pic>
      <p:sp>
        <p:nvSpPr>
          <p:cNvPr id="90" name="Freeform 27"/>
          <p:cNvSpPr/>
          <p:nvPr/>
        </p:nvSpPr>
        <p:spPr>
          <a:xfrm rot="16200000">
            <a:off x="566640" y="-567000"/>
            <a:ext cx="1152360" cy="228600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785" h="3648">
                <a:moveTo>
                  <a:pt x="0" y="0"/>
                </a:moveTo>
                <a:lnTo>
                  <a:pt x="1779" y="3648"/>
                </a:lnTo>
                <a:lnTo>
                  <a:pt x="1785" y="0"/>
                </a:lnTo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Freeform 27"/>
          <p:cNvSpPr/>
          <p:nvPr/>
        </p:nvSpPr>
        <p:spPr>
          <a:xfrm rot="5400000">
            <a:off x="5705280" y="3419280"/>
            <a:ext cx="2305080" cy="457200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4572000"/>
              <a:gd name="textAreaBottom" fmla="*/ 4572360 h 4572000"/>
            </a:gdLst>
            <a:ahLst/>
            <a:rect l="textAreaLeft" t="textAreaTop" r="textAreaRight" b="textAreaBottom"/>
            <a:pathLst>
              <a:path w="1785" h="3648">
                <a:moveTo>
                  <a:pt x="0" y="0"/>
                </a:moveTo>
                <a:lnTo>
                  <a:pt x="1779" y="3648"/>
                </a:lnTo>
                <a:lnTo>
                  <a:pt x="1785" y="0"/>
                </a:lnTo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E169-CF73-4A35-A45A-40F59E0930F6}" type="slidenum"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52200" y="1828440"/>
            <a:ext cx="792468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Microsoft JhengHei"/>
              </a:rPr>
              <a:t>淡雅菊花通用</a:t>
            </a:r>
            <a:r>
              <a:rPr b="1" lang="en-US" sz="4000" spc="-1" strike="noStrike">
                <a:solidFill>
                  <a:srgbClr val="00b050"/>
                </a:solidFill>
                <a:latin typeface="Microsoft JhengHei"/>
              </a:rPr>
              <a:t>PPT</a:t>
            </a:r>
            <a:r>
              <a:rPr b="1" lang="zh-CN" sz="4000" spc="-1" strike="noStrike">
                <a:solidFill>
                  <a:srgbClr val="00b050"/>
                </a:solidFill>
                <a:latin typeface="Microsoft JhengHei"/>
              </a:rPr>
              <a:t>模板完整版下载</a:t>
            </a:r>
            <a:endParaRPr b="1" lang="en-US" sz="40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162920" y="5335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a6a6a6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9A04-034C-4F80-A73F-BF7A5CE85F96}" type="slidenum"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默认设置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首页主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4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；副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内页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3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；内页内容文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微软雅黑）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825200"/>
            <a:ext cx="716256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50"/>
                </a:solidFill>
                <a:latin typeface="Microsoft JhengHei"/>
              </a:rPr>
              <a:t>谢谢观看！</a:t>
            </a:r>
            <a:endParaRPr b="1" lang="en-US" sz="4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162920" y="5335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a6a6a6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王玉清</cp:lastModifiedBy>
  <dcterms:modified xsi:type="dcterms:W3CDTF">2016-02-21T03:48:37Z</dcterms:modified>
  <cp:revision>12</cp:revision>
  <dc:subject/>
  <dc:title>淡雅菊花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</Properties>
</file>