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FA65-1756-4294-AA3E-2717AEAA7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1320" y="274680"/>
            <a:ext cx="6405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1320" y="1600200"/>
            <a:ext cx="6405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1320" y="3964320"/>
            <a:ext cx="6405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EF1F-4365-4168-9B40-103A938D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1320" y="274680"/>
            <a:ext cx="6405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1320" y="1600200"/>
            <a:ext cx="3125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125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1320" y="3964320"/>
            <a:ext cx="3125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125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E9AE-CC39-48AB-AEF3-254D5D39C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1320" y="274680"/>
            <a:ext cx="6405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1320" y="1600200"/>
            <a:ext cx="2062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46720" y="1600200"/>
            <a:ext cx="2062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2480" y="1600200"/>
            <a:ext cx="2062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1320" y="3964320"/>
            <a:ext cx="2062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46720" y="3964320"/>
            <a:ext cx="2062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12480" y="3964320"/>
            <a:ext cx="2062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8132-0468-4618-AB63-7AD076898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7307-A27C-43F7-A455-00F394014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1320" y="274680"/>
            <a:ext cx="6405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1320" y="1600200"/>
            <a:ext cx="6405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A97D-8231-4F11-BD52-9FAC2FD0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1320" y="274680"/>
            <a:ext cx="6405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1320" y="1600200"/>
            <a:ext cx="6405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B862-F6FF-4906-9987-D1587A10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1320" y="274680"/>
            <a:ext cx="6405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1320" y="1600200"/>
            <a:ext cx="31255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1255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4A02-2913-43AA-91BC-8DBFE121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1320" y="274680"/>
            <a:ext cx="6405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E0E9-96A3-4FB9-8CB5-70289C81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1320" y="274680"/>
            <a:ext cx="6405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B168-DE62-4BF7-968C-41C6849D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1320" y="274680"/>
            <a:ext cx="6405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1320" y="1600200"/>
            <a:ext cx="3125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1255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1320" y="3964320"/>
            <a:ext cx="3125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A257-0038-403F-9373-666B6975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1320" y="274680"/>
            <a:ext cx="6405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1320" y="1600200"/>
            <a:ext cx="6405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96EA-8CFF-4250-90AA-CD5E5894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1320" y="274680"/>
            <a:ext cx="6405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1320" y="1600200"/>
            <a:ext cx="31255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125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125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974A-6B7C-49D2-82B4-EA5155D1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1320" y="274680"/>
            <a:ext cx="6405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1320" y="1600200"/>
            <a:ext cx="3125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125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1320" y="3964320"/>
            <a:ext cx="6405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1A88-68F5-4FDF-BDED-DD7823F1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1320" y="274680"/>
            <a:ext cx="6405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1320" y="1600200"/>
            <a:ext cx="6405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1320" y="3964320"/>
            <a:ext cx="6405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DE36-6851-471F-949B-9EC08608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1320" y="274680"/>
            <a:ext cx="6405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1320" y="1600200"/>
            <a:ext cx="3125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125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1320" y="3964320"/>
            <a:ext cx="3125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125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AE00-E4AA-4181-B38E-5355ED929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1320" y="274680"/>
            <a:ext cx="6405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1320" y="1600200"/>
            <a:ext cx="2062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46720" y="1600200"/>
            <a:ext cx="2062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2480" y="1600200"/>
            <a:ext cx="2062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1320" y="3964320"/>
            <a:ext cx="2062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46720" y="3964320"/>
            <a:ext cx="2062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12480" y="3964320"/>
            <a:ext cx="2062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33EA-CA3D-4B6E-9788-9E1B7C005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A5239-69F8-4EA5-BF63-2D5A4B0B4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1320" y="274680"/>
            <a:ext cx="6405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1320" y="1600200"/>
            <a:ext cx="6405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FD423-3826-4916-B3C2-32CE043F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1320" y="274680"/>
            <a:ext cx="6405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1320" y="1600200"/>
            <a:ext cx="6405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0D660-4721-4594-B172-6BF4E8AB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1320" y="274680"/>
            <a:ext cx="6405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1320" y="1600200"/>
            <a:ext cx="31255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1255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60FE2-3378-489C-8293-AEEE3A44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1320" y="274680"/>
            <a:ext cx="6405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3E185-6B9D-4298-8FDE-3CA50124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1320" y="274680"/>
            <a:ext cx="6405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1320" y="1600200"/>
            <a:ext cx="6405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040F-2B55-45A2-8DA2-ACC8958F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281320" y="274680"/>
            <a:ext cx="6405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C675C-9FF3-41FE-84F3-17AE9904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1320" y="274680"/>
            <a:ext cx="6405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1320" y="1600200"/>
            <a:ext cx="3125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1255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1320" y="3964320"/>
            <a:ext cx="3125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4B8C0-245F-4FE9-BAEC-20D3EFBC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1320" y="274680"/>
            <a:ext cx="6405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1320" y="1600200"/>
            <a:ext cx="31255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125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125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19A4E-A595-45FB-ADCE-2B68D3CB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1320" y="274680"/>
            <a:ext cx="6405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1320" y="1600200"/>
            <a:ext cx="3125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125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1320" y="3964320"/>
            <a:ext cx="6405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FD15C-127B-4B73-B3F5-F3822DE0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1320" y="274680"/>
            <a:ext cx="6405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1320" y="1600200"/>
            <a:ext cx="6405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1320" y="3964320"/>
            <a:ext cx="6405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5FD87-4992-451E-83F5-B57C2D37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1320" y="274680"/>
            <a:ext cx="6405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1320" y="1600200"/>
            <a:ext cx="3125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125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1320" y="3964320"/>
            <a:ext cx="3125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125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7B6C3-D203-435D-A2A2-C09EA36E6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1320" y="274680"/>
            <a:ext cx="6405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1320" y="1600200"/>
            <a:ext cx="2062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46720" y="1600200"/>
            <a:ext cx="2062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12480" y="1600200"/>
            <a:ext cx="2062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1320" y="3964320"/>
            <a:ext cx="2062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446720" y="3964320"/>
            <a:ext cx="2062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12480" y="3964320"/>
            <a:ext cx="2062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6B87E-4950-45AC-B81D-05FD41EFD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1320" y="274680"/>
            <a:ext cx="6405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1320" y="1600200"/>
            <a:ext cx="31255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1255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1CAA-7AE2-47CB-AD50-5D716453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1320" y="274680"/>
            <a:ext cx="6405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7C55-4B35-4054-B221-44861C85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1320" y="274680"/>
            <a:ext cx="6405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5AE8-3891-47B8-A404-D84A425F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1320" y="274680"/>
            <a:ext cx="6405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1320" y="1600200"/>
            <a:ext cx="3125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1255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1320" y="3964320"/>
            <a:ext cx="3125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A7BE-E35D-4AF1-8B72-271D68A5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1320" y="274680"/>
            <a:ext cx="6405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1320" y="1600200"/>
            <a:ext cx="31255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125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125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3EC1-BFFF-465A-A2F7-5848192D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1320" y="274680"/>
            <a:ext cx="6405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1320" y="1600200"/>
            <a:ext cx="3125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125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1320" y="3964320"/>
            <a:ext cx="6405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02DB-CA90-4B26-B37A-1BF3926C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0280" y="4497840"/>
            <a:ext cx="380160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A7F018B-133E-4CF1-A898-E4285168F25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39BEB3-AEC5-4D3B-B78F-1AFA719C4B5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1320" y="274680"/>
            <a:ext cx="64051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281320" y="1600200"/>
            <a:ext cx="6405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6304F97-9AA0-46C3-9215-BB5B0E98361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0280" y="4497840"/>
            <a:ext cx="380160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488200" y="374760"/>
            <a:ext cx="3499200" cy="76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矩形 3"/>
          <p:cNvSpPr/>
          <p:nvPr/>
        </p:nvSpPr>
        <p:spPr>
          <a:xfrm>
            <a:off x="2192040" y="1596600"/>
            <a:ext cx="4851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帆船出游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1320" y="274680"/>
            <a:ext cx="64051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1320" y="1600200"/>
            <a:ext cx="6405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  <Words>13</Words>
  <Paragraphs>2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6T17:33:32Z</dcterms:created>
  <dc:creator>Julian</dc:creator>
  <dc:description/>
  <dc:language>en-US</dc:language>
  <cp:lastModifiedBy>王玉清</cp:lastModifiedBy>
  <dcterms:modified xsi:type="dcterms:W3CDTF">2016-02-24T03:16:2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3</vt:r8>
  </property>
</Properties>
</file>