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F24-60DA-49FF-BF0A-46035AFE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96F-239C-46D8-83A5-9797B1C0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564-736C-47DF-BDB8-822D14C7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440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9824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7440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9824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FFD-9432-415A-BBC3-58C319A6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4DCE-EE04-42AC-9F02-CC2762A1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50C9-3C96-4A24-A371-7F0D09F3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C8B-04BF-44D9-B5C5-9E92E35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384-25DE-4299-93F0-36A719B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84CD-9175-4A83-A8F2-D44C773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33130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DE11-245D-42D3-89BF-69619B3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96C-49C2-420C-912E-7A59C86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359-00EF-4512-9C5C-ABBB590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7AB-C07E-4639-B543-434EF7D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726D-4BBE-42E6-BF6F-65CA5B4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4415-1B1A-40F6-8CBE-A4AD7693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F0B-97ED-49EB-8FA7-91866363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440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98240" y="105264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7440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098240" y="3647880"/>
            <a:ext cx="1831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66D2-7923-4A7B-98B2-3E27006D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756-87D1-4342-91F8-DADFC66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5DF-47E0-46A7-8E26-3EB75A4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D4-3785-467B-94C0-3FBED8B4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33130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E49-A414-408C-85F5-C4CF986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EF3-A183-473B-AF1A-356C3C0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66560" y="364788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EFA-AE9A-4269-911C-A76A1E4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66560" y="1052640"/>
            <a:ext cx="2776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568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4EB-FFBC-4CA7-8573-89B35AE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08360" y="188640"/>
            <a:ext cx="223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165360"/>
            <a:ext cx="33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9361-E565-454E-BD20-A70CFAAFBD83}" type="slidenum"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892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484360" y="6165360"/>
            <a:ext cx="395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9778-EED3-4C58-B72A-D24B36AF1AAB}" type="slidenum"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763416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粉色罗曼蒂克之吻通用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560" y="3095280"/>
            <a:ext cx="5113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Add your name here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3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0066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68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0066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4:39:03Z</dcterms:modified>
  <cp:revision>7</cp:revision>
  <dc:subject/>
  <dc:title>Слайд 1</dc:title>
</cp:coreProperties>
</file>