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C009-CCAE-4E6A-9281-A959AE862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74C3-8830-466A-B5C2-C86FDDFE3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B6ED-CE65-4790-B3D0-79B6CDA97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80D7-5C60-4DF8-B985-7AFB82BD9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8C0EB-937F-471E-8AF9-E590000F4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04036-CD88-44BF-99D6-ACBCE786B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02A19-41F5-412A-AB6C-4D2D7B0AB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F1723-F424-4128-B40E-634A249EF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CE3ED-3D43-4C7A-B370-F808EC5C9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5B7FC-FFCB-4F6F-A1D0-15AF36961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7D41F-69D0-4BDA-B52A-96F0A040D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D9E8-B90D-42C6-A07B-1B9F2EC35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BD5EA-442A-46AE-9FE6-1B6729CFF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D9C19-453C-41CB-B167-D7D4B5D46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5F7CC-3BFE-4DD8-962F-52AA6F7A0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548D3-0EDD-4E97-88E1-D140C1DA7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70930-29C2-46CE-9E18-1200C0F83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F0B4-C8EA-4EC1-8044-E50F8D6C6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8D03-5512-441D-8016-54DA8C39A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E03D-FCD6-4D9F-A4A3-26B9618D2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1C2B-1029-4B2B-992C-BE3597BDE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4F7D-AD92-4581-908A-63B717871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C91A-1F3F-496E-8B94-063A94816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2815-B8B3-44BC-BEF4-3262194A5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1EC19-30B4-432D-9DBD-6027BC3CF4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438"/>
          <p:cNvPicPr/>
          <p:nvPr/>
        </p:nvPicPr>
        <p:blipFill>
          <a:blip r:embed="rId2"/>
          <a:srcRect l="0" t="0" r="0" b="312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8" descr="444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1A389-FF82-4645-9DA5-4A9151AC98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矩形 1"/>
          <p:cNvSpPr/>
          <p:nvPr/>
        </p:nvSpPr>
        <p:spPr>
          <a:xfrm>
            <a:off x="2048400" y="762120"/>
            <a:ext cx="506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粉色女孩通用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12"/>
          <p:cNvSpPr/>
          <p:nvPr/>
        </p:nvSpPr>
        <p:spPr>
          <a:xfrm>
            <a:off x="206280" y="648972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1"/>
          <p:cNvSpPr/>
          <p:nvPr/>
        </p:nvSpPr>
        <p:spPr>
          <a:xfrm>
            <a:off x="6781680" y="6477120"/>
            <a:ext cx="22100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1ppt.com </a:t>
            </a: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第一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模板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王玉清</cp:lastModifiedBy>
  <dcterms:modified xsi:type="dcterms:W3CDTF">2016-02-21T04:11:50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