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233B-4E96-46C6-80A3-DEF85B0513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74DD-5142-4C6F-98F7-E5D0BB57C4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5A4F-B58E-4C7D-986E-AED2AB6C25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5BD-E904-459A-91F4-DF714450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A13-FEB9-4CE8-884C-E9ED9D62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92D-C06D-455E-AA45-747D056E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A01-F857-4461-A87E-A4C267F0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1FB-0EE4-46D0-AD24-71AB79CA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146-7828-4939-93CA-8371D9DF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5AD-8586-4D16-8E58-1D8FF2D6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5F3-D3D9-4173-915E-13296EB6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8D6-DF53-4ED5-B18A-F6A40320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925-906E-489D-9367-468975CA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655-B1EA-427A-ABA1-87F47FB0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16B-CD45-4CAA-892C-5636DA0B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9EEB-E583-4F9E-81EB-320272FBF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603880" y="115920"/>
            <a:ext cx="49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汉仪综艺体简"/>
                <a:ea typeface="汉仪综艺体简"/>
              </a:rPr>
              <a:t>粉色桃花风格通用</a:t>
            </a:r>
            <a:r>
              <a:rPr b="0" lang="en-US" sz="4000" spc="-1" strike="noStrike">
                <a:solidFill>
                  <a:srgbClr val="ff3399"/>
                </a:solidFill>
                <a:latin typeface="汉仪综艺体简"/>
                <a:ea typeface="汉仪综艺体简"/>
              </a:rPr>
              <a:t>PPT</a:t>
            </a:r>
            <a:r>
              <a:rPr b="0" lang="zh-CN" sz="4000" spc="-1" strike="noStrike">
                <a:solidFill>
                  <a:srgbClr val="ff3399"/>
                </a:solidFill>
                <a:latin typeface="汉仪综艺体简"/>
                <a:ea typeface="汉仪综艺体简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17520" y="115920"/>
            <a:ext cx="469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Dotum"/>
              </a:rPr>
              <a:t>Name of your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7:08:41Z</dcterms:created>
  <dc:creator>admin</dc:creator>
  <dc:description/>
  <dc:language>en-US</dc:language>
  <cp:lastModifiedBy>王玉清</cp:lastModifiedBy>
  <dcterms:modified xsi:type="dcterms:W3CDTF">2016-02-22T03:41:55Z</dcterms:modified>
  <cp:revision>4</cp:revision>
  <dc:subject/>
  <dc:title>幻灯片 1</dc:title>
</cp:coreProperties>
</file>