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D78-362B-42A0-9D9A-326281DE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77724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60240" y="4036320"/>
            <a:ext cx="77724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B456-6DD9-410B-ACEC-3B046D52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4292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240" y="403632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42920" y="403632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031-1C08-45B0-AA6F-45B6C0F0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88240" y="172368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15880" y="172368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60240" y="403632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88240" y="403632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15880" y="403632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05FE-5A9D-41FF-AA95-79085E17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7C09-FB0E-42C2-844B-45EB60D8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60240" y="172368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A022-9C02-4FDA-B82F-219DB0B8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1B8F-E3C9-4878-8B7F-71DBB504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2920" y="172368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02B0-DC29-4025-B8BD-AE03CB59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E17B-E3C0-49B3-BA53-6B07AEE8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62040" y="236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ECFF-8FBF-4253-BF0E-299AB2AF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2920" y="172368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0240" y="403632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E431-5F95-4AB3-B572-617E3F93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60240" y="172368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FAD-EE2E-4B22-A81B-4A07B862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292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42920" y="403632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3BB6-17C9-4099-BB22-BA98DC97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292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0240" y="4036320"/>
            <a:ext cx="77724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2FB6-8259-4A7F-8F60-73AA4CC7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77724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0240" y="4036320"/>
            <a:ext cx="77724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13B8-B1C5-4D82-A1BF-D04BC55D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292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0240" y="403632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42920" y="403632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5AFF-D9C0-469B-8BEC-13C1D71E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88240" y="172368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15880" y="172368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0240" y="403632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88240" y="403632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15880" y="4036320"/>
            <a:ext cx="2502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802D-E703-49DF-9A17-757FAB30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FBF-D63A-4095-A6C5-7F8C2899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2920" y="172368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CF86-C52E-4A98-8C5B-FAD38F7D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BA3-EAC4-4422-A40A-BA259635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62040" y="236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97A8-A457-476A-9407-6A0B4BBF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2920" y="172368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403632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1D3-3F59-4497-862D-2E3A4FDD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3792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292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42920" y="403632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21D-5AEA-490A-95D7-F45DEBC6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2920" y="1723680"/>
            <a:ext cx="3792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0240" y="4036320"/>
            <a:ext cx="77724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504D-3318-4E43-9EC0-EC35F829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3bg_2"/>
          <p:cNvPicPr/>
          <p:nvPr/>
        </p:nvPicPr>
        <p:blipFill>
          <a:blip r:embed="rId2"/>
          <a:stretch/>
        </p:blipFill>
        <p:spPr>
          <a:xfrm>
            <a:off x="0" y="0"/>
            <a:ext cx="9144000" cy="14652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0" y="0"/>
            <a:ext cx="9143640" cy="110880"/>
            <a:chOff x="0" y="0"/>
            <a:chExt cx="9143640" cy="110880"/>
          </a:xfrm>
        </p:grpSpPr>
        <p:sp>
          <p:nvSpPr>
            <p:cNvPr id="2" name="Rectangle 4"/>
            <p:cNvSpPr/>
            <p:nvPr/>
          </p:nvSpPr>
          <p:spPr>
            <a:xfrm>
              <a:off x="0" y="0"/>
              <a:ext cx="9143640" cy="110880"/>
            </a:xfrm>
            <a:prstGeom prst="rect">
              <a:avLst/>
            </a:prstGeom>
            <a:solidFill>
              <a:srgbClr val="ff6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8538840" y="0"/>
              <a:ext cx="604800" cy="110880"/>
            </a:xfrm>
            <a:prstGeom prst="rect">
              <a:avLst/>
            </a:prstGeom>
            <a:solidFill>
              <a:srgbClr val="fe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266680" y="0"/>
              <a:ext cx="604800" cy="110880"/>
            </a:xfrm>
            <a:prstGeom prst="rect">
              <a:avLst/>
            </a:prstGeom>
            <a:solidFill>
              <a:srgbClr val="fe8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8024760" y="0"/>
              <a:ext cx="604800" cy="110880"/>
            </a:xfrm>
            <a:prstGeom prst="rect">
              <a:avLst/>
            </a:prstGeom>
            <a:solidFill>
              <a:srgbClr val="fd9a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854480" y="0"/>
              <a:ext cx="604800" cy="110880"/>
            </a:xfrm>
            <a:prstGeom prst="rect">
              <a:avLst/>
            </a:prstGeom>
            <a:solidFill>
              <a:srgbClr val="fda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7722360" y="0"/>
              <a:ext cx="604800" cy="110880"/>
            </a:xfrm>
            <a:prstGeom prst="rect">
              <a:avLst/>
            </a:prstGeom>
            <a:solidFill>
              <a:srgbClr val="fdb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-윤고딕140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60240" y="172368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8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Click to edit the outline text format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Second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2" marL="1143000" indent="-228600">
              <a:spcBef>
                <a:spcPts val="624"/>
              </a:spcBef>
              <a:buClr>
                <a:srgbClr val="8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Third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3" marL="1600200" indent="-228600">
              <a:spcBef>
                <a:spcPts val="624"/>
              </a:spcBef>
              <a:buClr>
                <a:srgbClr val="8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Fourth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4" marL="2057400" indent="-228600">
              <a:spcBef>
                <a:spcPts val="624"/>
              </a:spcBef>
              <a:buClr>
                <a:srgbClr val="8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Fifth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Sixth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Seventh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351A-18C2-4148-BD81-800B8DFB6CB6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3bg_2"/>
          <p:cNvPicPr/>
          <p:nvPr/>
        </p:nvPicPr>
        <p:blipFill>
          <a:blip r:embed="rId2"/>
          <a:stretch/>
        </p:blipFill>
        <p:spPr>
          <a:xfrm>
            <a:off x="0" y="0"/>
            <a:ext cx="9144000" cy="146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13bg_22"/>
          <p:cNvPicPr/>
          <p:nvPr/>
        </p:nvPicPr>
        <p:blipFill>
          <a:blip r:embed="rId3"/>
          <a:stretch/>
        </p:blipFill>
        <p:spPr>
          <a:xfrm>
            <a:off x="0" y="5392800"/>
            <a:ext cx="9144000" cy="1465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1628640"/>
            <a:ext cx="9144000" cy="3610080"/>
          </a:xfrm>
          <a:prstGeom prst="rect">
            <a:avLst/>
          </a:prstGeom>
          <a:solidFill>
            <a:srgbClr val="262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1482840"/>
            <a:ext cx="9144000" cy="220680"/>
          </a:xfrm>
          <a:prstGeom prst="rect">
            <a:avLst/>
          </a:prstGeom>
          <a:solidFill>
            <a:srgbClr val="ff6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5132520"/>
            <a:ext cx="9144000" cy="231480"/>
          </a:xfrm>
          <a:prstGeom prst="rect">
            <a:avLst/>
          </a:prstGeom>
          <a:solidFill>
            <a:srgbClr val="ff6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0" y="0"/>
            <a:ext cx="9143640" cy="110880"/>
            <a:chOff x="0" y="0"/>
            <a:chExt cx="9143640" cy="110880"/>
          </a:xfrm>
        </p:grpSpPr>
        <p:sp>
          <p:nvSpPr>
            <p:cNvPr id="55" name="Rectangle 8"/>
            <p:cNvSpPr/>
            <p:nvPr/>
          </p:nvSpPr>
          <p:spPr>
            <a:xfrm>
              <a:off x="0" y="0"/>
              <a:ext cx="9143640" cy="110880"/>
            </a:xfrm>
            <a:prstGeom prst="rect">
              <a:avLst/>
            </a:prstGeom>
            <a:solidFill>
              <a:srgbClr val="ff6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8538840" y="0"/>
              <a:ext cx="604800" cy="110880"/>
            </a:xfrm>
            <a:prstGeom prst="rect">
              <a:avLst/>
            </a:prstGeom>
            <a:solidFill>
              <a:srgbClr val="fe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8266680" y="0"/>
              <a:ext cx="604800" cy="110880"/>
            </a:xfrm>
            <a:prstGeom prst="rect">
              <a:avLst/>
            </a:prstGeom>
            <a:solidFill>
              <a:srgbClr val="fe8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8024760" y="0"/>
              <a:ext cx="604800" cy="110880"/>
            </a:xfrm>
            <a:prstGeom prst="rect">
              <a:avLst/>
            </a:prstGeom>
            <a:solidFill>
              <a:srgbClr val="fd9a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7854480" y="0"/>
              <a:ext cx="604800" cy="110880"/>
            </a:xfrm>
            <a:prstGeom prst="rect">
              <a:avLst/>
            </a:prstGeom>
            <a:solidFill>
              <a:srgbClr val="fda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7722360" y="0"/>
              <a:ext cx="604800" cy="110880"/>
            </a:xfrm>
            <a:prstGeom prst="rect">
              <a:avLst/>
            </a:prstGeom>
            <a:solidFill>
              <a:srgbClr val="fdb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1" name="Group 19"/>
          <p:cNvGrpSpPr/>
          <p:nvPr/>
        </p:nvGrpSpPr>
        <p:grpSpPr>
          <a:xfrm>
            <a:off x="0" y="6746760"/>
            <a:ext cx="9143640" cy="110880"/>
            <a:chOff x="0" y="6746760"/>
            <a:chExt cx="9143640" cy="110880"/>
          </a:xfrm>
        </p:grpSpPr>
        <p:sp>
          <p:nvSpPr>
            <p:cNvPr id="62" name="Rectangle 20"/>
            <p:cNvSpPr/>
            <p:nvPr/>
          </p:nvSpPr>
          <p:spPr>
            <a:xfrm>
              <a:off x="0" y="6746760"/>
              <a:ext cx="9143640" cy="110880"/>
            </a:xfrm>
            <a:prstGeom prst="rect">
              <a:avLst/>
            </a:prstGeom>
            <a:solidFill>
              <a:srgbClr val="ff6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" name="Rectangle 21"/>
            <p:cNvSpPr/>
            <p:nvPr/>
          </p:nvSpPr>
          <p:spPr>
            <a:xfrm>
              <a:off x="8538840" y="6746760"/>
              <a:ext cx="604800" cy="110880"/>
            </a:xfrm>
            <a:prstGeom prst="rect">
              <a:avLst/>
            </a:prstGeom>
            <a:solidFill>
              <a:srgbClr val="fe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" name="Rectangle 22"/>
            <p:cNvSpPr/>
            <p:nvPr/>
          </p:nvSpPr>
          <p:spPr>
            <a:xfrm>
              <a:off x="8266680" y="6746760"/>
              <a:ext cx="604800" cy="110880"/>
            </a:xfrm>
            <a:prstGeom prst="rect">
              <a:avLst/>
            </a:prstGeom>
            <a:solidFill>
              <a:srgbClr val="fe8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" name="Rectangle 23"/>
            <p:cNvSpPr/>
            <p:nvPr/>
          </p:nvSpPr>
          <p:spPr>
            <a:xfrm>
              <a:off x="8024760" y="6746760"/>
              <a:ext cx="604800" cy="110880"/>
            </a:xfrm>
            <a:prstGeom prst="rect">
              <a:avLst/>
            </a:prstGeom>
            <a:solidFill>
              <a:srgbClr val="fd9a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" name="Rectangle 24"/>
            <p:cNvSpPr/>
            <p:nvPr/>
          </p:nvSpPr>
          <p:spPr>
            <a:xfrm>
              <a:off x="7854480" y="6746760"/>
              <a:ext cx="604800" cy="110880"/>
            </a:xfrm>
            <a:prstGeom prst="rect">
              <a:avLst/>
            </a:prstGeom>
            <a:solidFill>
              <a:srgbClr val="fda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7722360" y="6746760"/>
              <a:ext cx="604800" cy="110880"/>
            </a:xfrm>
            <a:prstGeom prst="rect">
              <a:avLst/>
            </a:prstGeom>
            <a:solidFill>
              <a:srgbClr val="fdb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-윤고딕140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60240" y="172368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8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Click to edit the outline text format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Second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2" marL="1143000" indent="-228600">
              <a:spcBef>
                <a:spcPts val="624"/>
              </a:spcBef>
              <a:buClr>
                <a:srgbClr val="8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Third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3" marL="1600200" indent="-228600">
              <a:spcBef>
                <a:spcPts val="624"/>
              </a:spcBef>
              <a:buClr>
                <a:srgbClr val="8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Fourth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4" marL="2057400" indent="-228600">
              <a:spcBef>
                <a:spcPts val="624"/>
              </a:spcBef>
              <a:buClr>
                <a:srgbClr val="8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Fifth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Sixth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-윤고딕140"/>
              </a:rPr>
              <a:t>Seventh Outline Level</a:t>
            </a:r>
            <a:endParaRPr b="0" lang="en-US" sz="2500" spc="-1" strike="noStrike">
              <a:solidFill>
                <a:srgbClr val="800000"/>
              </a:solidFill>
              <a:latin typeface="-윤고딕140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28F1-9667-4C59-A999-86D2E639596B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62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汉仪方叠体简"/>
                <a:ea typeface="汉仪方叠体简"/>
              </a:rPr>
              <a:t>古典黄通用</a:t>
            </a:r>
            <a:r>
              <a:rPr b="0" lang="en-US" sz="4000" spc="-1" strike="noStrike">
                <a:solidFill>
                  <a:srgbClr val="eaeaea"/>
                </a:solidFill>
                <a:latin typeface="汉仪方叠体简"/>
                <a:ea typeface="汉仪方叠体简"/>
              </a:rPr>
              <a:t>PPT</a:t>
            </a:r>
            <a:r>
              <a:rPr b="0" lang="zh-CN" sz="4000" spc="-1" strike="noStrike">
                <a:solidFill>
                  <a:srgbClr val="eaeaea"/>
                </a:solidFill>
                <a:latin typeface="汉仪方叠体简"/>
                <a:ea typeface="汉仪方叠体简"/>
              </a:rPr>
              <a:t>模板免费下载</a:t>
            </a:r>
            <a:endParaRPr b="0" lang="en-US" sz="40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204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aeaea"/>
              </a:solidFill>
              <a:latin typeface="-윤고딕140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0240" y="172368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500" spc="-1" strike="noStrike">
              <a:solidFill>
                <a:srgbClr val="8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王玉清</cp:lastModifiedBy>
  <dcterms:modified xsi:type="dcterms:W3CDTF">2016-02-21T07:18:28Z</dcterms:modified>
  <cp:revision>11</cp:revision>
  <dc:subject/>
  <dc:title>PowerPoint 프레젠테이션</dc:title>
</cp:coreProperties>
</file>