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62C2D-80B8-49C9-90BD-2AB458BA3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71B60-A6BB-4721-A2F2-3AB62C762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3BB63-B42D-4F34-A4A4-F2735CCA4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7F3E0D-3CC7-40A8-A8FF-900C84986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9A662B-54F7-4E6A-AF84-7A39D8DF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AF9E6C-4B84-40A0-9CC6-F3CC4454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3E964-0CA6-475C-BE4A-105D8334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68DBEC-3D8C-4072-903D-DABD1F10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770F5-9F5A-4990-8A3A-B16F5A24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2EA9C-9306-43D1-B2EE-D188FD7D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CD328-7C58-461E-A6B7-167680D0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0154F1-5618-4FB1-B960-8B848C32F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未命名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未命名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3446"/>
                </a:solidFill>
                <a:latin typeface="Arial"/>
                <a:ea typeface="华文隶书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未命名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ymbol" charset="2"/>
              <a:buChar char="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StarSymbo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2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3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4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AA0E6D-0437-4F41-A7D4-12CE2B8445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05264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3446"/>
                </a:solidFill>
                <a:latin typeface="Arial"/>
                <a:ea typeface="华文隶书"/>
              </a:rPr>
              <a:t>古典莲花通用</a:t>
            </a:r>
            <a:r>
              <a:rPr b="0" lang="en-US" sz="4000" spc="-1" strike="noStrike">
                <a:solidFill>
                  <a:srgbClr val="003446"/>
                </a:solidFill>
                <a:latin typeface="Arial"/>
                <a:ea typeface="华文隶书"/>
              </a:rPr>
              <a:t>PPT</a:t>
            </a:r>
            <a:r>
              <a:rPr b="0" lang="zh-CN" sz="4000" spc="-1" strike="noStrike">
                <a:solidFill>
                  <a:srgbClr val="003446"/>
                </a:solidFill>
                <a:latin typeface="Arial"/>
                <a:ea typeface="华文隶书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068640"/>
            <a:ext cx="6400440" cy="64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华文行楷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Arial"/>
              <a:ea typeface="华文隶书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淡雅的荷花PPT模板">
  <a:themeElements>
    <a:clrScheme name="自治模板1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淡雅的荷花PPT模板">
  <a:themeElements>
    <a:clrScheme name="自治模板1 1">
      <a:dk1>
        <a:srgbClr val="000000"/>
      </a:dk1>
      <a:lt1>
        <a:srgbClr val="ffffff"/>
      </a:lt1>
      <a:dk2>
        <a:srgbClr val="000000"/>
      </a:dk2>
      <a:lt2>
        <a:srgbClr val="808080"/>
      </a:lt2>
      <a:accent1>
        <a:srgbClr val="bbe0e3"/>
      </a:accent1>
      <a:accent2>
        <a:srgbClr val="333399"/>
      </a:accent2>
      <a:accent3>
        <a:srgbClr val="ffffff"/>
      </a:accent3>
      <a:accent4>
        <a:srgbClr val="000000"/>
      </a:accent4>
      <a:accent5>
        <a:srgbClr val="daedef"/>
      </a:accent5>
      <a:accent6>
        <a:srgbClr val="2d2d8a"/>
      </a:accent6>
      <a:hlink>
        <a:srgbClr val="009999"/>
      </a:hlink>
      <a:folHlink>
        <a:srgbClr val="99cc0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淡雅的荷花PPT模板</Template>
  <TotalTime>0</TotalTime>
  <Application>LibreOffice/7.4.7.2$Linux_X86_64 LibreOffice_project/40$Build-2</Application>
  <AppVersion>15.0000</AppVersion>
  <Words>12</Words>
  <Paragraphs>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5T01:27:28Z</dcterms:created>
  <dc:creator>jccook</dc:creator>
  <dc:description/>
  <dc:language>en-US</dc:language>
  <cp:lastModifiedBy>王玉清</cp:lastModifiedBy>
  <dcterms:modified xsi:type="dcterms:W3CDTF">2016-02-22T03:32:35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