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E437-2DCD-4B9D-B1BD-2129F52C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7F96-33ED-4E2B-945C-9A7B43A5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0E04-8461-403B-8ECD-72DFA8AA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87BF-2FB7-4C2F-A205-BEC5C70C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D272-14A6-4885-9F97-FD5DACED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C17D-94B9-4113-94E6-EF5AA3CF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05D4-139E-451C-AF32-C4E63688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135C-E2F8-4839-BF95-3F799AB6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8BD7-A8FB-4260-A3B2-CDCF9C51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464F-1090-49C3-99EB-30ED6CF7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6BA4-BC2A-49FD-9B3B-40E46708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F4AC-4971-4C0B-AEDF-32AD437C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A4B6-B774-46B1-87BB-CA75084B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5B8D-8BCB-4FC3-AD5C-97330ACD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2B28-8DBA-47A6-8965-E4B43722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C89A-AC45-4F00-8F28-41A82A55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32A1-EBA1-4DC0-B470-482548B7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8099-86C5-4E73-B2C0-BBFD4D4C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A16-832F-4390-8C0A-CFF848BF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B3F9-231C-48D9-8124-8D9B6B12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16F8-4FB0-4E5F-9C4E-62D7DB22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180F-EBD8-4529-994C-F666CBA4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312-4EDC-43AC-9F25-C8A8B34D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5F3-1950-48B0-AF85-C64412EE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EBDA-2133-49C9-90C1-5324FD523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E64B-C23B-4E9D-AFE0-DF5464F3E042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6000" y="1066680"/>
            <a:ext cx="74944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1e30"/>
                </a:solidFill>
                <a:latin typeface="方正粗倩简体"/>
                <a:ea typeface="方正粗倩简体"/>
              </a:rPr>
              <a:t>古典中国风通用</a:t>
            </a:r>
            <a:r>
              <a:rPr b="0" lang="en-US" sz="4000" spc="-1" strike="noStrike">
                <a:solidFill>
                  <a:srgbClr val="001e3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4000" spc="-1" strike="noStrike">
                <a:solidFill>
                  <a:srgbClr val="001e30"/>
                </a:solidFill>
                <a:latin typeface="方正粗倩简体"/>
                <a:ea typeface="方正粗倩简体"/>
              </a:rPr>
              <a:t>模板下载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cc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管理 技术</cp:keywords>
  <dc:language>en-US</dc:language>
  <cp:lastModifiedBy>王玉清</cp:lastModifiedBy>
  <dcterms:modified xsi:type="dcterms:W3CDTF">2016-02-22T03:03:51Z</dcterms:modified>
  <cp:revision>4</cp:revision>
  <dc:subject/>
  <dc:title>企业教练管理技术站长素材 SC.CHINAZ.COM</dc:title>
</cp:coreProperties>
</file>