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7C4-B3C3-42CE-A796-E9B055BA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F20-B81C-47E1-B9FD-1CF8141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E39-6FED-4935-9735-B94C9B32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664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800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664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800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DE4-B47A-4955-94F3-938A4278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651-34A2-4961-B1EF-7DE6F01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5CF-72DF-4C3B-A8A3-57C2781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B20-15B3-46BB-B8BA-7069F115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933-D9C3-46B7-93D8-9C0316AB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205-311A-47EE-A6C1-FF571130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E16-2F5D-420E-9FA9-3541155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6C8-8EDB-4ED2-B6AC-EFB55AF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26E-0C8B-436D-9AF0-DE912ABA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4e5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F488-85A9-4A82-A318-250D90CFCCE4}" type="slidenum">
              <a:rPr b="0" lang="zh-CN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公司会议商务管理</a:t>
            </a:r>
            <a:r>
              <a:rPr b="0" lang="en-US" sz="4000" spc="-1" strike="noStrike">
                <a:solidFill>
                  <a:srgbClr val="374e5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4e5f"/>
                </a:solidFill>
                <a:latin typeface="宋体"/>
              </a:rPr>
              <a:t>演说者</a:t>
            </a: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383ad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研究与开发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销售与营销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常规和管理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改进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需要关注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注意的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结果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策略性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其他关键努力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结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总结关键成功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挑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重申关键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感谢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议程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审阅关键目标和关键成功因素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我们如何做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根据前几个目标进行审查和比较进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关键目标</a:t>
            </a:r>
            <a:br>
              <a:rPr sz="3600"/>
            </a:b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与重要成功因素的审阅 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让公司做到独一无二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使公司取得成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共享远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审阅去年的关键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我们做得如何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针对每个目标简要概述工作成果 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每个组织的简介和主要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任何更改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组织结构图在此处可能很有效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解决任何突出问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前几个目标的审查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竞争情况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进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目标进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关键财务结果概述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收入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利润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预测与实际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总利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重要趋势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比较公司与剩余市场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使用多张幻灯片来展示有意义的详细信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60818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8383ad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37:37Z</dcterms:created>
  <dc:creator>ppt宝藏</dc:creator>
  <dc:description/>
  <dc:language>en-US</dc:language>
  <cp:lastModifiedBy>a</cp:lastModifiedBy>
  <dcterms:modified xsi:type="dcterms:W3CDTF">2015-07-25T06:42:2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42052</vt:lpwstr>
  </property>
</Properties>
</file>