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CA07-CEFA-4F23-ADFA-007C5DF37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C9E1-F693-4F7F-90D6-CC677FE75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CC37-C50A-4760-9AD3-AAEF0EE74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96DC-6B72-4C3C-A12E-5A18D3950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84D9-E3BF-49F6-BD7C-FE5E5EC42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382F-64AB-49E8-8F8E-C31EBDBB3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3042-EC00-47A6-AD95-25B79C5B8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C294-2245-450E-B40E-CC633F439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EC59-9A88-407F-9EF1-7B981DE1C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2712-1AF2-4B81-9B11-005F2602C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87FF-EB33-4CB3-991F-9AAB0B3FE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D947-961B-4841-BAB2-7E77495FA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C05A9A7-ED42-4611-B0CD-BDB35D5A5F5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7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2867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5280" y="51350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10" descr=""/>
          <p:cNvPicPr/>
          <p:nvPr/>
        </p:nvPicPr>
        <p:blipFill>
          <a:blip r:embed="rId1"/>
          <a:stretch/>
        </p:blipFill>
        <p:spPr>
          <a:xfrm>
            <a:off x="480960" y="4121280"/>
            <a:ext cx="4822920" cy="511200"/>
          </a:xfrm>
          <a:prstGeom prst="rect">
            <a:avLst/>
          </a:prstGeom>
          <a:ln w="0">
            <a:noFill/>
          </a:ln>
        </p:spPr>
      </p:pic>
      <p:sp>
        <p:nvSpPr>
          <p:cNvPr id="83" name="WordArt 11"/>
          <p:cNvSpPr txBox="1"/>
          <p:nvPr/>
        </p:nvSpPr>
        <p:spPr>
          <a:xfrm>
            <a:off x="-4344840" y="4456080"/>
            <a:ext cx="48132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10196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1019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6A799FD-0AF7-43C3-8326-4FBDE7D17B6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bg3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5357880" y="4640400"/>
            <a:ext cx="2903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添加您的公司信息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651640" y="3718080"/>
            <a:ext cx="246528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谢谢观赏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3122280" y="4118760"/>
            <a:ext cx="246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18039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18039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www.pptbz.com</dc:creator>
  <dc:description/>
  <cp:keywords/>
  <dc:language>en-US</dc:language>
  <cp:lastModifiedBy>王玉清</cp:lastModifiedBy>
  <dcterms:modified xsi:type="dcterms:W3CDTF">2016-03-06T03:40:01Z</dcterms:modified>
  <cp:revision>221</cp:revision>
  <dc:subject/>
  <dc:title>幻灯片 1</dc:title>
</cp:coreProperties>
</file>