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AFC-0BDF-4C70-8BF4-2A95D937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FF0-1054-445B-94C5-3C56E173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6581-EF5F-40D6-A716-F0643BA4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216-A6C8-427B-9F0E-DE6D5FE7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2EC-60FA-4567-A07F-ACF421B3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D97-81EA-446A-9D0E-E5CA6324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4E7-CCFA-44CE-84B5-56FB1A3A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596-EE8B-41F3-991E-9EC412F9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066-FDDA-44AC-AF79-D6E695D6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B7C-409A-43C6-A933-F77AE788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C98-A8B5-4A6A-8DBC-11189986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2A3-13B1-40C0-B017-CB38E93A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9981-CB87-4B32-9232-4A7C6A09329F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5116680"/>
            <a:ext cx="442764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333333"/>
                </a:solidFill>
                <a:latin typeface="Arial"/>
                <a:ea typeface="宋体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4788000" y="5516640"/>
            <a:ext cx="396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Subtitle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937080" y="62064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红白间隔条爆米花主题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王玉清</cp:lastModifiedBy>
  <dcterms:modified xsi:type="dcterms:W3CDTF">2016-02-24T03:37:28Z</dcterms:modified>
  <cp:revision>718</cp:revision>
  <dc:subject/>
  <dc:title>Diapositiva 1</dc:title>
</cp:coreProperties>
</file>