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" ContentType="application/vnd.ms-exce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747E95-1E52-4711-963C-04F3D647F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D2F670-E49A-404F-9DE8-7EE3ED9334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4E5D40-2D0B-4B5F-A079-14CCC5513C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04F895-1D8E-4CFE-A8EC-6D874DCDA0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5EE9-CD0A-4054-B15E-FA89A7DC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7BA9-D666-4453-BAE9-CC435810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D4E3-CEDD-4817-9E6C-0BDAE2F1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DF9F-884F-4D56-9937-4E6A5E1B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5181-12CB-433E-8E87-A2A87017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E955-E6F3-4C48-933B-8E14E1E9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87BE-AB7F-4F6E-8D5E-CB34332A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F20F-E38F-4EA3-B21A-A7C8FDBF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7022-86E2-40F9-8C30-C9551D7E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180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AED5-E420-478C-A9F4-4BFA330D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90DD-3E82-4D96-BDD7-D891EBAA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A1EF-0C5D-4220-93C6-ED8D7EDD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6046-8D35-4836-A9B8-D0E4D258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5675-755A-43B1-B825-89350658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A7DD-A694-4BAD-9799-8B384248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FA1F-C786-48A6-B07D-9B5BB869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9404-3BA8-4F63-9E48-B5BF5597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0F01B-080C-458F-B2C1-538F8BC3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21437-1E1A-4F46-92BE-2266D2F7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21DFF-D596-468A-947D-B51254F0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62FAB-6471-4651-A9E9-97A30F4F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1E0C2-3FFD-4D50-9AF5-7D1C1C04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2859-B6AA-413E-AEC9-C46E9990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180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6991E-881D-433D-ABD8-0768F086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4F481-7B02-48BF-B719-CFF70F92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A3BB6-2A99-42DE-B8C5-66158FE7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D70C2-7A5B-4F49-9357-A564F646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6E0CE-6308-41D2-834A-B91C28AA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E7A72-20C4-4C59-B7A7-2DA48626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1D976-D5BC-42D0-BF52-17B87E54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0EDD-73FD-4459-9C57-3D0F58FD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4346-5AB6-4A81-9EC9-49B1B86C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180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393F-D7D6-4A1A-8034-EFDFA168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A5A5-A713-40F1-B716-1A2B1FED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C2C4-3D66-42E6-935C-E9B5353C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726F-4549-4D4E-A864-45C9FD48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5640" cy="1439640"/>
          </a:xfrm>
          <a:prstGeom prst="rect">
            <a:avLst/>
          </a:prstGeom>
          <a:gradFill rotWithShape="0">
            <a:gsLst>
              <a:gs pos="0">
                <a:srgbClr val="8bb76e">
                  <a:alpha val="80000"/>
                </a:srgbClr>
              </a:gs>
              <a:gs pos="100000">
                <a:srgbClr val="8bb76e">
                  <a:alpha val="85098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" name="Picture 10" descr=""/>
          <p:cNvPicPr/>
          <p:nvPr/>
        </p:nvPicPr>
        <p:blipFill>
          <a:blip r:embed="rId2"/>
          <a:stretch/>
        </p:blipFill>
        <p:spPr>
          <a:xfrm>
            <a:off x="7221600" y="0"/>
            <a:ext cx="1922040" cy="1439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4"/>
          <p:cNvSpPr/>
          <p:nvPr/>
        </p:nvSpPr>
        <p:spPr>
          <a:xfrm>
            <a:off x="333360" y="0"/>
            <a:ext cx="8569080" cy="1368000"/>
          </a:xfrm>
          <a:prstGeom prst="rect">
            <a:avLst/>
          </a:prstGeom>
          <a:gradFill rotWithShape="0">
            <a:gsLst>
              <a:gs pos="0">
                <a:srgbClr val="8bb76e">
                  <a:alpha val="80000"/>
                </a:srgbClr>
              </a:gs>
              <a:gs pos="100000">
                <a:srgbClr val="8bb76e">
                  <a:alpha val="60000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95520" y="55800"/>
            <a:ext cx="7772040" cy="722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68AB8C-2EBB-4690-8C99-4BAC9A42652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0"/>
            <a:ext cx="7235640" cy="1439640"/>
          </a:xfrm>
          <a:prstGeom prst="rect">
            <a:avLst/>
          </a:prstGeom>
          <a:gradFill rotWithShape="0">
            <a:gsLst>
              <a:gs pos="0">
                <a:srgbClr val="8bb76e">
                  <a:alpha val="80000"/>
                </a:srgbClr>
              </a:gs>
              <a:gs pos="100000">
                <a:srgbClr val="8bb76e">
                  <a:alpha val="85098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6" name="Picture 10" descr=""/>
          <p:cNvPicPr/>
          <p:nvPr/>
        </p:nvPicPr>
        <p:blipFill>
          <a:blip r:embed="rId2"/>
          <a:stretch/>
        </p:blipFill>
        <p:spPr>
          <a:xfrm>
            <a:off x="7221600" y="0"/>
            <a:ext cx="1922040" cy="1439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08B359-D4D2-4982-94AD-7C76A5078E0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0"/>
            <a:ext cx="7235640" cy="1439640"/>
          </a:xfrm>
          <a:prstGeom prst="rect">
            <a:avLst/>
          </a:prstGeom>
          <a:gradFill rotWithShape="0">
            <a:gsLst>
              <a:gs pos="0">
                <a:srgbClr val="8bb76e">
                  <a:alpha val="80000"/>
                </a:srgbClr>
              </a:gs>
              <a:gs pos="100000">
                <a:srgbClr val="8bb76e">
                  <a:alpha val="85098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9" name="Picture 10" descr=""/>
          <p:cNvPicPr/>
          <p:nvPr/>
        </p:nvPicPr>
        <p:blipFill>
          <a:blip r:embed="rId2"/>
          <a:stretch/>
        </p:blipFill>
        <p:spPr>
          <a:xfrm>
            <a:off x="7221600" y="0"/>
            <a:ext cx="1922040" cy="1439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67C035-EF4C-4333-BE62-6B02803A660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8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95160" y="55440"/>
            <a:ext cx="777204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蝗虫特写通用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41360" y="777960"/>
            <a:ext cx="6400440" cy="479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Your name and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 Bullet Poin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440" y="1663560"/>
            <a:ext cx="8229240" cy="4368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ple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Content Placeholder 3"/>
          <p:cNvGraphicFramePr/>
          <p:nvPr/>
        </p:nvGraphicFramePr>
        <p:xfrm>
          <a:off x="901800" y="1790640"/>
          <a:ext cx="7340400" cy="3944520"/>
        </p:xfrm>
        <a:graphic>
          <a:graphicData uri="http://schemas.openxmlformats.org/presentationml/2006/ole">
            <p:oleObj progId="Excel.Chart.8" r:id="rId1" spid="">
              <p:embed/>
              <p:pic>
                <p:nvPicPr>
                  <p:cNvPr id="145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1790640"/>
                    <a:ext cx="7340400" cy="39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lour sche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571920" y="2863800"/>
            <a:ext cx="826560" cy="610920"/>
          </a:xfrm>
          <a:prstGeom prst="rect">
            <a:avLst/>
          </a:prstGeom>
          <a:solidFill>
            <a:schemeClr val="tx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648320" y="2863800"/>
            <a:ext cx="826560" cy="610920"/>
          </a:xfrm>
          <a:prstGeom prst="rect">
            <a:avLst/>
          </a:prstGeom>
          <a:solidFill>
            <a:schemeClr val="bg2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519280" y="4478400"/>
            <a:ext cx="826560" cy="610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587760" y="4478400"/>
            <a:ext cx="826560" cy="610920"/>
          </a:xfrm>
          <a:prstGeom prst="rect">
            <a:avLst/>
          </a:prstGeom>
          <a:solidFill>
            <a:schemeClr val="accent2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656240" y="4478400"/>
            <a:ext cx="826560" cy="6109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5726160" y="4478400"/>
            <a:ext cx="826560" cy="61092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5708520" y="2863800"/>
            <a:ext cx="826560" cy="610920"/>
          </a:xfrm>
          <a:prstGeom prst="rect">
            <a:avLst/>
          </a:prstGeom>
          <a:solidFill>
            <a:schemeClr val="tx2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2503440" y="2863800"/>
            <a:ext cx="826560" cy="61092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2285280" y="2224080"/>
            <a:ext cx="12646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3614400" y="2101680"/>
            <a:ext cx="746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4553280" y="2224080"/>
            <a:ext cx="1016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ad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5843160" y="2101680"/>
            <a:ext cx="55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2662200" y="3838680"/>
            <a:ext cx="5425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3609000" y="3838680"/>
            <a:ext cx="802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4543560" y="3716280"/>
            <a:ext cx="102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n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5624640" y="3714840"/>
            <a:ext cx="102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llo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419040" y="609300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b6def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ictur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69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le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IMG_9271"/>
          <p:cNvPicPr/>
          <p:nvPr/>
        </p:nvPicPr>
        <p:blipFill>
          <a:blip r:embed="rId1"/>
          <a:stretch/>
        </p:blipFill>
        <p:spPr>
          <a:xfrm>
            <a:off x="5256360" y="2205000"/>
            <a:ext cx="3096720" cy="3852360"/>
          </a:xfrm>
          <a:prstGeom prst="rect">
            <a:avLst/>
          </a:prstGeom>
          <a:ln w="57150">
            <a:solidFill>
              <a:srgbClr val="8bb76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Custom 199">
      <a:dk1>
        <a:srgbClr val="000000"/>
      </a:dk1>
      <a:lt1>
        <a:srgbClr val="ffffff"/>
      </a:lt1>
      <a:dk2>
        <a:srgbClr val="000000"/>
      </a:dk2>
      <a:lt2>
        <a:srgbClr val="ffffff"/>
      </a:lt2>
      <a:accent1>
        <a:srgbClr val="8bb76e"/>
      </a:accent1>
      <a:accent2>
        <a:srgbClr val="6ba7f8"/>
      </a:accent2>
      <a:accent3>
        <a:srgbClr val="c3dbfc"/>
      </a:accent3>
      <a:accent4>
        <a:srgbClr val="0a2793"/>
      </a:accent4>
      <a:accent5>
        <a:srgbClr val="c0e8fd"/>
      </a:accent5>
      <a:accent6>
        <a:srgbClr val="6097e1"/>
      </a:accent6>
      <a:hlink>
        <a:srgbClr val="0b6def"/>
      </a:hlink>
      <a:folHlink>
        <a:srgbClr val="237df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Custom 199">
      <a:dk1>
        <a:srgbClr val="000000"/>
      </a:dk1>
      <a:lt1>
        <a:srgbClr val="ffffff"/>
      </a:lt1>
      <a:dk2>
        <a:srgbClr val="000000"/>
      </a:dk2>
      <a:lt2>
        <a:srgbClr val="ffffff"/>
      </a:lt2>
      <a:accent1>
        <a:srgbClr val="8bb76e"/>
      </a:accent1>
      <a:accent2>
        <a:srgbClr val="6ba7f8"/>
      </a:accent2>
      <a:accent3>
        <a:srgbClr val="c3dbfc"/>
      </a:accent3>
      <a:accent4>
        <a:srgbClr val="0a2793"/>
      </a:accent4>
      <a:accent5>
        <a:srgbClr val="c0e8fd"/>
      </a:accent5>
      <a:accent6>
        <a:srgbClr val="6097e1"/>
      </a:accent6>
      <a:hlink>
        <a:srgbClr val="0b6def"/>
      </a:hlink>
      <a:folHlink>
        <a:srgbClr val="237df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Custom 199">
      <a:dk1>
        <a:srgbClr val="000000"/>
      </a:dk1>
      <a:lt1>
        <a:srgbClr val="ffffff"/>
      </a:lt1>
      <a:dk2>
        <a:srgbClr val="000000"/>
      </a:dk2>
      <a:lt2>
        <a:srgbClr val="ffffff"/>
      </a:lt2>
      <a:accent1>
        <a:srgbClr val="8bb76e"/>
      </a:accent1>
      <a:accent2>
        <a:srgbClr val="6ba7f8"/>
      </a:accent2>
      <a:accent3>
        <a:srgbClr val="c3dbfc"/>
      </a:accent3>
      <a:accent4>
        <a:srgbClr val="0a2793"/>
      </a:accent4>
      <a:accent5>
        <a:srgbClr val="c0e8fd"/>
      </a:accent5>
      <a:accent6>
        <a:srgbClr val="6097e1"/>
      </a:accent6>
      <a:hlink>
        <a:srgbClr val="0b6def"/>
      </a:hlink>
      <a:folHlink>
        <a:srgbClr val="237df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ffffff"/>
      </a:lt2>
      <a:accent1>
        <a:srgbClr val="8bb76e"/>
      </a:accent1>
      <a:accent2>
        <a:srgbClr val="6ba7f8"/>
      </a:accent2>
      <a:accent3>
        <a:srgbClr val="c3dbfc"/>
      </a:accent3>
      <a:accent4>
        <a:srgbClr val="0a2793"/>
      </a:accent4>
      <a:accent5>
        <a:srgbClr val="c0e8fd"/>
      </a:accent5>
      <a:accent6>
        <a:srgbClr val="6097e1"/>
      </a:accent6>
      <a:hlink>
        <a:srgbClr val="0b6def"/>
      </a:hlink>
      <a:folHlink>
        <a:srgbClr val="237df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  <Words>70</Words>
  <Paragraphs>2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王玉清</cp:lastModifiedBy>
  <dcterms:modified xsi:type="dcterms:W3CDTF">2016-03-02T10:30:54Z</dcterms:modified>
  <cp:revision>15</cp:revision>
  <dc:subject/>
  <dc:title>grasshopper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全屏显示(4:3)</vt:lpwstr>
  </property>
  <property fmtid="{D5CDD505-2E9C-101B-9397-08002B2CF9AE}" pid="4" name="Slides">
    <vt:r8>5</vt:r8>
  </property>
</Properties>
</file>