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45D-9342-432C-95E2-75690546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629-817C-416C-9168-4891B9F4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B48-D5D9-4E1A-8D94-FE7EAB11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0A3-92C6-43E6-9853-7DF304E5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830-88C1-4B5C-A2CE-39BF8D85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4D5-777E-4B11-AFAA-D54CA777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51D-865D-448C-AA43-6D8F381A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817-2EB5-4F1E-A6DD-0C92AC34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D00-D100-45E6-AC28-AB1814BF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354-9B86-4CCD-BF97-6F4CBD5A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5AC-088C-4150-A8EE-259CCC77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E3E-0FE5-4326-AA92-F9D9BB22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CF35-ED24-403A-9417-65E3637D413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AFBD-86F1-484C-A2DD-A4A16776E6E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9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6104160" cy="417996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20"/>
          <p:cNvSpPr/>
          <p:nvPr/>
        </p:nvSpPr>
        <p:spPr>
          <a:xfrm>
            <a:off x="2681280" y="1517760"/>
            <a:ext cx="1440" cy="815760"/>
          </a:xfrm>
          <a:prstGeom prst="line">
            <a:avLst/>
          </a:prstGeom>
          <a:ln w="19080">
            <a:solidFill>
              <a:srgbClr val="007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21"/>
          <p:cNvSpPr/>
          <p:nvPr/>
        </p:nvSpPr>
        <p:spPr>
          <a:xfrm>
            <a:off x="2681280" y="3084480"/>
            <a:ext cx="1440" cy="817560"/>
          </a:xfrm>
          <a:prstGeom prst="line">
            <a:avLst/>
          </a:prstGeom>
          <a:ln w="19080">
            <a:solidFill>
              <a:srgbClr val="974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22"/>
          <p:cNvSpPr/>
          <p:nvPr/>
        </p:nvSpPr>
        <p:spPr>
          <a:xfrm>
            <a:off x="2681280" y="4667400"/>
            <a:ext cx="1440" cy="817560"/>
          </a:xfrm>
          <a:prstGeom prst="line">
            <a:avLst/>
          </a:prstGeom>
          <a:ln w="19080">
            <a:solidFill>
              <a:srgbClr val="3a8a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3"/>
          <p:cNvSpPr/>
          <p:nvPr/>
        </p:nvSpPr>
        <p:spPr>
          <a:xfrm>
            <a:off x="1971720" y="1397160"/>
            <a:ext cx="736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4"/>
          <p:cNvSpPr/>
          <p:nvPr/>
        </p:nvSpPr>
        <p:spPr>
          <a:xfrm>
            <a:off x="1971720" y="3009960"/>
            <a:ext cx="736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5"/>
          <p:cNvSpPr/>
          <p:nvPr/>
        </p:nvSpPr>
        <p:spPr>
          <a:xfrm>
            <a:off x="1971720" y="4537080"/>
            <a:ext cx="736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6"/>
          <p:cNvSpPr/>
          <p:nvPr/>
        </p:nvSpPr>
        <p:spPr>
          <a:xfrm>
            <a:off x="2903400" y="151776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7"/>
          <p:cNvSpPr/>
          <p:nvPr/>
        </p:nvSpPr>
        <p:spPr>
          <a:xfrm>
            <a:off x="2903400" y="310032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8"/>
          <p:cNvSpPr/>
          <p:nvPr/>
        </p:nvSpPr>
        <p:spPr>
          <a:xfrm>
            <a:off x="2903400" y="468324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3"/>
          <p:cNvSpPr/>
          <p:nvPr/>
        </p:nvSpPr>
        <p:spPr>
          <a:xfrm>
            <a:off x="7451640" y="658800"/>
            <a:ext cx="1081080" cy="33418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0"/>
          <p:cNvSpPr/>
          <p:nvPr/>
        </p:nvSpPr>
        <p:spPr>
          <a:xfrm>
            <a:off x="7064640" y="774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写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1"/>
          <p:cNvSpPr/>
          <p:nvPr/>
        </p:nvSpPr>
        <p:spPr>
          <a:xfrm>
            <a:off x="2903400" y="192708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903400" y="343692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2903400" y="4992840"/>
            <a:ext cx="29638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44840" y="117360"/>
            <a:ext cx="52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6B6-454C-4A48-8E10-286511401C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11:00Z</dcterms:modified>
  <cp:revision>10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