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1755-BBBB-4503-B89D-97526BF3E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E94D-CDBD-4F00-B2F0-C7458C6B6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9D1D-796C-4ED0-89A4-CEB30B7B0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1EA6-B711-4F2B-B9CC-5618FA29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B2C2-A7AF-4CA7-92FF-EB3B45C05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870440" y="162864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好叫月朗风清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589360" y="213372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专为词人作雨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471680" y="6576840"/>
            <a:ext cx="2367000" cy="307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99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3399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3399ff"/>
                </a:solidFill>
                <a:latin typeface="Arial"/>
              </a:rPr>
              <a:t>模板网 </a:t>
            </a:r>
            <a:r>
              <a:rPr b="0" lang="en-US" sz="1400" spc="-1" strike="noStrike">
                <a:solidFill>
                  <a:srgbClr val="3399ff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2045880" y="4348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荷花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845760" y="6453360"/>
            <a:ext cx="179784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ff8f"/>
                </a:solidFill>
                <a:latin typeface="华文隶书"/>
                <a:ea typeface="华文隶书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405880" y="54936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065120" y="234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4065120" y="302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4065120" y="3692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4065120" y="4365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是目录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5" descr="粉红荷花"/>
          <p:cNvPicPr/>
          <p:nvPr/>
        </p:nvPicPr>
        <p:blipFill>
          <a:blip r:embed="rId1"/>
          <a:stretch/>
        </p:blipFill>
        <p:spPr>
          <a:xfrm>
            <a:off x="2700360" y="2301840"/>
            <a:ext cx="711000" cy="687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粉红荷花"/>
          <p:cNvPicPr/>
          <p:nvPr/>
        </p:nvPicPr>
        <p:blipFill>
          <a:blip r:embed="rId2"/>
          <a:stretch/>
        </p:blipFill>
        <p:spPr>
          <a:xfrm>
            <a:off x="2700360" y="2965320"/>
            <a:ext cx="711000" cy="687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粉红荷花"/>
          <p:cNvPicPr/>
          <p:nvPr/>
        </p:nvPicPr>
        <p:blipFill>
          <a:blip r:embed="rId3"/>
          <a:stretch/>
        </p:blipFill>
        <p:spPr>
          <a:xfrm>
            <a:off x="2700360" y="3629160"/>
            <a:ext cx="711000" cy="687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粉红荷花"/>
          <p:cNvPicPr/>
          <p:nvPr/>
        </p:nvPicPr>
        <p:blipFill>
          <a:blip r:embed="rId4"/>
          <a:stretch/>
        </p:blipFill>
        <p:spPr>
          <a:xfrm>
            <a:off x="2700360" y="4292640"/>
            <a:ext cx="7110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087920" y="22777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可以创作演绎作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024280" y="263808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必须按照作者或者许可人指定的方式对作品进行署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337040" y="29984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您不得将本作品用于商业目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469240" y="54936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845760" y="6453360"/>
            <a:ext cx="179784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2383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ff8f"/>
                </a:solidFill>
                <a:latin typeface="华文隶书"/>
                <a:ea typeface="华文隶书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619280" y="6442200"/>
            <a:ext cx="183960" cy="304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135040" y="2349360"/>
            <a:ext cx="1593360" cy="916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谢 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4:43:35Z</dcterms:created>
  <dc:creator>jzxpc</dc:creator>
  <dc:description/>
  <dc:language>en-US</dc:language>
  <cp:lastModifiedBy>王玉清</cp:lastModifiedBy>
  <dcterms:modified xsi:type="dcterms:W3CDTF">2016-02-22T03:41:06Z</dcterms:modified>
  <cp:revision>7</cp:revision>
  <dc:subject/>
  <dc:title>幻灯片 1</dc:title>
</cp:coreProperties>
</file>