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gif" ContentType="image/gif"/>
  <Override PartName="/ppt/media/image4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D3A76-8D18-44FC-B973-D568DE9DAFE5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FDC1C-56AD-4723-BD68-F438F180B82B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41478-11F6-418C-995A-48917604EE7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B45E54-B8E9-4FB5-95D1-0A413908EF6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  <a:ea typeface="宋体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EDCFD-2013-42E6-A231-D66335FB1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087640" y="413064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7D50-E437-4190-A9C6-BE773C896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7496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7468-DB67-4A66-95D8-6D09403B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8840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68952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08764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8840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68952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6601-E160-471D-8153-9A31180B5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DCD61B-5FBA-4E51-A594-CC56876C5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75E40-D9FA-40E4-81E1-757D5EA29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0764F8-CBD1-4D6D-8CB9-2C74551FC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0EA69-13F3-442A-A3DE-1586F111BB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06EE3-2AD4-4BB8-90F4-BE53F809C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087640" y="609120"/>
            <a:ext cx="680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D1312-F657-4A95-9EE4-91B3B460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238960-7E81-400A-8992-DFAE20420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57EC-F625-4FE0-96CD-AF41C8BC1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57496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AF2938-A0C8-43F4-B4D0-E67B5216D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E77BD-6CAD-4D45-8E7C-0A24635D4D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087640" y="413064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1B725-7C8C-44C4-8411-09BED139B0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557496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B2814-DBB2-4D5C-8737-01C27B5135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8840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689520" y="198108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08764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8840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689520" y="4130640"/>
            <a:ext cx="21909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2421A-DCAA-4EFF-8510-058C5FDEF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48351-B945-4A9D-A7A0-C7C790113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E2DE-5618-4D16-A455-2885991AC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BC5-7299-4D72-9BDF-4BAA9B0F0D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087640" y="609120"/>
            <a:ext cx="68054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C2ADD-9FBC-42CF-9BA9-0DA9E95425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C3545-30A8-4B40-9E66-9412464002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74960" y="413064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8562F-5683-4B20-A4B0-68C0D6ECA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74960" y="1981080"/>
            <a:ext cx="33210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087640" y="4130640"/>
            <a:ext cx="6805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BD2C1-9F7B-4656-94B8-AE90C665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116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54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983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CD731-354A-4CC6-BB6E-BC7E8BFD0662}" type="slidenum">
              <a:rPr b="0" lang="en-US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8" descr=""/>
          <p:cNvPicPr/>
          <p:nvPr/>
        </p:nvPicPr>
        <p:blipFill>
          <a:blip r:embed="rId2"/>
          <a:stretch/>
        </p:blipFill>
        <p:spPr>
          <a:xfrm>
            <a:off x="533520" y="3271680"/>
            <a:ext cx="1371600" cy="3586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45522D-5655-42B6-B1C6-0083B01822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hyperlink" Target="http://www.eeppt.com/moban/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ubTitle"/>
          </p:nvPr>
        </p:nvSpPr>
        <p:spPr>
          <a:xfrm>
            <a:off x="350532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ANIMATED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20" descr=""/>
          <p:cNvPicPr/>
          <p:nvPr/>
        </p:nvPicPr>
        <p:blipFill>
          <a:blip r:embed="rId1"/>
          <a:srcRect l="0" t="0" r="0" b="8650"/>
          <a:stretch/>
        </p:blipFill>
        <p:spPr>
          <a:xfrm>
            <a:off x="304920" y="304920"/>
            <a:ext cx="2743200" cy="655308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21" descr=""/>
          <p:cNvPicPr/>
          <p:nvPr/>
        </p:nvPicPr>
        <p:blipFill>
          <a:blip r:embed="rId2"/>
          <a:stretch/>
        </p:blipFill>
        <p:spPr>
          <a:xfrm>
            <a:off x="1447920" y="685800"/>
            <a:ext cx="1081080" cy="3809880"/>
          </a:xfrm>
          <a:prstGeom prst="rect">
            <a:avLst/>
          </a:prstGeom>
          <a:ln w="0">
            <a:noFill/>
          </a:ln>
        </p:spPr>
      </p:pic>
      <p:sp>
        <p:nvSpPr>
          <p:cNvPr id="93" name="矩形 1"/>
          <p:cNvSpPr/>
          <p:nvPr/>
        </p:nvSpPr>
        <p:spPr>
          <a:xfrm>
            <a:off x="2475720" y="4876920"/>
            <a:ext cx="503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红绿灯通用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PPT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宋体"/>
              </a:rPr>
              <a:t>模板完整版下载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3" descr="trafficlights_1"/>
          <p:cNvPicPr/>
          <p:nvPr/>
        </p:nvPicPr>
        <p:blipFill>
          <a:blip r:embed="rId1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4" descr="trafficlights_2"/>
          <p:cNvPicPr/>
          <p:nvPr/>
        </p:nvPicPr>
        <p:blipFill>
          <a:blip r:embed="rId2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5" descr="trafficlights_3"/>
          <p:cNvPicPr/>
          <p:nvPr/>
        </p:nvPicPr>
        <p:blipFill>
          <a:blip r:embed="rId3"/>
          <a:stretch/>
        </p:blipFill>
        <p:spPr>
          <a:xfrm>
            <a:off x="228600" y="1312920"/>
            <a:ext cx="2120760" cy="5545080"/>
          </a:xfrm>
          <a:prstGeom prst="rect">
            <a:avLst/>
          </a:prstGeom>
          <a:ln w="0">
            <a:noFill/>
          </a:ln>
        </p:spPr>
      </p:pic>
      <p:sp>
        <p:nvSpPr>
          <p:cNvPr id="99" name="Text Box 7"/>
          <p:cNvSpPr/>
          <p:nvPr/>
        </p:nvSpPr>
        <p:spPr>
          <a:xfrm>
            <a:off x="3048120" y="1523880"/>
            <a:ext cx="5257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 Black"/>
                <a:ea typeface="宋体"/>
              </a:rPr>
              <a:t>ON CLICK ANIM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Text Box 3"/>
          <p:cNvSpPr/>
          <p:nvPr/>
        </p:nvSpPr>
        <p:spPr>
          <a:xfrm>
            <a:off x="220680" y="64533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4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087640" y="609120"/>
            <a:ext cx="68054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  <a:ea typeface="宋体"/>
              </a:rPr>
              <a:t>Bullet poin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087640" y="1981080"/>
            <a:ext cx="68054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  <a:ea typeface="宋体"/>
              </a:rPr>
              <a:t>Bullet Poi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  <a:ea typeface="宋体"/>
              </a:rPr>
              <a:t>Sub bull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6T08:08:39Z</dcterms:created>
  <dc:creator>Presentation Magazine</dc:creator>
  <dc:description/>
  <dc:language>en-US</dc:language>
  <cp:lastModifiedBy>王玉清</cp:lastModifiedBy>
  <dcterms:modified xsi:type="dcterms:W3CDTF">2016-02-29T07:36:38Z</dcterms:modified>
  <cp:revision>13</cp:revision>
  <dc:subject/>
  <dc:title>PowerPoint Presentation</dc:title>
</cp:coreProperties>
</file>