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7642-5E57-4FC4-AC6F-DC2A16AA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BA69-0956-4A9B-AAE9-50019ED2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3245-A3A0-459D-BAF8-0BC4EB8B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A3DF-DC41-4B5C-BE89-A3A80BF7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9C6D-9D46-41EC-8F18-61DADE45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69A1-8FCA-4EEC-924B-F0098B44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19D1-A49B-4DB9-9B79-D41D9102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9F75-E08C-431E-A82C-3A40887B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4BE4-C39B-4BDD-9590-3C2BCB0E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A1F2-BD9F-4394-8D4A-D8151DFE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A65D-4281-4638-8D93-F13454A9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0F49-E3EB-4E9C-AF64-2F738D96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232B-D85D-4E5D-85B5-87CD7471EE1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0320" y="206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汉仪细行楷简"/>
                <a:ea typeface="汉仪细行楷简"/>
              </a:rPr>
              <a:t>红色爱心通用</a:t>
            </a:r>
            <a:r>
              <a:rPr b="0" lang="en-US" sz="3600" spc="-1" strike="noStrike">
                <a:solidFill>
                  <a:srgbClr val="ffffff"/>
                </a:solidFill>
                <a:latin typeface="汉仪细行楷简"/>
                <a:ea typeface="汉仪细行楷简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汉仪细行楷简"/>
                <a:ea typeface="汉仪细行楷简"/>
              </a:rPr>
              <a:t>模板下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4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3T07:08:47Z</dcterms:created>
  <dc:creator>keke</dc:creator>
  <dc:description/>
  <dc:language>en-US</dc:language>
  <cp:lastModifiedBy>王玉清</cp:lastModifiedBy>
  <dcterms:modified xsi:type="dcterms:W3CDTF">2016-02-20T04:19:51Z</dcterms:modified>
  <cp:revision>3</cp:revision>
  <dc:subject/>
  <dc:title>站长站素材 SC.chinaz.COM</dc:title>
</cp:coreProperties>
</file>