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3E0-10C5-4907-9895-AB91349820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D40-3A62-4337-ABD4-B0FD87FFDCC5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517-2DCD-42ED-93A1-0EA4EFF14256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CC6-D557-4504-896F-8B5C866028AC}" type="slidenum">
              <a:rPr b="0" lang="en-GB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732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4960" y="14475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4732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4960" y="41940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2000" y="41940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4475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41940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68421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黄色商务</a:t>
            </a:r>
            <a:r>
              <a:rPr b="0" lang="en-US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9741"/>
                </a:solidFill>
                <a:latin typeface="华文细黑"/>
                <a:ea typeface="华文细黑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7162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235240" y="1414440"/>
            <a:ext cx="5280120" cy="463680"/>
            <a:chOff x="2235240" y="1414440"/>
            <a:chExt cx="5280120" cy="463680"/>
          </a:xfrm>
        </p:grpSpPr>
        <p:sp>
          <p:nvSpPr>
            <p:cNvPr id="87" name="AutoShape 3"/>
            <p:cNvSpPr/>
            <p:nvPr/>
          </p:nvSpPr>
          <p:spPr>
            <a:xfrm>
              <a:off x="2473560" y="1474560"/>
              <a:ext cx="5041800" cy="36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4300"/>
                </a:gs>
                <a:gs pos="50000">
                  <a:srgbClr val="c25800"/>
                </a:gs>
                <a:gs pos="100000">
                  <a:srgbClr val="934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2235240" y="141444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a2900"/>
                </a:gs>
                <a:gs pos="100000">
                  <a:srgbClr val="c258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" name="Group 5"/>
          <p:cNvGrpSpPr/>
          <p:nvPr/>
        </p:nvGrpSpPr>
        <p:grpSpPr>
          <a:xfrm>
            <a:off x="2235240" y="2351160"/>
            <a:ext cx="5250960" cy="463320"/>
            <a:chOff x="2235240" y="2351160"/>
            <a:chExt cx="5250960" cy="463320"/>
          </a:xfrm>
        </p:grpSpPr>
        <p:sp>
          <p:nvSpPr>
            <p:cNvPr id="90" name="AutoShape 6"/>
            <p:cNvSpPr/>
            <p:nvPr/>
          </p:nvSpPr>
          <p:spPr>
            <a:xfrm>
              <a:off x="2444400" y="240516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8e03"/>
                </a:gs>
                <a:gs pos="50000">
                  <a:srgbClr val="f2bc04"/>
                </a:gs>
                <a:gs pos="100000">
                  <a:srgbClr val="b78e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235240" y="2351160"/>
              <a:ext cx="456840" cy="463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05702"/>
                </a:gs>
                <a:gs pos="100000">
                  <a:srgbClr val="f2bc04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2235240" y="3359160"/>
            <a:ext cx="5280120" cy="463320"/>
            <a:chOff x="2235240" y="3359160"/>
            <a:chExt cx="5280120" cy="463320"/>
          </a:xfrm>
        </p:grpSpPr>
        <p:sp>
          <p:nvSpPr>
            <p:cNvPr id="93" name="AutoShape 9"/>
            <p:cNvSpPr/>
            <p:nvPr/>
          </p:nvSpPr>
          <p:spPr>
            <a:xfrm>
              <a:off x="2473560" y="341784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0000"/>
                </a:gs>
                <a:gs pos="50000">
                  <a:srgbClr val="fe0000"/>
                </a:gs>
                <a:gs pos="100000">
                  <a:srgbClr val="cb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2235240" y="335916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e00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2235240" y="4295880"/>
            <a:ext cx="5241960" cy="463320"/>
            <a:chOff x="2235240" y="4295880"/>
            <a:chExt cx="5241960" cy="463320"/>
          </a:xfrm>
        </p:grpSpPr>
        <p:sp>
          <p:nvSpPr>
            <p:cNvPr id="96" name="AutoShape 12"/>
            <p:cNvSpPr/>
            <p:nvPr/>
          </p:nvSpPr>
          <p:spPr>
            <a:xfrm>
              <a:off x="2435400" y="435132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5a5a"/>
                </a:gs>
                <a:gs pos="50000">
                  <a:srgbClr val="777777"/>
                </a:gs>
                <a:gs pos="100000">
                  <a:srgbClr val="5a5a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AutoShape 13"/>
            <p:cNvSpPr/>
            <p:nvPr/>
          </p:nvSpPr>
          <p:spPr>
            <a:xfrm>
              <a:off x="2235240" y="429588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AutoShape 14"/>
          <p:cNvSpPr/>
          <p:nvPr/>
        </p:nvSpPr>
        <p:spPr>
          <a:xfrm>
            <a:off x="2762280" y="14065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at Nig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2771640" y="2349360"/>
            <a:ext cx="32403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by a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2752560" y="3375000"/>
            <a:ext cx="3095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in Cour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2770200" y="428148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Moment at Din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744560" y="1357200"/>
            <a:ext cx="574920" cy="577800"/>
          </a:xfrm>
          <a:custGeom>
            <a:avLst/>
            <a:gdLst>
              <a:gd name="textAreaLeft" fmla="*/ 23760 w 574920"/>
              <a:gd name="textAreaRight" fmla="*/ 551160 w 574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708">
                <a:moveTo>
                  <a:pt x="3072" y="0"/>
                </a:moveTo>
                <a:arcTo wR="3072" hR="3072" stAng="16200000" swAng="-5400000"/>
                <a:lnTo>
                  <a:pt x="0" y="18636"/>
                </a:lnTo>
                <a:arcTo wR="3072" hR="3072" stAng="10800000" swAng="-5400000"/>
                <a:lnTo>
                  <a:pt x="18528" y="21708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Group 19"/>
          <p:cNvGrpSpPr/>
          <p:nvPr/>
        </p:nvGrpSpPr>
        <p:grpSpPr>
          <a:xfrm>
            <a:off x="1744560" y="1357200"/>
            <a:ext cx="574920" cy="577800"/>
            <a:chOff x="1744560" y="1357200"/>
            <a:chExt cx="574920" cy="577800"/>
          </a:xfrm>
        </p:grpSpPr>
        <p:sp>
          <p:nvSpPr>
            <p:cNvPr id="104" name="Oval 20"/>
            <p:cNvSpPr/>
            <p:nvPr/>
          </p:nvSpPr>
          <p:spPr>
            <a:xfrm>
              <a:off x="1744560" y="1357200"/>
              <a:ext cx="574920" cy="577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Oval 21"/>
            <p:cNvSpPr/>
            <p:nvPr/>
          </p:nvSpPr>
          <p:spPr>
            <a:xfrm>
              <a:off x="1752840" y="1357920"/>
              <a:ext cx="560520" cy="562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6" name="Oval 22"/>
          <p:cNvSpPr/>
          <p:nvPr/>
        </p:nvSpPr>
        <p:spPr>
          <a:xfrm flipH="1">
            <a:off x="1789920" y="1409760"/>
            <a:ext cx="482760" cy="4604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 flipH="1">
            <a:off x="1838160" y="1419120"/>
            <a:ext cx="378000" cy="304920"/>
          </a:xfrm>
          <a:prstGeom prst="ellipse">
            <a:avLst/>
          </a:prstGeom>
          <a:gradFill rotWithShape="0">
            <a:gsLst>
              <a:gs pos="0">
                <a:srgbClr val="f6e7da"/>
              </a:gs>
              <a:gs pos="100000">
                <a:srgbClr val="c25800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1744560" y="1359000"/>
            <a:ext cx="57636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1744560" y="2293920"/>
            <a:ext cx="576000" cy="577800"/>
            <a:chOff x="1744560" y="2293920"/>
            <a:chExt cx="576000" cy="577800"/>
          </a:xfrm>
        </p:grpSpPr>
        <p:sp>
          <p:nvSpPr>
            <p:cNvPr id="110" name="AutoShape 26"/>
            <p:cNvSpPr/>
            <p:nvPr/>
          </p:nvSpPr>
          <p:spPr>
            <a:xfrm>
              <a:off x="1747800" y="2295360"/>
              <a:ext cx="571320" cy="576360"/>
            </a:xfrm>
            <a:custGeom>
              <a:avLst/>
              <a:gdLst>
                <a:gd name="textAreaLeft" fmla="*/ 23760 w 571320"/>
                <a:gd name="textAreaRight" fmla="*/ 547560 w 5713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90">
                  <a:moveTo>
                    <a:pt x="3072" y="0"/>
                  </a:moveTo>
                  <a:arcTo wR="3072" hR="3072" stAng="16200000" swAng="-5400000"/>
                  <a:lnTo>
                    <a:pt x="0" y="18718"/>
                  </a:lnTo>
                  <a:arcTo wR="3072" hR="3072" stAng="10800000" swAng="-5400000"/>
                  <a:lnTo>
                    <a:pt x="18528" y="21790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1" name="Group 27"/>
            <p:cNvGrpSpPr/>
            <p:nvPr/>
          </p:nvGrpSpPr>
          <p:grpSpPr>
            <a:xfrm>
              <a:off x="1747800" y="2293920"/>
              <a:ext cx="569880" cy="577800"/>
              <a:chOff x="1747800" y="2293920"/>
              <a:chExt cx="569880" cy="577800"/>
            </a:xfrm>
          </p:grpSpPr>
          <p:sp>
            <p:nvSpPr>
              <p:cNvPr id="112" name="Oval 28"/>
              <p:cNvSpPr/>
              <p:nvPr/>
            </p:nvSpPr>
            <p:spPr>
              <a:xfrm>
                <a:off x="1747800" y="2293920"/>
                <a:ext cx="56988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Oval 29"/>
              <p:cNvSpPr/>
              <p:nvPr/>
            </p:nvSpPr>
            <p:spPr>
              <a:xfrm>
                <a:off x="1756080" y="2294640"/>
                <a:ext cx="55548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4" name="Oval 30"/>
            <p:cNvSpPr/>
            <p:nvPr/>
          </p:nvSpPr>
          <p:spPr>
            <a:xfrm flipH="1">
              <a:off x="1793520" y="2346120"/>
              <a:ext cx="479520" cy="463680"/>
            </a:xfrm>
            <a:prstGeom prst="ellips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Oval 31"/>
            <p:cNvSpPr/>
            <p:nvPr/>
          </p:nvSpPr>
          <p:spPr>
            <a:xfrm flipH="1">
              <a:off x="1838160" y="235908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fcf2cd"/>
                </a:gs>
                <a:gs pos="100000">
                  <a:srgbClr val="f2bc04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AutoShape 32"/>
            <p:cNvSpPr/>
            <p:nvPr/>
          </p:nvSpPr>
          <p:spPr>
            <a:xfrm>
              <a:off x="1744560" y="2295360"/>
              <a:ext cx="57600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7" name="Group 33"/>
          <p:cNvGrpSpPr/>
          <p:nvPr/>
        </p:nvGrpSpPr>
        <p:grpSpPr>
          <a:xfrm>
            <a:off x="1744560" y="3303720"/>
            <a:ext cx="576000" cy="577800"/>
            <a:chOff x="1744560" y="3303720"/>
            <a:chExt cx="576000" cy="577800"/>
          </a:xfrm>
        </p:grpSpPr>
        <p:sp>
          <p:nvSpPr>
            <p:cNvPr id="118" name="AutoShape 34"/>
            <p:cNvSpPr/>
            <p:nvPr/>
          </p:nvSpPr>
          <p:spPr>
            <a:xfrm>
              <a:off x="1746000" y="3303720"/>
              <a:ext cx="573120" cy="57600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000"/>
                <a:gd name="textAreaBottom" fmla="*/ 552240 h 576000"/>
              </a:gdLst>
              <a:ahLst/>
              <a:rect l="textAreaLeft" t="textAreaTop" r="textAreaRight" b="textAreaBottom"/>
              <a:pathLst>
                <a:path w="21600" h="21708">
                  <a:moveTo>
                    <a:pt x="3072" y="0"/>
                  </a:moveTo>
                  <a:arcTo wR="3072" hR="3072" stAng="16200000" swAng="-5400000"/>
                  <a:lnTo>
                    <a:pt x="0" y="18636"/>
                  </a:lnTo>
                  <a:arcTo wR="3072" hR="3072" stAng="10800000" swAng="-5400000"/>
                  <a:lnTo>
                    <a:pt x="18528" y="21708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9" name="Group 35"/>
            <p:cNvGrpSpPr/>
            <p:nvPr/>
          </p:nvGrpSpPr>
          <p:grpSpPr>
            <a:xfrm>
              <a:off x="1744560" y="3303720"/>
              <a:ext cx="573120" cy="577800"/>
              <a:chOff x="1744560" y="3303720"/>
              <a:chExt cx="573120" cy="57780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1744560" y="3303720"/>
                <a:ext cx="57312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1" name="Oval 37"/>
              <p:cNvSpPr/>
              <p:nvPr/>
            </p:nvSpPr>
            <p:spPr>
              <a:xfrm>
                <a:off x="1752840" y="3304440"/>
                <a:ext cx="55872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2" name="Oval 38"/>
            <p:cNvSpPr/>
            <p:nvPr/>
          </p:nvSpPr>
          <p:spPr>
            <a:xfrm flipH="1">
              <a:off x="1790640" y="3355920"/>
              <a:ext cx="480960" cy="464760"/>
            </a:xfrm>
            <a:prstGeom prst="ellips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Oval 39"/>
            <p:cNvSpPr/>
            <p:nvPr/>
          </p:nvSpPr>
          <p:spPr>
            <a:xfrm flipH="1">
              <a:off x="1834200" y="3368520"/>
              <a:ext cx="390600" cy="303120"/>
            </a:xfrm>
            <a:prstGeom prst="ellipse">
              <a:avLst/>
            </a:prstGeom>
            <a:gradFill rotWithShape="0">
              <a:gsLst>
                <a:gs pos="0">
                  <a:srgbClr val="ffaaaa"/>
                </a:gs>
                <a:gs pos="100000">
                  <a:srgbClr val="fe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AutoShape 40"/>
            <p:cNvSpPr/>
            <p:nvPr/>
          </p:nvSpPr>
          <p:spPr>
            <a:xfrm>
              <a:off x="1744560" y="3303720"/>
              <a:ext cx="57600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" name="Group 41"/>
          <p:cNvGrpSpPr/>
          <p:nvPr/>
        </p:nvGrpSpPr>
        <p:grpSpPr>
          <a:xfrm>
            <a:off x="1744560" y="4238640"/>
            <a:ext cx="576000" cy="577800"/>
            <a:chOff x="1744560" y="4238640"/>
            <a:chExt cx="576000" cy="577800"/>
          </a:xfrm>
        </p:grpSpPr>
        <p:sp>
          <p:nvSpPr>
            <p:cNvPr id="126" name="AutoShape 42"/>
            <p:cNvSpPr/>
            <p:nvPr/>
          </p:nvSpPr>
          <p:spPr>
            <a:xfrm>
              <a:off x="1746000" y="424008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7" name="Group 43"/>
            <p:cNvGrpSpPr/>
            <p:nvPr/>
          </p:nvGrpSpPr>
          <p:grpSpPr>
            <a:xfrm>
              <a:off x="1744560" y="4238640"/>
              <a:ext cx="571320" cy="577800"/>
              <a:chOff x="1744560" y="4238640"/>
              <a:chExt cx="571320" cy="577800"/>
            </a:xfrm>
          </p:grpSpPr>
          <p:grpSp>
            <p:nvGrpSpPr>
              <p:cNvPr id="128" name="Group 44"/>
              <p:cNvGrpSpPr/>
              <p:nvPr/>
            </p:nvGrpSpPr>
            <p:grpSpPr>
              <a:xfrm>
                <a:off x="1744560" y="4238640"/>
                <a:ext cx="571320" cy="577800"/>
                <a:chOff x="1744560" y="4238640"/>
                <a:chExt cx="571320" cy="577800"/>
              </a:xfrm>
            </p:grpSpPr>
            <p:sp>
              <p:nvSpPr>
                <p:cNvPr id="129" name="Oval 45"/>
                <p:cNvSpPr/>
                <p:nvPr/>
              </p:nvSpPr>
              <p:spPr>
                <a:xfrm>
                  <a:off x="1744560" y="4238640"/>
                  <a:ext cx="571320" cy="5778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30" name="Oval 46"/>
                <p:cNvSpPr/>
                <p:nvPr/>
              </p:nvSpPr>
              <p:spPr>
                <a:xfrm>
                  <a:off x="1752840" y="4239360"/>
                  <a:ext cx="556920" cy="56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Oval 47"/>
              <p:cNvSpPr/>
              <p:nvPr/>
            </p:nvSpPr>
            <p:spPr>
              <a:xfrm flipH="1">
                <a:off x="1790280" y="4291560"/>
                <a:ext cx="480240" cy="462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32" name="Oval 48"/>
            <p:cNvSpPr/>
            <p:nvPr/>
          </p:nvSpPr>
          <p:spPr>
            <a:xfrm flipH="1">
              <a:off x="1834920" y="430524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AutoShape 49"/>
            <p:cNvSpPr/>
            <p:nvPr/>
          </p:nvSpPr>
          <p:spPr>
            <a:xfrm>
              <a:off x="1744560" y="4240080"/>
              <a:ext cx="57600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4" name="Group 50"/>
          <p:cNvGrpSpPr/>
          <p:nvPr/>
        </p:nvGrpSpPr>
        <p:grpSpPr>
          <a:xfrm>
            <a:off x="2182680" y="5068800"/>
            <a:ext cx="5280120" cy="463320"/>
            <a:chOff x="2182680" y="5068800"/>
            <a:chExt cx="5280120" cy="463320"/>
          </a:xfrm>
        </p:grpSpPr>
        <p:sp>
          <p:nvSpPr>
            <p:cNvPr id="135" name="AutoShape 51"/>
            <p:cNvSpPr/>
            <p:nvPr/>
          </p:nvSpPr>
          <p:spPr>
            <a:xfrm>
              <a:off x="2421000" y="5127480"/>
              <a:ext cx="5041800" cy="36504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AutoShape 52"/>
            <p:cNvSpPr/>
            <p:nvPr/>
          </p:nvSpPr>
          <p:spPr>
            <a:xfrm>
              <a:off x="2182680" y="506880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7" name="AutoShape 53"/>
          <p:cNvSpPr/>
          <p:nvPr/>
        </p:nvSpPr>
        <p:spPr>
          <a:xfrm>
            <a:off x="2700360" y="5084640"/>
            <a:ext cx="3095640" cy="466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ment outside the Temp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8" name="Group 54"/>
          <p:cNvGrpSpPr/>
          <p:nvPr/>
        </p:nvGrpSpPr>
        <p:grpSpPr>
          <a:xfrm>
            <a:off x="1692360" y="5013360"/>
            <a:ext cx="576000" cy="577800"/>
            <a:chOff x="1692360" y="5013360"/>
            <a:chExt cx="576000" cy="577800"/>
          </a:xfrm>
        </p:grpSpPr>
        <p:sp>
          <p:nvSpPr>
            <p:cNvPr id="139" name="AutoShape 55"/>
            <p:cNvSpPr/>
            <p:nvPr/>
          </p:nvSpPr>
          <p:spPr>
            <a:xfrm>
              <a:off x="1693800" y="5013360"/>
              <a:ext cx="573120" cy="57600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000"/>
                <a:gd name="textAreaBottom" fmla="*/ 552240 h 576000"/>
              </a:gdLst>
              <a:ahLst/>
              <a:rect l="textAreaLeft" t="textAreaTop" r="textAreaRight" b="textAreaBottom"/>
              <a:pathLst>
                <a:path w="21600" h="21708">
                  <a:moveTo>
                    <a:pt x="3072" y="0"/>
                  </a:moveTo>
                  <a:arcTo wR="3072" hR="3072" stAng="16200000" swAng="-5400000"/>
                  <a:lnTo>
                    <a:pt x="0" y="18636"/>
                  </a:lnTo>
                  <a:arcTo wR="3072" hR="3072" stAng="10800000" swAng="-5400000"/>
                  <a:lnTo>
                    <a:pt x="18528" y="21708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40" name="Group 56"/>
            <p:cNvGrpSpPr/>
            <p:nvPr/>
          </p:nvGrpSpPr>
          <p:grpSpPr>
            <a:xfrm>
              <a:off x="1692360" y="5013360"/>
              <a:ext cx="573120" cy="577800"/>
              <a:chOff x="1692360" y="5013360"/>
              <a:chExt cx="573120" cy="577800"/>
            </a:xfrm>
          </p:grpSpPr>
          <p:sp>
            <p:nvSpPr>
              <p:cNvPr id="141" name="Oval 57"/>
              <p:cNvSpPr/>
              <p:nvPr/>
            </p:nvSpPr>
            <p:spPr>
              <a:xfrm>
                <a:off x="1692360" y="5013360"/>
                <a:ext cx="573120" cy="5778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2" name="Oval 58"/>
              <p:cNvSpPr/>
              <p:nvPr/>
            </p:nvSpPr>
            <p:spPr>
              <a:xfrm>
                <a:off x="1700640" y="5014080"/>
                <a:ext cx="558720" cy="5626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3" name="Oval 59"/>
            <p:cNvSpPr/>
            <p:nvPr/>
          </p:nvSpPr>
          <p:spPr>
            <a:xfrm flipH="1">
              <a:off x="1738440" y="5065560"/>
              <a:ext cx="480960" cy="464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Oval 60"/>
            <p:cNvSpPr/>
            <p:nvPr/>
          </p:nvSpPr>
          <p:spPr>
            <a:xfrm flipH="1">
              <a:off x="1782000" y="5078160"/>
              <a:ext cx="390600" cy="303120"/>
            </a:xfrm>
            <a:prstGeom prst="ellipse">
              <a:avLst/>
            </a:prstGeom>
            <a:solidFill>
              <a:srgbClr val="00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AutoShape 61"/>
            <p:cNvSpPr/>
            <p:nvPr/>
          </p:nvSpPr>
          <p:spPr>
            <a:xfrm>
              <a:off x="1692360" y="5013360"/>
              <a:ext cx="576000" cy="539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  <a:ea typeface="宋体"/>
              </a:rPr>
              <a:t>Moment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3"/>
          <p:cNvSpPr txBox="1"/>
          <p:nvPr/>
        </p:nvSpPr>
        <p:spPr>
          <a:xfrm>
            <a:off x="304920" y="4578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777777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1:20Z</dcterms:created>
  <dc:creator>Matthew Blewett</dc:creator>
  <dc:description/>
  <dc:language>en-US</dc:language>
  <cp:lastModifiedBy>a</cp:lastModifiedBy>
  <dcterms:modified xsi:type="dcterms:W3CDTF">2015-07-25T08:55:44Z</dcterms:modified>
  <cp:revision>15</cp:revision>
  <dc:subject/>
  <dc:title>Moments of Truth with Jesus</dc:title>
</cp:coreProperties>
</file>