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E040-D3D8-46D5-8133-823FE4ACA858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258C-9279-4D97-ACB0-8F6198E8E3A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34EF3FE-2CCC-4313-A0AC-19148E29D12D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CD30-4FAB-430A-9F0D-4E23DB0C6C6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31320"/>
            <a:ext cx="85201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31320"/>
            <a:ext cx="85201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38B3E4A4-3A98-4799-AC90-58006955DCEE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1200" y="4547880"/>
            <a:ext cx="8542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Arial"/>
              </a:rPr>
              <a:t>弧形创意绿色通用</a:t>
            </a:r>
            <a:r>
              <a:rPr b="1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1200" y="5702400"/>
            <a:ext cx="79678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er your subtitle or main author‘s n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Logo_ptl_für schwarz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6648480" y="316080"/>
            <a:ext cx="2224080" cy="392040"/>
          </a:xfrm>
          <a:prstGeom prst="rect">
            <a:avLst/>
          </a:prstGeom>
          <a:ln w="0">
            <a:noFill/>
          </a:ln>
        </p:spPr>
      </p:pic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Sample Slide </a:t>
            </a:r>
            <a:r>
              <a:rPr b="1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sz="2200" spc="-1" strike="noStrike">
                <a:solidFill>
                  <a:srgbClr val="ffffff"/>
                </a:solidFill>
                <a:latin typeface="Arial"/>
              </a:rPr>
              <a:t> Bullet Poin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6647040" y="6181560"/>
            <a:ext cx="2225520" cy="392400"/>
            <a:chOff x="6647040" y="6181560"/>
            <a:chExt cx="2225520" cy="392400"/>
          </a:xfrm>
        </p:grpSpPr>
        <p:pic>
          <p:nvPicPr>
            <p:cNvPr id="93" name="Picture 12" descr="Logo_ptl_für schwarz"/>
            <p:cNvPicPr/>
            <p:nvPr/>
          </p:nvPicPr>
          <p:blipFill>
            <a:blip r:embed="rId1"/>
            <a:stretch/>
          </p:blipFill>
          <p:spPr>
            <a:xfrm>
              <a:off x="6647040" y="6181560"/>
              <a:ext cx="2225520" cy="3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2" descr="Logo_ptl_für schwarz"/>
            <p:cNvPicPr/>
            <p:nvPr/>
          </p:nvPicPr>
          <p:blipFill>
            <a:blip r:embed="rId2"/>
            <a:srcRect l="0" t="0" r="30532" b="0"/>
            <a:stretch/>
          </p:blipFill>
          <p:spPr>
            <a:xfrm>
              <a:off x="6647040" y="6181560"/>
              <a:ext cx="1546200" cy="392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73160" y="64612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40505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王玉清</cp:lastModifiedBy>
  <dcterms:modified xsi:type="dcterms:W3CDTF">2016-03-01T07:30:51Z</dcterms:modified>
  <cp:revision>68</cp:revision>
  <dc:subject/>
  <dc:title>PowerPoint Template</dc:title>
</cp:coreProperties>
</file>