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07A-AB1F-467B-8AFA-D75BFE60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36C-5D83-456E-9084-1F3D9C10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5BE-C80A-4D17-AE57-B0DD7873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8CD-2612-4656-B978-354C2E6B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685-2EC1-4D5C-A48C-34281E5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141-0B88-4656-91D7-78BEC129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D4A-49F4-4293-A3FE-26B8C0DD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640-E844-4EE9-A26A-1CA233C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447-3EB0-41E0-8012-3158D22A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413-F140-4E52-B4A9-512F0ED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225-FE45-492C-A61E-3B28FBD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DE0-21EC-4668-9383-9DD3B04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96B0-1790-4B5A-90AD-16D316736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71360" y="9097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谐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图片1"/>
          <p:cNvPicPr/>
          <p:nvPr/>
        </p:nvPicPr>
        <p:blipFill>
          <a:blip r:embed="rId2"/>
          <a:stretch/>
        </p:blipFill>
        <p:spPr>
          <a:xfrm>
            <a:off x="1835280" y="4680000"/>
            <a:ext cx="5400720" cy="127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10440"/>
            <a:ext cx="80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C58-AAF9-48CE-A540-4832ABFF1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55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3:4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